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1ADD4-AFBA-4A3C-8836-42170F45F8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60B54-8B3C-402C-8847-445013875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33A7D-ED9C-46E3-82D5-CBE5F4E26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9C526-3B20-44CC-B32F-96E839624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er job openings plus highly qualified applicants begging for jobs. Plus, in many cases, they have current employees who are afraid of losing their jobs pick up the sl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018C2-268D-4710-AFC7-085315628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y do advertise for jobs, ost employers are buried in resumes and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entry-level the job, the people who ap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companies have HR managers to manage this ei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30137-99DA-474C-A59F-42BA3063A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CCD11-1553-4A1C-AA12-0E9BA0C9E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DDFC8-F256-4058-8B60-300A3B293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807D-F35D-4B29-8B41-5B4B5EB8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93E-B4BF-4B23-8F8F-71CD6B18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C79B87-3EF3-4D3A-8231-1255C1E6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32B24-B71F-46D4-85F0-4F01B168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00724-7D3E-42D1-B718-CC9EAA12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00360D-D886-44F8-913F-5449F548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C3568-C1F4-4009-9789-E5845FB2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CA170-FB44-49FD-A993-B1A14484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AAA54-364C-4638-959D-85B7D1A7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D419F3-896A-42EF-974E-82B4E2C3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D9A70-EE2C-4F83-954D-6E923308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9514C-0C7D-4AF5-8526-FEC7A280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B5B9-737E-4439-84B1-4FFBAE19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5A4BBD-6192-4131-A9E8-52AF9D14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1CC26-AC54-4B4B-A287-DC338976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49C36-976E-4310-A258-AC249DF2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3C71C-6416-4781-993D-E0DA967D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3F5C40-5DE3-4342-886D-5C70B5E5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0400BA-0642-41BD-ACAB-807715A4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D180C3-12AF-4E41-95CA-8DA6FF37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23E32B-52E7-4476-B21C-E53B0880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90259F-C40F-4488-9225-441D40C9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8E434-53DF-4CEB-BB5B-F52A4B36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EAE5-04C1-43D8-B0CC-BA6D85C6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1FB17-8020-49BB-829E-F1F11CA1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F368D4-93C6-4302-AD4D-A219DB47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2A3534-5217-4EB6-AB8B-22750B25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048255-8F49-43CF-BC01-573128C7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DA82EC-99F4-4AA8-9B13-3141A3E3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A1D7C0-A4AC-46CE-95BA-252381A7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A63824-BE02-4C4C-B881-4015916E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DD95B9-78F2-428B-AE46-71AE6E83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C60EFF-D4D7-4DF9-B606-445A78A3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671202-3842-4F6A-925E-BCEB9555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3FB5-C9E7-47A4-A98C-5925C950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E7032C-B122-4331-A4C7-17E22DAD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725A25-8257-468C-8F38-2D834416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3D359C-4A13-4E35-BACE-FDB40847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541177-B1DA-4A8F-AED9-95018342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892B1-EC78-42B3-B8A7-87DB76F7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14B82-77B4-45DE-A1C9-A83CBBAD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EAA78D-8C2F-40C6-924B-0F30930F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8B7ACC-5827-4F15-B6CD-6A6845A7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6D382C-EB2D-4A30-B86E-BCBC327E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34669B-3E38-4B74-8DFA-3B1FA84D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E1B3-121E-44DB-8C1C-6E40998F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5EDB29-DA52-4573-B37A-9A083C99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3B1C2-0FAC-4351-B164-0735F701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807D05-BF89-4BAC-BF82-6CA8C05D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9C9DF7-FBBA-40AB-8E9E-4A1F3054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988086-62D4-4EC9-B7ED-0E70ECF9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4FE78F-CD78-4279-854B-9FB52DA2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383073-183B-41CC-B415-F29A4805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0C2D36-011B-4600-9780-2A168AB3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81FD92-40D0-482B-891D-49B0A06C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63E9395-CEA4-4991-9879-1BAA949E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A32B-5476-42DA-851F-EF045D96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FD2DC2F-8484-4F79-8AC3-53815B89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9D3A1E-3182-4F24-9AC9-AA35955D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FB7B73-5202-4D1A-8542-4882CF47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D7B3D9-23B6-4265-8EE4-E83B6ECD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13EDAB-6A88-40F0-A741-4395D134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451CC1-95E8-41CE-B2E9-A49E896D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FA8A56-E65A-4EE1-8574-F32DDAF5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1715380-029D-4037-8A1B-F280800C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139ED22-CA9D-4347-BB13-96FC42AA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ED23684-A0AF-4590-9CEC-A7567030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559D-6E49-4C42-B350-A8C0117C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597E329-6C22-46AD-832C-4527FA57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F12EFEA-F815-4F6F-8F20-301378A1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9DADAE-604A-4D94-BFB1-B42B3451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C7CCACD-38DF-4EEB-80D1-EDE3A277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72B60F9-80CE-4FC0-A8BB-6863D004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83CAA9B-733C-4BEB-A9F5-A3BE567F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BB3AD8-E065-47E6-B893-51258019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8EEC76D-506E-49BD-B039-494B9493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D1320F5-F207-4FB9-87A9-C9248D7F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0F029FA-8842-4247-9CEF-DB3F922F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6F03-516F-4797-91F1-A1EDD991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D07720A-AB10-4EC1-B8EB-BD4C5BA7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74D095F-25E0-4CDF-8306-03E86A5F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90FC8BB-8AE6-41A3-B24F-CB2A42ED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860DBBA-F33D-4828-B149-52B4639B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059D309-30E5-48A5-BA40-C6A35273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241ECA3-70EF-4732-9159-27A389C9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17FD652-187D-4104-8DAB-43038015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7B04B3B-972B-4F97-BE5E-C56FE93E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369CCCF-41D9-4E69-A2D1-00EC2DBA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B99AC16-20D0-4482-86B9-C3F5C4DF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251C-0C2C-46B2-BD4E-066B5C1A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E15A5A0-3C08-45E8-A2D5-D69E60DF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5E9CC97-9D92-44E1-B186-134EBA42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9CAEC87-DA0F-4403-9C60-2E10B9C1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21AA0B7-EC12-4A7F-ABCC-E0EFEB96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AA1FAFC-F336-47F5-8906-FCDA9291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A5A5806-0FAB-473B-AE48-9BBF8F16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BE947B0-415C-4503-A8B6-AFE3B673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653DD09-DCA8-41C3-BEEC-ADE8905F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EA80617-8D75-46DC-B81C-23290698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99DA024-AB76-4D37-8375-3186B2A7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FFEA-2FC6-4563-913C-C41B2379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06C1C4C-0114-4C18-AC55-55BF9A84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B803B24-C11D-4F6D-9BC8-C8293165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81FE01C-3CA8-4A90-B13A-258B6C45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972038D-5CBA-4761-A2DD-CE53CCC4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0708DDC-4B29-4F0E-9CC3-C7AB2D82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F7CB48B-FCC1-4B6F-BC44-52F4C0E8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7F3C85E-7F08-4A36-A303-3651BB14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CC33D52-1B1C-4658-9A70-BF840C9D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7AA96E9-8DC8-4659-9B53-1F03E093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853EB6F-C6C9-4643-9AB5-E8830F25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347-A947-4CD6-A044-4CBE8426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7DC8-7641-4AC7-9C0B-E33E78CF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748CF2D-FE4D-43CF-85C8-F3B280E8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9CBF663-DAC5-4996-8410-2CF5D7DF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5B7E928-5204-406B-A555-BE1F2151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1B6BB6C-CF51-41B7-8C13-865EEBBB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61E7C95-6498-490E-833C-505E3037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6B310C6-3E97-4ADB-BA33-944128C7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0B1AA08-8FFA-4884-8502-A3D9BBA9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D65CA16-F457-4DAB-96C7-D5C2B418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E8ECC28-9951-4E7A-96DD-F1FBB9A0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DA554A7-7283-463C-A8EA-A8C5A2AB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C682-55B1-4B62-B303-057E363B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D4E139B-CC44-4FAB-B83E-5CCC8B39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FDE997D-B5AE-4288-9E1C-5F289D6C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4E05823-01DE-4D3B-A208-32E21EEF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CE8A55F-9419-4AA7-AB44-F646393B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C32ED79-D1BE-4FCC-AE4D-0BDE44CC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8C4051B-FFF7-429A-87C0-52323643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5044C3B-F839-4030-AF06-6C849EBC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B2D8284-2EF9-4B3A-BF2B-DD209D5E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979070F-A342-4275-B59B-0A712939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D8D0D70-EE81-45F8-A8FC-D67E5DF3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4B85-129D-4480-A377-9B7EE435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FC98086-EFC6-49BF-96BA-1BE31440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AB9A1A2-3965-4919-804F-AB74FE2C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5353358-0930-4689-97E2-BB810EAA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4B35E46-65DF-4BC9-A7E0-75EC56AF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3C07C5F-BCA8-4B02-9BDF-8FD06A45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D4453A4-0BB7-4182-9456-365C016C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7324EAA-B6E5-4789-A460-18AFACBA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7ADFA46-2408-4A1F-A477-06426A27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96D1FF5-0944-4F73-B872-4B5BDD35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0542453-ADCB-407E-B0A7-EE11A0AD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AD64-E184-45F8-8D65-05591BAC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43C1389-10AE-48E6-86E7-06374BF1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863D17D-503D-41B3-94C7-B2000DEB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5D608DB-A9BA-4900-8270-696ABC7A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47910FA-F82D-4F48-AA1C-DAE35F5A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1109E60-1BAF-4390-AD6D-E6ED4EE0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C38631F-66F0-48A3-97FC-52504B88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6B7A632-5897-4427-8527-67F76A0A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D96A204-D1EF-4DFA-A6FF-679CA551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EF4ACA5-EEA3-4F0C-A599-ADC2D459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23767C3-4F5F-4C65-8447-39FA47A0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0940-CBAF-432E-84EA-30B7FDD3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C7C192E-DBB7-45AE-95A8-F24AF9C5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9C97E-C18E-400C-90F7-56E2F74C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E534F-DACC-475D-9368-EE374005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9D2ED-B71B-46A2-BD51-B4DCCD70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94F32-28A3-4F40-9DAC-A2D64080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34AF6-BEAF-4CCA-B5BC-7E70CD8B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A52-D547-4738-8586-02514E15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0F6DB-3C70-4FDC-ACFC-FB4BA15E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BF69E-0F8D-4832-A50B-15AD3173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0B0D8-C290-4576-B59B-08392BE1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1261E-A37F-4B8F-AA51-62630C5A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F4200-4107-419E-BB88-C2130C7C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EB25A-DABE-4A26-AE9E-ED139CBF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129C0-B890-47E4-8F63-CE662861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F999B-32F7-4E62-8B37-73E136D6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2445C-4E2C-441A-A16A-7776C754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D6CB6-477F-4AEB-BD39-ABEE4117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C65-D011-44E1-A0A0-252858BD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EA26C-95E2-4023-BC65-0751CE84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31A2D-8FB2-450C-B048-6A5B19EA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ACD85-ABF9-44FC-8554-22F534E5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D9957-1FD8-4A17-9742-96D3DCBE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5E408-896F-4151-A819-3082E91F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B2060-8832-4E22-AA2E-BF07B7D3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5F2EB-EBD3-4B39-9C0B-5AB97198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005F3-34D6-47BF-B043-6B7F0788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27F46-5C0F-4FC8-9351-0544C6AE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ACE14-A5C8-4A5C-9147-5D3376DC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642-99D0-416D-9905-85ABCF55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5DAD0-9D8A-4483-8053-2A520C8B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09BBE-37FC-4E1B-9E26-818EE871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569CE-E629-4918-BFD7-6E0206AE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B6027-E1A7-47B6-9CC6-B27DA670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AB7D6-1B96-4A51-981E-181357CC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E72A7-A1CD-4A9D-A3DD-323CD740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B7D86-98B6-458C-A52E-B73D9C32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6BE54-E369-4233-9B3C-1727A39C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3CDAF-85CC-4A8E-A71E-4DBBA725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4CFD0-03A0-4F27-937E-ABE3A9A7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23C-8444-4321-ABD2-D35E5F57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F7715-9605-466A-BDC7-D219A2C0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42F04-58F6-4423-B533-76445098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B033B-F6A2-4168-A2C8-D4B86F11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796EE-AD77-4CAD-878B-D5082BC7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18D88-0555-4EF3-84C8-B81057CE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10680-148C-41A3-80A1-2D59663D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86296-101B-4079-8C7D-08BEF468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BAAFD-A074-4D2D-B65C-3A3EC7FB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B8FFB-BA73-4ABA-8D53-CA47A6A3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2B707-0C4C-49DA-AC45-5E1A9FF7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D75-6266-4D28-A550-AE3BB9A5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7A782-E31A-44EE-A6F4-974DC268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667A7-74A8-4E22-84FE-D9361CDF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4A4D5-DA42-456C-BF1D-8D5A9C39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F4B856-A469-4670-88A6-4C69E60F66B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8582D5-59E5-4747-9F4E-FEEB56415CA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BE7AD9-E7DF-446D-BF1D-34D7518D3F7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18E78E-8AE8-4869-8C38-F47BC393E21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BF9261-F5EE-4CBC-95CB-CCE8A3A3D10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A8FDCB-F981-4E08-9F0F-5B72EC0A2CF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AB15D6-2D8C-4280-9D8F-676B3FF4C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D5D7-583A-4279-AFD9-665D16AB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B865D4-FEC6-4B81-93A1-7AA2F085D83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B627F9-2D62-41E6-9DDD-92B8F7E630B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6EC7A6-826D-450B-82B0-E244AFA9068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4789C9-2A2A-4B1C-ACC9-6E43630C943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D3A54D-DA39-421A-87B7-0EE3487978F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A67C34-6914-4B43-BDD8-F2E709D1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76CAA1-CD60-4E57-9EDB-5A823F11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C41CCC-12C6-4524-AEDA-EB35D9C5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679408-4A68-40D1-B0A6-FB4499D5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7E8DC6-0161-4603-A77B-9DD33432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4C6-FAB0-4D23-9763-E74B3602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B28C92-ED8E-4D9D-A9D2-07739DBC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2F8888-178F-4273-BBE8-38670CAE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4E7705-7D2E-4839-9014-2D6D9C50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F5D61A-EEE2-4502-BC49-F9DBD75E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EA65A6-1231-4273-A16F-ECAF25FB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9DEC09-B178-4D65-B3BB-FC6515F2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695B7B-20A6-4AB1-B6BE-8AB3A2A8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CB141-CA1A-40D1-863B-2F724AFA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16D1CD-649A-42E1-92A0-85E6FB7F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A69E6-911A-4159-9D1A-59454678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157E3-BBBC-4475-BA42-13C73BBCFF3D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AB07B-3A18-4D58-84E8-EDE34FD6D739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A9D88-C5AC-4B7B-B0F1-05D115C89794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53FB0-7352-4AEB-9684-9F0D8A05B9E9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9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F984F-DF6E-4E01-8B80-5063D6579AEE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0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1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F40AE-D9EE-41E5-A100-FD639B130E49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2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57D8F-2922-4882-AFE1-2D361249618C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3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4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DF560-E8F3-4657-BA2C-603A7202DB7C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5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33192-C586-441E-BDA2-6208B49F8141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6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7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2ABC6-D110-43E6-862D-AF1638FC57E1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8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BFA82-37F0-4720-9A90-B3C08B8BB7CE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9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0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7F33C7-469E-4550-ADF6-438B8DB82808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24DDD-C317-4829-962A-F5EBBAFF4A90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58A27-EB48-4026-9C7C-C844CBB79A77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4746600" y="268200"/>
            <a:ext cx="411480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4"/>
          </p:nvPr>
        </p:nvSpPr>
        <p:spPr>
          <a:xfrm>
            <a:off x="162000" y="612468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79FCF-F9F7-420C-941D-CC4D5883B6DA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5"/>
          </p:nvPr>
        </p:nvSpPr>
        <p:spPr>
          <a:xfrm>
            <a:off x="174240" y="6356520"/>
            <a:ext cx="386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6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88ACC-9AD2-4F4C-8171-54834EDE85B3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6"/>
          <p:cNvSpPr/>
          <p:nvPr/>
        </p:nvSpPr>
        <p:spPr>
          <a:xfrm>
            <a:off x="7216920" y="268200"/>
            <a:ext cx="1639800" cy="3638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7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2021F-805C-42B7-91BA-AE5996467DFE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3CF30E-B426-44DD-9E6C-A33A42AD6DB4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6"/>
          <p:cNvSpPr/>
          <p:nvPr/>
        </p:nvSpPr>
        <p:spPr>
          <a:xfrm>
            <a:off x="8136000" y="268200"/>
            <a:ext cx="720720" cy="3638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5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E3F84-5FCB-4B68-91B3-343A107FE93B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5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5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073A63-4670-42AA-944A-39DE06FB8D48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5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1C5DE-0BA5-4EA3-9C50-771233045DAE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5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5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AEC9F-BF78-486B-8426-E205DDD9EAF7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187800" y="268200"/>
            <a:ext cx="5668920" cy="3900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276360" y="390600"/>
            <a:ext cx="550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F58BF-FE44-45EF-ADED-3C7A0F93BD29}" type="datetime"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1948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5624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156A0-F88B-467D-80F6-23B5B46F4296}" type="slidenum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2C213-337D-4090-BF81-7C57FDB5B34C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3566C-F0DA-4972-BA6A-223DC61B637E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D64BA-68EF-4774-AC8D-D8CC89AADB7D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F2401-220F-4A35-A9AF-078E8D347E35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3187800" y="268200"/>
            <a:ext cx="5668920" cy="25606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276360" y="390600"/>
            <a:ext cx="549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77D9B-6200-4130-A766-F4332FC1312C}" type="datetime"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21300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26560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B4081-7025-433F-9196-50AE30A5DE7B}" type="slidenum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27000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26D81-BC1C-4683-A066-A3FD2803C67D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78000" y="6356520"/>
            <a:ext cx="4927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331920" y="36036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7337AA-5220-4A19-A4EE-49CA4C14563D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7759800" y="268200"/>
            <a:ext cx="1098360" cy="6350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5562720" y="6356520"/>
            <a:ext cx="162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9FBF9-57EB-4974-84B1-3D42133F0EF3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174240" y="635652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50D37-3564-4939-B187-6CABF929365B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270000" y="4773600"/>
            <a:ext cx="2971800" cy="1844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9"/>
          </p:nvPr>
        </p:nvSpPr>
        <p:spPr>
          <a:xfrm>
            <a:off x="351000" y="610560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57695-C357-4C46-A9E2-CB21838BC222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A2ACC-B35F-4F87-BA05-F17D5B79F404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581F0-DD76-4476-9E67-3CBE4B0F594E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11DB1-E1F6-4F07-8282-9F000EA9FDA8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47140-1964-4CFD-8B33-7C5C5D4AF0AE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200040" y="4172040"/>
            <a:ext cx="5457960" cy="108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990000"/>
                </a:solidFill>
                <a:latin typeface="Century Gothic"/>
              </a:rPr>
              <a:t>Connecting to Employers</a:t>
            </a:r>
            <a:endParaRPr b="0" lang="en-US" sz="41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3200040" y="5257800"/>
            <a:ext cx="545796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Understanding the Employer Customer and Creating and Implementing an Outreach Plan</a:t>
            </a:r>
            <a:endParaRPr b="0" lang="en-US" sz="16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rusted Source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eir network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Networks of good employe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rough their own websit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roven Recruit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tes and sources where they’ve found success befor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Quick Quality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With Minimal Hassl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sponse within 24 hou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pplicant has quality resume, is prepared for interview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sponsive to employer process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inimal paperwork, especially at the beginning of the proces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ngle point of contact from your agency/organiza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It’s About Relationships!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68" name="Picture 3" descr=""/>
          <p:cNvPicPr/>
          <p:nvPr/>
        </p:nvPicPr>
        <p:blipFill>
          <a:blip r:embed="rId1"/>
          <a:stretch/>
        </p:blipFill>
        <p:spPr>
          <a:xfrm>
            <a:off x="2235240" y="2320920"/>
            <a:ext cx="412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Relationships. . .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ased on </a:t>
            </a: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trus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Quality work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Understanding of employer need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onsistent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Making/keeping commitment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# 1 way to build trust is to fill jobs quickly and with minimal hassle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#2 way is to build relationships, not focus on transactions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Building a Relationship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arget the right employ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Know their industry, issues, needs and process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e strategic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cus on the relationship, not on the transac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ocument, document, document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209680" y="3428640"/>
            <a:ext cx="4965840" cy="13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entury Gothic"/>
              </a:rPr>
              <a:t>Developing an Outreach Plan</a:t>
            </a:r>
            <a:endParaRPr b="0" lang="en-US" sz="4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argeting Employer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mall vs. Large Employ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emand industries/occupa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Job seeker goal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Initial research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77940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Who are the employers in your area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o have you worked with before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Google Maps Search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Of these employers, </a:t>
            </a:r>
            <a:r>
              <a:rPr b="1" lang="en-US" sz="1800" spc="-1" strike="noStrike" u="sng">
                <a:solidFill>
                  <a:srgbClr val="333333"/>
                </a:solidFill>
                <a:uFillTx/>
                <a:latin typeface="Century Gothic"/>
              </a:rPr>
              <a:t>who is hiring</a:t>
            </a: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Job postings—in Jobs4Jersey, on their website, on other board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“</a:t>
            </a: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Follow the money”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Char char="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79736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What job openings do they have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Who are the key decision-makers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-Suite and Directo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Avoid HR if possibl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Remember many small companies don’t have HR.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Develop Target Lis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Identify Top 25-30 employers in your area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—most likely for you to get </a:t>
            </a:r>
            <a:r>
              <a:rPr b="1" lang="en-US" sz="2000" spc="-1" strike="noStrike" u="sng">
                <a:solidFill>
                  <a:srgbClr val="333333"/>
                </a:solidFill>
                <a:uFillTx/>
                <a:latin typeface="Century Gothic"/>
              </a:rPr>
              <a:t>placements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Analyze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do you already know about them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can you easily find out about them through more research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Do you have a relationship with them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is the nature/quality of that relationship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have you done for them in the past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Focus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your efforts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entury Gothic"/>
              </a:rPr>
              <a:t>Build Company Profiles</a:t>
            </a:r>
            <a:endParaRPr b="0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Company Basics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—location, # of employees, etc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Key Decision-Mak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Work Environment/Company Cultur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Key Employment Success Facto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Recruitment &amp; Hiring Practic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Referral Preferenc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Relationship history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“</a:t>
            </a: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Job Development” in the New Economy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Understanding employer needs/requiremen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Understanding the recruitment process from the employer perspectiv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uilding relationship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emonstrating valu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aching customers to sell their own valu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wo Relationship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77940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Existing Custome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is your current relationship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have you done for them in the past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has worked/hasn’t worked? 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How can you build the relationship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Build your network--“Who else should I be talking to?”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79736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New Custome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How can you use your network to get connected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How can you get a “face-to-face?”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ere can you immediately provide them with a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Century Gothic"/>
              </a:rPr>
              <a:t>quality </a:t>
            </a: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referral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other information/resources could you offer to begin building trust and goodwill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entury Gothic"/>
              </a:rPr>
              <a:t>Resources for Building Profiles</a:t>
            </a:r>
            <a:endParaRPr b="0" lang="en-US" sz="32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mpany websit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LinkedIn Company Profiles and Group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LinkedIn Connec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Google Searches/Aler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sking ques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nformational interviews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Find and Connect to Recruiters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&amp; Hiring Manager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2355480"/>
            <a:ext cx="40384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Events/Association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Society for Human Resource Managers (SHRM)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Industry/Occupational Association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hambers of Commerc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onference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648320" y="2355480"/>
            <a:ext cx="40384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LinkedIn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Twitter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ompany websites/blog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Email lists/newslette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Listen and Documen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llow/read what they pos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Join their groups to see what they’re discuss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gn up for their newslett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sk ques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robe for “pain” and problem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mment and R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rovide resources, information that solve problems and address their “pain” poin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nect them to people and resourc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nswer ques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Engag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Filling Existing Need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t up strategies for each company to be notified of job openings. (Company website, Google Alerts, etc.)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r each job opening, work with job seeker to “complete the T” (</a:t>
            </a:r>
            <a:r>
              <a:rPr b="0" i="1" lang="en-US" sz="2000" spc="-1" strike="noStrike">
                <a:solidFill>
                  <a:srgbClr val="333333"/>
                </a:solidFill>
                <a:latin typeface="Century Gothic"/>
              </a:rPr>
              <a:t>Refer to next slides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)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ake referra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ach customer to sell him/herself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llow-up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ompleting the “T”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view job posting and/or company info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dentify employer needs, relevant keyword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914400" indent="-5144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For job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914400" indent="-5144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For company/cultur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spcAft>
                <a:spcPts val="1199"/>
              </a:spcAft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ll in job seeker info to complete the T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spcAft>
                <a:spcPts val="1199"/>
              </a:spcAft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f you can’t complete The T—DON’T APPLY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spcAft>
                <a:spcPts val="1199"/>
              </a:spcAft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f you can, complete your resume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Picture 3" descr="Picture 9.png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3" descr="Picture 11.png"/>
          <p:cNvPicPr/>
          <p:nvPr/>
        </p:nvPicPr>
        <p:blipFill>
          <a:blip r:embed="rId1"/>
          <a:stretch/>
        </p:blipFill>
        <p:spPr>
          <a:xfrm>
            <a:off x="2195640" y="1036800"/>
            <a:ext cx="5043240" cy="5294160"/>
          </a:xfrm>
          <a:prstGeom prst="rect">
            <a:avLst/>
          </a:prstGeom>
          <a:ln w="0">
            <a:noFill/>
          </a:ln>
        </p:spPr>
      </p:pic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he “T”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Openings for the Right Candidat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atch between company needs and applicant skills/experience/personal characteristic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old on applicant through personal contact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Easier through network referra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pic>
        <p:nvPicPr>
          <p:cNvPr id="904" name="Picture 8" descr=""/>
          <p:cNvPicPr/>
          <p:nvPr/>
        </p:nvPicPr>
        <p:blipFill>
          <a:blip r:embed="rId1"/>
          <a:stretch/>
        </p:blipFill>
        <p:spPr>
          <a:xfrm>
            <a:off x="2968560" y="4029120"/>
            <a:ext cx="30513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91840" y="3428640"/>
            <a:ext cx="6583320" cy="13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entury Gothic"/>
              </a:rPr>
              <a:t>The Hiring Environment</a:t>
            </a:r>
            <a:endParaRPr b="0" lang="en-US" sz="4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reating Opening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Know pain and problem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how how applicant addresses pain or solves problem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how how applicant matches culture/skill needs of the organiza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ach applicant to sell him/herself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o NOT refer to “job carving” or other industry jargon!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entury Gothic"/>
              </a:rPr>
              <a:t>Ongoing </a:t>
            </a:r>
            <a:br>
              <a:rPr sz="4000"/>
            </a:br>
            <a:r>
              <a:rPr b="0" lang="en-US" sz="4000" spc="-1" strike="noStrike">
                <a:solidFill>
                  <a:srgbClr val="990000"/>
                </a:solidFill>
                <a:latin typeface="Century Gothic"/>
              </a:rPr>
              <a:t>Relationship-Building</a:t>
            </a:r>
            <a:endParaRPr b="0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rack and share industry-related articles targeted to your employers’ needs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nect with them on LinkedIn to keep track of and acknowledge professional accomplishments and mileston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Email “tickler” file—keep in ongoing contact. Check in even when you don’t need something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Remember. . .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57200" y="170784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Employers are PEOPLE. Connect with them as people, not as a means to an end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nd ways to personalize the connection: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Thank you note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Birthday greeting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Respond to achievements/accomplishment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Meet them for coffe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LISTEN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elp them do their jobs better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elp them look good to their bos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Documenting &amp; Sharing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sider using Google Docs or a Wiki to document and share your ongoing work with employers with co-workers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sider CRM software to manage contacts (Salesforce is $15/month for up to 5 users)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onsider Microenterpris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57200" y="2209320"/>
            <a:ext cx="8686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lf-employment with minimal start-up cos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ased on interests/passions of jobseeker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ultiple income streams=more reliable route to self-sufficiency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ore cost-effectiv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ncreases self-esteem and motiva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Century Gothic"/>
              </a:rPr>
              <a:t>(Archived webinar on microenterprise at www.discoverabilitynj.org)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Less Pressure to Hir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52" name="Picture 3" descr="Picture 47.png"/>
          <p:cNvPicPr/>
          <p:nvPr/>
        </p:nvPicPr>
        <p:blipFill>
          <a:blip r:embed="rId1"/>
          <a:stretch/>
        </p:blipFill>
        <p:spPr>
          <a:xfrm>
            <a:off x="1420920" y="1486080"/>
            <a:ext cx="64054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Too Many Applicants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54" name="Picture 4" descr=""/>
          <p:cNvPicPr/>
          <p:nvPr/>
        </p:nvPicPr>
        <p:blipFill>
          <a:blip r:embed="rId1"/>
          <a:stretch/>
        </p:blipFill>
        <p:spPr>
          <a:xfrm>
            <a:off x="677880" y="1486080"/>
            <a:ext cx="721044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10" descr="Picture 46.png"/>
          <p:cNvPicPr/>
          <p:nvPr/>
        </p:nvPicPr>
        <p:blipFill>
          <a:blip r:embed="rId1"/>
          <a:stretch/>
        </p:blipFill>
        <p:spPr>
          <a:xfrm>
            <a:off x="457200" y="608040"/>
            <a:ext cx="8012160" cy="572616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171840" y="2921040"/>
            <a:ext cx="2971800" cy="26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Multiple Hiring Source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entury Gothic"/>
              </a:rPr>
              <a:t>Employers Try to Manage Recruitment by. . . </a:t>
            </a:r>
            <a:endParaRPr b="0" lang="en-US" sz="32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utting off hir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-hir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iring from referrals without widely advertis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oaching from other compani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What Do They Look For? </a:t>
            </a:r>
            <a:endParaRPr b="0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56840" y="2342880"/>
            <a:ext cx="7783560" cy="32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Qualified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pplicants </a:t>
            </a:r>
            <a:r>
              <a:rPr b="0" lang="en-US" sz="3200" spc="-1" strike="noStrike">
                <a:solidFill>
                  <a:srgbClr val="333333"/>
                </a:solidFill>
                <a:latin typeface="Century Gothic"/>
              </a:rPr>
              <a:t>from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trusted source,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ferred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quickly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with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minimal hassle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. 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f working with organizations, they also prefer a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single point of contact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entury Gothic"/>
              </a:rPr>
              <a:t>What Does “Qualified” Mean?</a:t>
            </a:r>
            <a:endParaRPr b="0" lang="en-US" sz="32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as direct work experience, preferably recent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quired education/certifica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Will “add value” from Day On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ts into organizational/corporate cultur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ts into team/departmen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2:07:14Z</dcterms:created>
  <dc:creator>Michele Martin</dc:creator>
  <dc:description/>
  <dc:language>en-US</dc:language>
  <cp:lastModifiedBy>Michele Martin</cp:lastModifiedBy>
  <dcterms:modified xsi:type="dcterms:W3CDTF">2012-09-19T13:44:50Z</dcterms:modified>
  <cp:revision>16</cp:revision>
  <dc:subject/>
  <dc:title>Asset-Based Assessment and Planning</dc:title>
</cp:coreProperties>
</file>