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AF7C8-1DB0-437E-ABD1-7B99527967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92379-520F-4D0A-925E-AD051D839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FB89D-4D92-4A50-A76D-3BE1AECC3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5A92F-FA23-4D84-9B1D-5A6DF5F71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er job openings plus highly qualified applicants begging for jobs. Plus, in many cases, they have current employees who are afraid of losing their jobs pick up the sl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E4452-2627-4B7D-B4A1-F8452ABB3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y do advertise for jobs, ost employers are buried in resumes and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entry-level the job, the people who ap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companies have HR managers to manage this ei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FB947-2EB7-4563-86CE-054C8888B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EE3FC-322B-4345-98F8-47370C504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4896A-AD56-47C4-978A-005DBDBB8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6D61-5E93-4927-B876-8C3F8208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9F19-3F42-42F8-985C-00F19375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37F6E5-7834-4D76-AB27-2C6762BE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81201-52C5-4F34-9558-0249CE3D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04935-ED02-46FC-9FCF-393CA355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8DFD4-36E2-4A04-855C-5E2DCF04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DA1141-F12E-4EF7-88C0-E39F50E7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8EC9D-F228-4266-8941-8B924E7D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B528C1-A736-43C9-8B3A-4FD988AF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0B5F9-C188-4CFF-9D86-9225F57E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DF9358-A3DC-4669-9F8A-266642C8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16BA24-1D90-49C8-8E7F-405EC29C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9C1-137F-4B18-B898-EDD13561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4B53C-38E8-4C3E-8116-E9D3013C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F3672-16B7-4ADB-A445-83EDEABD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EE4DFC-7539-4FAE-9528-B644F1F8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A56F7B-1F26-4375-97DB-8F7E1C5D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4F964-7246-43F2-91BD-EB5C3CD9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C336DC-99EA-41EB-B772-2DE5E159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E3D7C2-ED4D-4BDB-BA08-B37AF531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283A45-BD85-4BF9-A345-CBD32EEA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1F8A7-38C6-4B5E-93D5-80681B07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5707F2-7542-4C46-A33D-889C0C0F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22B-2949-435E-B1C0-4EEEAC1C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F7924F-8057-4125-A8BA-D3997132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71DFBD-F07B-4EE9-9CBF-F9FF72B4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B2DFC8-D89F-4E52-81D5-F8D59A84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26BFC7-2668-4586-BDBE-D3262623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174D7E-5C6A-49BB-97C2-600204E8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771D0C-F781-497F-9EB1-9C840ED9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ECBEF9-8620-4AA9-9973-D47F7646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678105-DF8B-4F1E-8A37-17AF89B5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F81296-E803-44C2-9C3D-25605887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6D853F-D5BE-4D81-9491-7B641ADE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969A-2264-40B7-951C-9365744B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175A44-CE34-45B5-824F-E12F9A36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367A4D-35E3-4AB2-9F5C-E6DE41F1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E5A5B3-30FD-49A4-A026-D2E07AD8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F0DE7-23D2-45B9-8FD2-531996B3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60B36-821E-4F54-906F-6F52FBA2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0AF8F5-539F-4C1E-8FE3-7C90A700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DAF1FB-B6DA-4297-84CC-C578D362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359000-C8F4-4563-8337-4B544CB8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02125-3F1E-4AF0-B095-64C3CF15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BD960A-35B9-4E46-8ADE-C7A7C853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FB5F-ECEB-4442-9FC3-FAC4E3D3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CBD510-D85B-4779-8FB1-4AF81B69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6549D-0A73-4706-A81E-38902470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DBED6-FEAA-4A6E-A1D7-E37E0EC9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CB3EE-CD58-4332-A444-231FED30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E57BF2-2AF8-4FE3-B430-B4A58914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221BCD-B89A-4168-A7D9-16CA1DE8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F7C124E-D2F4-4248-92AA-94376E0A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8572B8-32B4-400E-B498-95BFEA95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B8923C-7665-4E8C-AB69-C2906290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AE5B31-C213-4EF0-B5DC-486B3311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6163-A28E-4A14-9F29-8B000048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41DBEF-0B40-46FC-9E19-B779E784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D92EFD-662C-4E53-B5DE-7DCE1727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746AFE-55ED-41F2-BC47-BF4E7FFD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DA14C4-8A8F-4572-81E7-BD416069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09EA09-85BF-4C21-92DD-906ADB42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3407B0-25FB-49EE-AB44-2B86768D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939EB8-ACFA-4E31-A36E-1E2ADE18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BD1CC1C-6E25-4B58-B421-2762E160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3D9D316-2610-4C57-B0ED-E756CECC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E519394-B3CE-48C5-BD4F-D58FB14F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4603-60B0-40BA-98F5-108B24D4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736D9CB-3F38-44EE-AEA9-B84F189E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7D7950A-0214-4C58-86C3-0EB40B87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BB00338-9C8C-48A2-8C78-0275BB56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470BBD-F61D-4C08-9A07-34567135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8C1CF38-E452-4BD7-B300-2D7472B6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C335564-6A75-405E-8339-D145FABE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58EC6C0-145D-4672-8A4C-D33314DE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B37C2BF-927A-4900-945F-6E933127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256BC75-B68F-43D3-8872-BEF539E0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17E5BF-9A59-4E5A-A4C1-E59DE5D7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2957-94F4-474D-B7D6-FF6A8F27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9845C6D-16D8-49EE-8C6C-F5BFCD01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ACE6235-904A-462E-80B1-C7B8825E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031A5CD-E508-4811-BE4D-80663EC2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C39A9D5-DCBD-48DB-86E4-9AAD8ECE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0A71B72-369D-4AE2-B116-4D4B1158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962059B-F9FE-4947-A75F-85A3A4FF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601BF43-A0E4-4321-BB49-210FB128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180D3E3-52DA-4CC0-9D6F-AAE0D1F1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4E9585A-F5F6-48BE-8FF3-708D8A1C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427487F-5F73-4D13-976E-6385D0B2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B259-CF17-4A76-B9FC-AD6F004C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C018C27-4DDD-473C-897B-16114CF2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1854DDD-1F68-4662-B854-BAB34ADF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FC55DE2-DDDF-4780-BC84-95260AC3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A6AE1CB-45F6-4452-86D1-FB6A4C3D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52456BC-4615-4F35-A997-7B0BAE9E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5217F73-550F-4BF1-96F2-3065F18C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5DB88AB-03F3-4615-BAE7-65D28791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5E32E59-6928-43AB-893C-9D959152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3CF7F22-FD96-46F0-9522-858C9A30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B437588-2A22-4D1E-A47F-9DF50849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A169-03E0-499E-80D5-4A033E0B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E8B3C9F-0841-489E-82D4-57560704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E765AE6-1FBD-4CAD-A771-A1DE7866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0A9CD8B-1B93-40FC-BF64-40514749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22FF060-9057-4918-98F5-39BCE2A2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9A3F5B4-AE2A-406E-8913-FC5412B4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CCE5CA9-C125-426D-8D2E-297F6731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E0A12E5-62C0-4109-9176-DA5D743D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2BD499E-A499-44F6-99EF-21C31177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6B447E2-FCE3-4DEC-8D8A-6FA4BBCF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F3B2E9B-A539-4098-A58C-FCE09322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3F02-F087-4302-B7B4-EF6C6C79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38C8-4862-4E71-B938-31896833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34C78CF-B60B-47AC-83CD-16D010CE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4D6F844-F5AB-4657-A735-843AA1BC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0F19A03-3611-4D12-8E7A-B4A3188C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96B1D08-BEC1-49B2-B007-AB12B15B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7DB1CD8-2901-40A7-9461-71C4E7C3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51B7FE4-E288-43C0-AC99-0BF3DE13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DE25C0D-5D19-4061-BB42-6EBC7685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C138121-8AF2-41FD-8905-178F0B8F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F64EB07-967F-4A27-BA8F-0AFABEDD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2EB15B5-F90E-48B4-B78A-2AFBD136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621F-C73D-4080-965A-DD8313BE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F62EA86-33DA-4FAE-9BF4-9F54FEF1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CA33C9F-4D27-49E0-8C92-1C95D636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7961623-71EF-458D-A7CE-C9F57027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7B5B48E-FA75-4A75-8E01-F2974D3C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64AF847-273B-424E-8F01-1548906D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CF6ECF2-A736-468A-ADEF-52DAA842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B1FA565-56EC-4A52-A86B-197C878D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5D24A8A-5958-4AA7-8613-DC974564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1A3E75A-639E-409F-8722-5FA1E44D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FA8B4E2-7365-4FD5-94AC-61AB4C76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E43C-4005-4345-81E2-F8DF7C30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FB4F488-F052-472D-8242-B2961C8C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0B07F12-1C51-4936-AF52-A0B9F7FA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1C9A798-9F95-46EE-95BD-4786EDF0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AE5FB21-7CC7-48EE-8B33-F37B58FC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7A2F46D-B3E0-4275-8BD0-5CE9A2A6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C031A36-DF45-4989-8980-3F321D93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75BAF81-9DE9-4583-90F4-2A662710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6EFFCAF-EF6F-4FE8-8851-431C3A68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FE78C5F-32D2-4323-84FD-1A59E6D7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FCC36AB-73A6-4EA4-80FF-4E0308D6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CF57-2091-486E-AB00-1658BA54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1440E11-CA61-483E-A2E1-3BF12522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5ED0428-DE77-44D5-AE22-E43C8349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4F43354-FF28-42D4-A0F1-EFB50128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1D58BEC-C2AE-4375-BD17-377FB52C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DD33217-3AE4-4447-BB56-9790204F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1ABC246-136B-48FA-9CDB-9E0F6661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A9232A7-6C06-4F0E-926F-0ECD733D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FA02D0C-1E01-466A-B1FA-7F0E1E34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9049755-6A4F-4DE2-AEE5-DC7DE91B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69DBB57-FE91-4829-8671-12DD5978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AFC4-08D8-4A11-8CEE-ADBCD2A6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9F0EB57-159A-4BD0-8722-14E62D10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8F972-E81A-4778-B872-EEA65AE0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6AA1D-0040-4FBA-9C0C-2EAEDEAA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1486C-6680-44FC-A7F3-0AC51214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F0AE1-CE5A-41D4-93F6-921298E2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1F74-9DDE-4D21-B023-BA6143AB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66AF-732F-4DDE-A1C3-6788F0D8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8AF4F-A01B-4BA3-96DE-688B565F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F6092-D80C-4EC4-9047-7BAD3DF1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77BDA-617F-4403-9AAE-6B1B6669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73D88-6CCE-4E6A-B934-2797A286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0522C-752D-450F-844B-2EE4FAF3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32AB8-4A7A-4E18-8B7D-F26E2D1D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25F30-0CFE-4F1A-87AD-4D74B74F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7458C-5858-4753-BE48-ED221467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5CD86-A3C9-41E8-B534-8708A238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2BBD2-C95D-4791-872A-ECD49AA7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4BAE-8CE7-46A5-A6E9-2E34B396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99403-1AEF-435B-8C04-EF1CD662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349DD-6011-47E9-B99B-33977F1E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17B24-DC57-47B5-92AA-8B01379A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36324-E1FE-481A-A41C-9968B241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96513-0B35-47BA-B08B-56DE5BC7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D0A7D-3DFA-4D16-AB9F-AC098049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CE2D4-513D-4D52-B3DA-33CF6110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3780C-8FD6-47C3-8A4A-07E538EA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BF2DC-8BEC-44FA-B35C-BC1D6DDE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56241-7990-45AF-A37C-BE6CF07C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0531-EC20-47CA-8249-829356A4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D3322-8BC8-4631-B981-AE12E3E9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29D3B-C067-4373-8B7D-7A951261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9D762-19DF-47B9-8271-5E31C631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03D5A-6D96-4CAF-90D6-68164716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2F1C7-B13A-425E-9D74-61AFC264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8EB4F-76D3-49A6-A89C-5FFCA80E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C1599-5DCF-4A48-A3B5-A698B1D7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E3FBC-EE30-455B-B3BF-C6B54CE9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31DC2-5DFB-4E5B-86EF-346CFA30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B6B0D-8EAF-425F-8820-94FF1745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131-8E68-4601-9A6B-D446DDC9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63385-BD31-4194-A6ED-B8B74909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EE1DA-1223-4C71-90F6-F4F69496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61C1E-9B0D-4B8F-A5D7-3F4BB7F4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E3AE7-9929-4B5D-8CDA-451D40B7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9F40E-D960-4634-8072-90FD6F63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34E7D-5F4C-4CA8-B77A-6D47AEEA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7D871-DD4F-4F47-BFEC-C188EC73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BC824-8BA3-42A3-B24B-A8D2D8C1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2208C-00DA-4397-AC2B-FC337378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0F193-441C-479B-B19B-BFD0DAC8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FC9-533A-4BC9-A25C-6ED1BA01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45B1F-4508-49EC-9C23-CEB06274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F1849-52B5-4A44-9824-EA9B19EA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97653-CC30-4336-B410-6ECAAA02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A51B1E-8D5E-4C18-840F-454A0F2E954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672BBD-E88A-42DB-B10F-0FDE63A9982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5E1EE0-2512-4DB6-9B04-84BE44D1121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1D8559-814C-4324-A615-3592606C134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F2671E-A9F5-4B04-85DF-A9E479CACB4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93B74D-C627-4EF1-BB71-5D8C515F836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0629E8-258B-420E-81E7-D335C0DEB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54E-11B2-4CD5-B805-66D9826C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2DE97B-BA7B-41AE-BFC6-FD44D0C3F30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687A33-EC56-40BE-AAA3-694346CFEF2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7B08A2-3340-4BC9-B24C-E842909D2E9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268AAC-C7C5-4B19-A3D7-E3262A888E1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286390-8D6E-45E6-A2CD-8A6B72A42B4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742BA8-E2BD-48EC-9698-37D3C129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D2BA76-1D07-49D8-BA02-AF5DFB48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29A830-3A08-4F2C-9768-3143586F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9C91AA-7424-4485-9737-98342331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8F691B-AE2D-4710-917F-8B5952AB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F7E-CCE1-4C47-80CD-1EBEB76E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85AF57-D9BD-474C-A142-D0D5C8FB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0817D7-20C2-4AD4-B0CD-86337C1C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6AF903-92B9-402A-8145-CAEE196A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CBFE0F-23DA-4321-A03B-298C015A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424B91-C84B-461E-BCF0-EBE9878B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266E07-9A28-4E91-AC37-4DDB8B39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B58C28-BA4A-4999-846D-AB22ED7B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CB99B-23D8-4EC5-926E-7ED33989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5650B5-F39C-4101-86DC-5F3E4E3D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3E05A-6D3C-4F1D-ACAD-A1A28235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B8F96-840C-402C-94D5-1DC5254956D8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C75FD-CDA4-42AE-9831-B28971446FD6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2C089-8B74-42AC-922E-A8BCF0CC47F8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12247-8D8D-4ED5-B151-ADC17A4417A5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9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2C272-8406-4A8D-B360-527909B0DE7D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0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1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99616-3CB0-4969-A65E-D231FC1BDE3B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2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57BA2-C48E-418A-AE9D-48C89BA46CCF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3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4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0EFFB-92F1-486C-A9EE-A3C935758802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5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929F6-040B-4F8B-9F16-4984F3724977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6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7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9DE82-3CC1-49B4-9C00-FC0C2C52EF47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8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3AFAE-0794-428E-ACD5-83C337D552C4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9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0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3BEA3-BB3E-4436-8E2F-B3E7F329C02D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95C4E-BF8E-4413-B3AF-D0155BA3CC98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2EB52-B6E2-436D-8795-E5249EEC3A33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4746600" y="268200"/>
            <a:ext cx="411480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4"/>
          </p:nvPr>
        </p:nvSpPr>
        <p:spPr>
          <a:xfrm>
            <a:off x="162000" y="612468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5835C-A06E-4EB9-B249-684367936C34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5"/>
          </p:nvPr>
        </p:nvSpPr>
        <p:spPr>
          <a:xfrm>
            <a:off x="174240" y="6356520"/>
            <a:ext cx="386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6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54C41-87B1-40AD-A60C-5308DE44AB0E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6"/>
          <p:cNvSpPr/>
          <p:nvPr/>
        </p:nvSpPr>
        <p:spPr>
          <a:xfrm>
            <a:off x="7216920" y="268200"/>
            <a:ext cx="1639800" cy="3638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7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95FCF-78DD-4224-95DC-26567D15DA61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0B35B-8036-4BEB-811E-3F5DD3844760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6"/>
          <p:cNvSpPr/>
          <p:nvPr/>
        </p:nvSpPr>
        <p:spPr>
          <a:xfrm>
            <a:off x="8136000" y="268200"/>
            <a:ext cx="720720" cy="3638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5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37B32-7FFB-4D32-91D4-2E7562A7DEA8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5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5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1A29C-22B3-49C6-B16D-98DDC05CB69E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5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EBF5B-2D35-4855-BD68-B2EA811746E2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5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5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5B820-20A6-40E1-9F6C-0C988A48C678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187800" y="268200"/>
            <a:ext cx="5668920" cy="3900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276360" y="390600"/>
            <a:ext cx="550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5BD76-667F-405D-AA10-A21AD7D19E7A}" type="datetime"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07/29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1948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5624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45F3A-1E40-4696-96B3-E7DE05FAFDA1}" type="slidenum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E5A09-C25E-47A5-B386-7DD61C33696A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3DFE2-9A89-43A5-873D-3709895ACD68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70149-823C-421A-8D1D-63A0C384850D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71B24-FE8E-40F5-B651-2C1661DB0E00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3187800" y="268200"/>
            <a:ext cx="5668920" cy="25606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276360" y="390600"/>
            <a:ext cx="549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3F03F-006B-42CB-987F-D49744AA55C6}" type="datetime"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07/29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21300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26560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221E5-5807-4ACE-AC7E-33904DDDB31D}" type="slidenum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27000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A3618-D438-45B7-B480-2887B80C52C3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78000" y="6356520"/>
            <a:ext cx="4927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331920" y="36036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8FBE7-940C-4D92-A84B-EAA4E80B05E8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7759800" y="268200"/>
            <a:ext cx="1098360" cy="6350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5562720" y="6356520"/>
            <a:ext cx="162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9F6F8-C87B-438D-B6D2-7DC82CA00CB8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174240" y="635652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64A99-E733-4E13-B15F-B6CA4273970B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270000" y="4773600"/>
            <a:ext cx="2971800" cy="1844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9"/>
          </p:nvPr>
        </p:nvSpPr>
        <p:spPr>
          <a:xfrm>
            <a:off x="351000" y="610560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463AC-8F06-45AA-BE7A-14AB8A5D3036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7D5BD-BF01-4CAD-83F4-5CCF69CF0422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8BC7A-A302-49AF-9D56-7638FEA63A1F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85858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11111-C6A8-44AC-9B13-AB194056BADD}" type="datetime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2A0BD-E167-461B-B947-26FF845CA36B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200040" y="4172040"/>
            <a:ext cx="5457960" cy="108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990000"/>
                </a:solidFill>
                <a:latin typeface="Century Gothic"/>
              </a:rPr>
              <a:t>Connecting to Employers</a:t>
            </a:r>
            <a:endParaRPr b="0" lang="en-US" sz="41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3200040" y="5257800"/>
            <a:ext cx="545796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Understanding the Employer Customer and Creating and Implementing an Outreach Plan</a:t>
            </a:r>
            <a:endParaRPr b="0" lang="en-US" sz="16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rusted Source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eir network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Networks of good employe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rough their own websit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roven Recruit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tes and sources where they’ve found success befor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Quick Quality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With Minimal Hassl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sponse within 24 hou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pplicant has quality resume, is prepared for interview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sponsive to employer process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inimal paperwork, especially at the beginning of the proces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ngle point of contact from your agency/organiza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It’s About Relationships!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68" name="Picture 3" descr=""/>
          <p:cNvPicPr/>
          <p:nvPr/>
        </p:nvPicPr>
        <p:blipFill>
          <a:blip r:embed="rId1"/>
          <a:stretch/>
        </p:blipFill>
        <p:spPr>
          <a:xfrm>
            <a:off x="2235240" y="2320920"/>
            <a:ext cx="412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Relationships. . .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ased on </a:t>
            </a: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trus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Quality work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Understanding of employer need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onsistent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Making/keeping commitment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# 1 way to build trust is to fill jobs quickly and with minimal hassle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#2 way is to build relationships, not focus on transactions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Building a Relationship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arget the right employ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Know their industry, issues, needs and process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e strategic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cus on the relationship, not on the transac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ocument, document, document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209680" y="3428640"/>
            <a:ext cx="4965840" cy="13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entury Gothic"/>
              </a:rPr>
              <a:t>Developing an Outreach Plan</a:t>
            </a:r>
            <a:endParaRPr b="0" lang="en-US" sz="4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argeting Employer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mall vs. Large Employ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emand industries/occupa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Job seeker goal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Initial research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77940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Who are the employers in your area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o have you worked with before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Google Maps Search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Of these employers, </a:t>
            </a:r>
            <a:r>
              <a:rPr b="1" lang="en-US" sz="1800" spc="-1" strike="noStrike" u="sng">
                <a:solidFill>
                  <a:srgbClr val="333333"/>
                </a:solidFill>
                <a:uFillTx/>
                <a:latin typeface="Century Gothic"/>
              </a:rPr>
              <a:t>who is hiring</a:t>
            </a: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Job postings—in Jobs4Jersey, on their website, on other board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“</a:t>
            </a: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Follow the money”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Char char="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79736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What job openings do they have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Who are the key decision-makers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-Suite and Directo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Avoid HR if possibl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Remember many small companies don’t have HR.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752400" indent="-4572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Develop Target Lis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Identify Top 25-30 employers in your area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—most likely for you to get </a:t>
            </a:r>
            <a:r>
              <a:rPr b="1" lang="en-US" sz="2000" spc="-1" strike="noStrike" u="sng">
                <a:solidFill>
                  <a:srgbClr val="333333"/>
                </a:solidFill>
                <a:uFillTx/>
                <a:latin typeface="Century Gothic"/>
              </a:rPr>
              <a:t>placements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Analyze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do you already know about them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can you easily find out about them through more research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Do you have a relationship with them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is the nature/quality of that relationship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have you done for them in the past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Focus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your efforts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entury Gothic"/>
              </a:rPr>
              <a:t>Build Company Profiles</a:t>
            </a:r>
            <a:endParaRPr b="0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Company Basics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—location, # of employees, etc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Key Decision-Mak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Work Environment/Company Cultur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Key Employment Success Facto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Recruitment &amp; Hiring Practic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Referral Preferenc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Relationship history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“</a:t>
            </a: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Job Development” in the New Economy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Understanding employer needs/requiremen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Understanding the recruitment process from the employer perspectiv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uilding relationship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emonstrating valu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aching customers to sell their own valu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wo Relationship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77940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Existing Custome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is your current relationship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have you done for them in the past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has worked/hasn’t worked? 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How can you build the relationship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Build your network--“Who else should I be talking to?”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797360" y="1828440"/>
            <a:ext cx="3565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Century Gothic"/>
              </a:rPr>
              <a:t>New Custome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How can you use your network to get connected?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How can you get a “face-to-face?” 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ere can you immediately provide them with a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Century Gothic"/>
              </a:rPr>
              <a:t>quality </a:t>
            </a: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referral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What other information/resources could you offer to begin building trust and goodwill?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e0e0e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entury Gothic"/>
              </a:rPr>
              <a:t>Resources for Building Profiles</a:t>
            </a:r>
            <a:endParaRPr b="0" lang="en-US" sz="32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mpany websit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LinkedIn Company Profiles and Group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LinkedIn Connec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Google Searches/Aler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sking ques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nformational interviews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Find and Connect to Recruiters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&amp; Hiring Manager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2355480"/>
            <a:ext cx="40384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Events/Association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Society for Human Resource Managers (SHRM)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Industry/Occupational Association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hambers of Commerc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onference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648320" y="2355480"/>
            <a:ext cx="40384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LinkedIn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Twitter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Company websites/blog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Email lists/newsletter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Listen and Documen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llow/read what they pos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Join their groups to see what they’re discuss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gn up for their newslette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sk ques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363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robe for “pain” and problem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mment and R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rovide resources, information that solve problems and address their “pain” poin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nect them to people and resourc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nswer ques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Engag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Filling Existing Need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t up strategies for each company to be notified of job openings. (Company website, Google Alerts, etc.)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r each job opening, work with job seeker to “complete the T” (</a:t>
            </a:r>
            <a:r>
              <a:rPr b="0" i="1" lang="en-US" sz="2000" spc="-1" strike="noStrike">
                <a:solidFill>
                  <a:srgbClr val="333333"/>
                </a:solidFill>
                <a:latin typeface="Century Gothic"/>
              </a:rPr>
              <a:t>Refer to next slides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)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ake referra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ach customer to sell him/herself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llow-up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ompleting the “T”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view job posting and/or company info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dentify employer needs, relevant keyword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914400" indent="-5144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For job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914400" indent="-5144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For company/cultur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spcAft>
                <a:spcPts val="1199"/>
              </a:spcAft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ll in job seeker info to complete the T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spcAft>
                <a:spcPts val="1199"/>
              </a:spcAft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f you can’t complete The T—DON’T APPLY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 indent="-514440">
              <a:spcBef>
                <a:spcPts val="1800"/>
              </a:spcBef>
              <a:spcAft>
                <a:spcPts val="1199"/>
              </a:spcAft>
              <a:buClr>
                <a:srgbClr val="99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f you can, complete your resume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Picture 3" descr="Picture 9.png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3" descr="Picture 11.png"/>
          <p:cNvPicPr/>
          <p:nvPr/>
        </p:nvPicPr>
        <p:blipFill>
          <a:blip r:embed="rId1"/>
          <a:stretch/>
        </p:blipFill>
        <p:spPr>
          <a:xfrm>
            <a:off x="2195640" y="1036800"/>
            <a:ext cx="5043240" cy="5294160"/>
          </a:xfrm>
          <a:prstGeom prst="rect">
            <a:avLst/>
          </a:prstGeom>
          <a:ln w="0">
            <a:noFill/>
          </a:ln>
        </p:spPr>
      </p:pic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he “T”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Openings for the Right Candidat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atch between company needs and applicant skills/experience/personal characteristic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old on applicant through personal contact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Easier through network referra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pic>
        <p:nvPicPr>
          <p:cNvPr id="904" name="Picture 8" descr=""/>
          <p:cNvPicPr/>
          <p:nvPr/>
        </p:nvPicPr>
        <p:blipFill>
          <a:blip r:embed="rId1"/>
          <a:stretch/>
        </p:blipFill>
        <p:spPr>
          <a:xfrm>
            <a:off x="2968560" y="4029120"/>
            <a:ext cx="30513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91840" y="3428640"/>
            <a:ext cx="6583320" cy="13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entury Gothic"/>
              </a:rPr>
              <a:t>The Hiring Environment</a:t>
            </a:r>
            <a:endParaRPr b="0" lang="en-US" sz="4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reating Opening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Know pain and problem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how how applicant addresses pain or solves problem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how how applicant matches culture/skill needs of the organiza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ach applicant to sell him/herself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o NOT refer to “job carving” or other industry jargon!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entury Gothic"/>
              </a:rPr>
              <a:t>Ongoing </a:t>
            </a:r>
            <a:br>
              <a:rPr sz="4000"/>
            </a:br>
            <a:r>
              <a:rPr b="0" lang="en-US" sz="4000" spc="-1" strike="noStrike">
                <a:solidFill>
                  <a:srgbClr val="990000"/>
                </a:solidFill>
                <a:latin typeface="Century Gothic"/>
              </a:rPr>
              <a:t>Relationship-Building</a:t>
            </a:r>
            <a:endParaRPr b="0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rack and share industry-related articles targeted to your employers’ needs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nect with them on LinkedIn to keep track of and acknowledge professional accomplishments and mileston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Email “tickler” file—keep in ongoing contact. Check in even when you don’t need something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Remember. . .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57200" y="170784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Employers are PEOPLE. Connect with them as people, not as a means to an end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nd ways to personalize the connection: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Thank you note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Birthday greeting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Respond to achievements/accomplishment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1" marL="420480" indent="-210240">
              <a:spcBef>
                <a:spcPts val="601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Meet them for coffee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LISTEN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elp them do their jobs better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10240" indent="-21024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elp them look good to their bos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Documenting &amp; Sharing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sider using Google Docs or a Wiki to document and share your ongoing work with employers with co-workers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onsider CRM software to manage contacts (Salesforce is $15/month for up to 5 users)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onsider Microenterpris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57200" y="2209320"/>
            <a:ext cx="8686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lf-employment with minimal start-up cost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ased on interests/passions of jobseeker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ultiple income streams=more reliable route to self-sufficiency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ore cost-effectiv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ncreases self-esteem and motivation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Century Gothic"/>
              </a:rPr>
              <a:t>(Archived webinar on microenterprise at www.discoverabilitynj.org)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Less Pressure to Hir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52" name="Picture 3" descr="Picture 47.png"/>
          <p:cNvPicPr/>
          <p:nvPr/>
        </p:nvPicPr>
        <p:blipFill>
          <a:blip r:embed="rId1"/>
          <a:stretch/>
        </p:blipFill>
        <p:spPr>
          <a:xfrm>
            <a:off x="1420920" y="1486080"/>
            <a:ext cx="64054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Too Many Applicants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54" name="Picture 4" descr=""/>
          <p:cNvPicPr/>
          <p:nvPr/>
        </p:nvPicPr>
        <p:blipFill>
          <a:blip r:embed="rId1"/>
          <a:stretch/>
        </p:blipFill>
        <p:spPr>
          <a:xfrm>
            <a:off x="677880" y="1486080"/>
            <a:ext cx="721044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10" descr="Picture 46.png"/>
          <p:cNvPicPr/>
          <p:nvPr/>
        </p:nvPicPr>
        <p:blipFill>
          <a:blip r:embed="rId1"/>
          <a:stretch/>
        </p:blipFill>
        <p:spPr>
          <a:xfrm>
            <a:off x="457200" y="608040"/>
            <a:ext cx="8012160" cy="572616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171840" y="2921040"/>
            <a:ext cx="2971800" cy="26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entury Gothic"/>
              </a:rPr>
              <a:t>Multiple Hiring Source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entury Gothic"/>
              </a:rPr>
              <a:t>Employers Try to Manage Recruitment by. . . </a:t>
            </a:r>
            <a:endParaRPr b="0" lang="en-US" sz="32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utting off hir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-hir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iring from referrals without widely advertis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Poaching from other companie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What Do They Look For? </a:t>
            </a:r>
            <a:endParaRPr b="0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56840" y="2342880"/>
            <a:ext cx="7783560" cy="32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Qualified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pplicants </a:t>
            </a:r>
            <a:r>
              <a:rPr b="0" lang="en-US" sz="3200" spc="-1" strike="noStrike">
                <a:solidFill>
                  <a:srgbClr val="333333"/>
                </a:solidFill>
                <a:latin typeface="Century Gothic"/>
              </a:rPr>
              <a:t>from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trusted source,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ferred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quickly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with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minimal hassle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. 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514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f working with organizations, they also prefer a </a:t>
            </a:r>
            <a:r>
              <a:rPr b="1" lang="en-US" sz="3200" spc="-1" strike="noStrike">
                <a:solidFill>
                  <a:srgbClr val="333333"/>
                </a:solidFill>
                <a:latin typeface="Century Gothic"/>
              </a:rPr>
              <a:t>single point of contact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entury Gothic"/>
              </a:rPr>
              <a:t>What Does “Qualified” Mean?</a:t>
            </a:r>
            <a:endParaRPr b="0" lang="en-US" sz="32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as direct work experience, preferably recent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equired education/certification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Will “add value” from Day On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ts into organizational/corporate culture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ts into team/departmen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2:07:14Z</dcterms:created>
  <dc:creator>Michele Martin</dc:creator>
  <dc:description/>
  <dc:language>en-US</dc:language>
  <cp:lastModifiedBy>Michele Martin</cp:lastModifiedBy>
  <dcterms:modified xsi:type="dcterms:W3CDTF">2012-09-19T13:44:50Z</dcterms:modified>
  <cp:revision>16</cp:revision>
  <dc:subject/>
  <dc:title>Asset-Based Assessment and Planning</dc:title>
</cp:coreProperties>
</file>