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7D4B8-03FC-466D-B50B-22B545A78A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4CFE3-FD9A-4F10-A5E7-02CF66A1A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0938E-3D77-4B0F-8EC7-72AB9FFE7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E03CC-C214-4507-8B7D-42326DA26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er job openings plus highly qualified applicants begging for jobs. Plus, in many cases, they have current employees who are afraid of losing their jobs pick up the s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AC339-EEB4-41DE-8907-2898FF282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do advertise for jobs, ost employers are buried in resumes an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entry-level the job, the people who a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companies have HR managers to manage this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82CB9-3596-4A5A-931F-A02307A2F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EBF7C-F33E-4468-8A7A-AF2D979BD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3356F-3671-4C8B-B1F1-27CCDB076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98A-254C-4389-B6CC-475CFD2C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D01-5909-44E5-AB1A-4A21E406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E7C80-3F2D-4BF0-B5D4-6EA2CD9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54D1A-3DC0-4864-A62E-994A2642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3161B-DAFE-44B0-B77A-18F21D00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BF83A-6384-4BB0-9BDD-F0A8B966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77B3D-77FA-4B2C-92BF-014E41B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0D5A8-F81B-49A0-980D-9A05A70D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F0324-8B8A-460B-B791-B0760BD1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378FE-2576-460D-9001-3ECAA992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1EB6C-9F6A-40DE-931D-CE2C0DAB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2D8F3-B454-4031-9EAA-5CB2B392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263-A078-482A-B9E1-E4CD50CC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C80E8-2CE1-43C4-A575-D8B50B2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B349B-A87C-44F2-975E-E76A5D25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90A6B-669E-4753-A3DB-2D0ED0A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461CB-9EF0-4985-BFC9-AB6D6C63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BFA41-C723-4C07-A4A6-69383C6E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BB900-69C2-430B-96A9-5DA682F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A42C4-D330-4D56-9786-A0CFC87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0E072-DED5-4A3B-844F-A494CD0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EC6AE-DCFA-4C2E-9D7F-3C0E23CA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B5BE1-5E80-4052-9A14-77D1DA33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272-EE53-4B39-A996-C2CA51B6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1A73A-7DA5-4578-A118-3692218E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A537EE-8228-4B9D-ABB5-A7FBBD5B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1B2E35-ED80-42D0-8C2D-7B8994F4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E7B255-7420-4845-95A6-6D23CBA9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5EDCF7-FFC1-4F43-8EF7-BE9AC08C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E14788-A452-4B47-912A-1A0E8FF9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A78C61-B642-4FC5-BB2E-2F8B8AD0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7F44C8-89C5-4FBC-A507-276B180E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D32E39-FA4B-4A17-9046-8820665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455CB-9711-4276-9648-605415A8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8CD8-2E04-4C6B-8943-3E42013C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196C8B-97C6-4ED7-8DE5-4E152BD6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F34F93-98C5-484E-B02B-39D2C120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516BDE-0148-46F6-BD6B-0F4ED650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8159E-F2BF-456E-914E-877A73C0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C03D7-8784-49FE-BB0A-787069B8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1D035-F912-4C32-8CEC-A225E69A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DCFE3-1774-4670-AEEC-3D244814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98D25-5922-4C6A-9BB6-FC1CB80B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26D6C-1269-48F5-82CF-7AEDB29D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5EB8D-BAF2-4D5B-ACEB-B0718B5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E0C-3AB7-47FC-8716-F95A443C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AE61F-DFA0-4233-9367-F733190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E6F33-9A64-41BD-8D3B-D5BFC50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32EB1-1644-48BA-BAC1-509CD6DE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CEC6C-68F3-4D3C-94B5-3FB1CA02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0043B-BD78-4CBB-8995-36FD67FA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70AA30-5265-4C2B-8013-C7627655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E8EBF4-B453-404C-87CA-55D2EEA8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2045E3-7D4E-4D0C-8086-56D0E09C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465092-4D6D-40C9-9CCB-BF027309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70BA36-E747-4169-9667-25068C21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BE44-335D-471C-A5C0-D05032F1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3E2E61-06EF-4014-8295-C757B96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B08C06-F40A-47DF-9DDC-606491EC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48DB1B-4CCF-41DF-808F-0384ACA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3C60E4-234F-4D08-9057-BFB6A55B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B5C172-D984-4905-9E31-87046E11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1956CB-BE33-41F5-8FB3-11B017E9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25B538-746B-443F-949B-20B148A4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D2A39E-7D6D-4D7C-BFF2-10C6B814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D178B6-A05E-452C-9EB6-FD707AF2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108C4A-AA40-4114-AC37-C7CA0F27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8875-7E0F-4980-8D8D-BD365CB9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5EAACE-5DF8-46AA-AB05-BA0BC178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BCEA76-1514-4048-B462-F8D1E1A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E0CEE4-C0A2-4205-A0EF-2FDBED52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FD788B-5B19-47B0-95F6-CFF0212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BD62A6-FF83-4F0D-831A-67259EC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47006C-C2E0-45DA-9272-1B199B82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1E149D-4A54-4617-A6A6-7D2F51A5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EA6FA9-6714-4B39-975E-063B2E9E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F630D0-A52D-48B6-88A5-A0ED89C4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0ABCBF-74B3-48AD-A1D6-90231DF4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EDAE-FB49-49D5-B53E-3552D72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FA5FBC-FA2A-4BED-A20B-C34F94C6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BF02E9-CDC0-4DB1-B109-3FA3541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EC2B0F-1D50-4A8F-8683-387DD3D5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FBD7F3-0B36-4A7F-973C-9B3921B5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7D8518-9D4B-4EBC-928B-00987D2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091708-07BC-4E5B-B078-F0E84199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95F019-A457-44C1-ABC9-6D431DF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1DCC6F-2AB4-4027-99D3-E9688838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ADCC0C-0586-4953-A4AD-C07F6746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A91049-1C8C-470D-A40A-C475A966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0756-933D-4E21-A954-D7F18CA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009878-3D2D-48DF-B91C-54CF49EA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94A6DF-900E-42E5-BF55-648B43AE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DFDD01-49D4-430E-9BE0-9B371458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55DF77-4F6E-4C48-B0DB-08C688D5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1A4E28-D782-453D-9A6C-60B3AC57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592985-8165-41A1-8576-2DE963BA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2A3390-9D2C-4CEC-BF4A-3F00DCFB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504A49-479E-44B8-BF68-25B9802E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DE6BB6-2E13-4CDA-B819-6979CAB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5BF3D9-F521-49B1-A6DB-84A986CD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D970-1230-4A44-9936-8BC8E4C7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D450EF-DB2A-4DAE-A7DF-2BE4DA80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E1D7D1-3BB5-4955-AACD-A138C662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8F0360-D11F-4F76-AB35-7D633578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5246DA-DC06-4631-93DD-8ADAAD7C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E5CAE4A-7AE7-4FD2-B321-A1FF7919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B63BB16-D362-4E5B-BC1D-DDBB71AA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292282-ACE8-440E-8039-CE36B527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55F085-676A-4626-81F3-4A6C5C86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44F417-BCB3-47AA-97C5-4C0861E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4F93A4-ACBD-445C-996A-CE68162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770-3EF8-4395-AE52-A2C3E612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A758-7FAD-49BE-A05F-7927822F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D1AA9F-597D-4FE1-B5CC-2C92D315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7F3073-B3AC-4A83-962C-0AE5F4F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AA49FE-E209-47C6-B99A-1B60C3BC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CFCEE5-79C5-456C-9C89-75AC4607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2138F8-014B-4BBC-BED1-CE3A11CA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615759-5FFE-4F11-8BE8-2E0916A1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793611-9E4D-43FD-A057-447C5A75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3B6390-FFA4-40FD-9FA2-7CDC071A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48EB3B-11EB-4026-A160-94026789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5EFCBC-98AE-45DC-A951-71EB14F8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C446-0F81-4579-BF42-D1F7C0C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B02085-120B-482D-BA38-09CC334A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91F6A1-60D2-4F89-B682-1C91E1C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BA657C-DC1F-46C2-9608-6BDFAF14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95551D1-5DEC-4F97-9F85-7F520BC3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406AA2-4AE3-4AFC-88F4-6C187865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963F49-342C-4147-9ED5-61425795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E201AE-8D02-4AD0-8616-6B919F49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04D00DE-075A-4FF2-8BC6-50B452F7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5C6C6C1-CF4F-4582-ADE4-CF3340E1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D74F03-560B-4DFA-B956-9E3148CA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9BD0-7203-40F8-877E-D3B77618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58EDC4-2802-46CB-BB77-8105430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0F8ADC-BD49-4CEB-A1F4-B45F2EF1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591EFA2-0AE2-409F-8AD4-EC5EECEA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777426-BBAD-43B2-9B87-4423EE8A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69018D-C261-4F65-970E-0FDFC2C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FD79DD7-0D95-42D2-9FC0-6F5C55D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B8217F-BD77-4342-BDEE-913C3FA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DCFF6D-7ED8-417A-89D2-C23857D6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1D90C98-89CE-4D76-8066-08135DB8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6D5A24-4960-443E-9AF9-6005EA0C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565F-6908-4BE7-B772-84B84BF9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7606A0C-0BAE-44A8-8705-E2318EB0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DE2AE5-E1FB-4B3F-9DA3-D02727F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BD7898-34E2-4F5B-A06F-41E846EA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95D2C4-052A-4BC0-A348-9924EAAC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9AE9F8-68A5-45FF-A697-621B61B2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C58244-446F-4376-83A0-89149E63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9146B4-8F77-47BF-AA7E-0AEDCFE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B83804-EB03-4073-8780-139390B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64F25D1-6DC1-4E92-AC16-DFE02637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FD8E21-55B8-42B4-92C4-8FAEF2A9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37F5-F7C7-41D0-BC77-7FDB00DB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7BA950-DC4B-433C-9483-B2EE5593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03F7-A053-42F4-99B9-DD38D347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7947-4707-4E82-B9FD-010B5B05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AB67-8225-474D-9A86-57D935D8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B830-9E60-4B45-8C8D-8110C482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7A9A-7A16-4389-9904-9AF4E44F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B1A-D0A9-49FC-B86E-0271FC44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3741-AF1D-4D3A-94C9-F94FCCE0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3A5D-F4E4-489A-A66E-052AF7B8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F599F-4FD1-4CB2-86EC-D50E1D8D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DF8A-AABB-4905-B327-7C2EF8D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5DE7-9317-4927-8803-563E8414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5EDB-6FF5-4AE4-A686-A68A35EC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53AD-94A2-4FFE-A2E1-B48BEF00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68FA-BABD-47A8-993D-47CF8623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EC219-E19F-49B3-9C03-B88C3D6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1148-883F-4FDD-BF02-8B942E57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E1A-1372-4A71-8F5D-C8EB3CFF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D728-7569-4C8B-9B94-F00D687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324D-3CFB-4E60-991F-D961228E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2FDE-5F63-45C8-BA89-C5CFC74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E259-3357-4106-9267-E814820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2075-E7FD-47BA-92E4-E4605F4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3BA3-5AE5-4F61-ABA4-23602A1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C53A-6F22-4C3B-9FED-50E56AD3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7A7E4-E224-49BB-8F05-0BC7F1E2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C9B2-CADE-4985-8223-17F8143A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745D9-6257-43EB-9AA7-FB62E751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052-BDC3-4CE2-A3F3-8C21803C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033F-0360-4CBD-BA24-29D55A9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5C6E4-FF31-445F-A866-282391E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B5A35-6C32-47DA-B2EF-1A66FE45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C2BA-1898-4BF0-A2F8-7CBD5883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FF052-6C5B-4312-BC8F-2A94EBAE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3DF7-C5E6-4B52-B21F-74DF834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CD1D-0D60-4E39-B155-EB98A9BA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ACAA3-CFD1-4D62-9FD7-CA51F69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DC66-DC25-4D86-B0B2-D96B4470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EEDA-BFA1-4CA3-BDE7-4610D54D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66E-EF06-40F9-A27C-88C623CC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C5944-64C2-4A63-8387-7CB7B297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96AEA-0895-4D46-990A-A2E8949E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B3ACC-7B9D-48BB-A644-5BFBF32E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7678-7C95-4A33-B863-F003E15B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91B4-651B-466D-B419-D6F33CB9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D98F9-1F3A-4BC6-A39D-9B1E6EE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E4E98-E30F-4767-9CD4-A108D0D4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44EC-4D8A-45D3-AA0A-E028F19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A02C-5110-4D97-BAC2-5963A7F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FC293-5A48-46E0-9E38-077A30AB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E13-AAED-48EF-805E-01F1B466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5EFB-59EB-4FAC-A35E-2667849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CB9F-097A-4FE4-A664-8A890E8A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42350-190B-475A-8B8D-96361BCB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24AC30-534C-4FC0-89FE-D80C64F121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83CCE7-F3B3-4371-90C3-C21F348A9A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E3120-5683-4B16-8213-BC9DEE36CD4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4173E1-03D0-43E1-B6E4-E7E255042A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BE5542-DD58-443A-9D50-EEC5A81D02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DC964-2E80-41A0-95E1-73ED26D040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0E68E3-05B6-4AD4-AAB8-ACEBB9DDB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71E-EC07-4A0B-8A79-6ED1DC5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E4D991-6899-4402-AF63-97080B09CF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B4ADE-CB61-4635-B1D1-0E69350399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9C6737-E4A4-483E-9002-E8AD12FC01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CA54E4-1D2F-468B-BA29-26747FA6CB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9B209-FDDF-4D18-9504-552C79A457E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AC29C9-FA9F-44C7-8D50-911BC7BD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6DB900-FC8D-4F5B-BE1C-FC8E63DB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DC6F98-E8CD-4E7C-B66A-D7ED4B4C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6B3564-8153-4C51-BE42-9BE6DB38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1F97F4-A6D4-437B-88CA-7BC6503B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FCD-C14B-4C96-9E67-A9ED34AF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6AD58A-CD2B-49AE-ACFE-9E8531EF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6B4805-C156-40C8-B1D6-610EDD89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C5DD66-EA80-44EA-9412-701D9049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17BFB4-0461-46D6-A2CD-E4B28E1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7EEF4-8BEC-4EBF-AD01-D08D841C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0B770-DF29-4C94-B008-87F0D1D0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D6A19-A1CD-48E9-A089-B96E65E9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B1D68-9515-48E6-B808-A8EFA24E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4D69A-E226-4E44-9CBB-342ED481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B407A-DB19-461D-9493-38B62779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002B3-34EE-481C-AEC4-61CB184E0544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BC5A4-EE5C-4B31-B702-7BAAB5CE227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4DFA5-9AED-4B4D-BA75-BDEC50DFC37C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FBB1C-B1AC-45D0-8B7E-4168CB42EA5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2D398-C644-468A-9C72-FEB82F784B5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D7CCA-6A40-47E3-ABBD-FC9EB5BFC1C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B1A4E-845C-4E9B-A79B-F0CECAF9D99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3BC33-9392-489D-A4A0-E0A36BAA70C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E7C21-8F28-4FD6-ACC4-55BF0B60D7A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2340C-3D48-411F-801E-1D8AA124BA8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C25F2-BB2D-4EF8-AD44-E2CD0700AF56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2EBDA-8670-43EB-A77E-5A5809872C1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15DE1-70B4-4F4F-8E21-0F0ECE7FB72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8086A-11F8-4F90-A2CF-1405B7E12F6C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10C29-10B7-48A5-B1E3-952AF07E0796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557E1-7F76-4C0C-919D-05FD845D253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8FFEF-206C-4385-8520-0AE10D06ABB2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FC11D-5EB5-4B0F-96B8-D890CE183F2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19910-8636-4F08-A1D6-ACA82A83916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D38FB-64B1-40D1-BBA5-79C72CC85C7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348A1-F46E-4B81-B8D0-233C752348F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CB240-4D88-45CF-B856-91011F03165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62948-97E1-4BCE-B877-4A0FC89A8E4D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B2C5E-94D8-4621-8854-3D6C2D21CC67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39FAD-4F07-4B12-BA15-DF617EF43C6B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7CCF5-104E-4FC6-9358-1A6E8939CC37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AD7C3-10C7-40F3-BF86-4B7745C22036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25290-CDEC-48C2-A6CE-E065196B034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098CB-A8B1-4881-889C-2B093100BE9E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31050-6676-47D7-91D4-9BBD67D54347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2E787-44FC-4400-BE48-D32770ECE920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83407-0F16-4772-AB60-192D5BFCAFC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8750B-A269-4CCD-BA05-51CC5BB3F320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5B14F-5390-489A-A0C0-8B0B32E7BD0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C83D8-D476-4D42-BBB8-FE534D1EB9E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D9FD3-981E-4E45-94D0-1E72F5F40A9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91BBD-111E-44BF-8281-E73E9D99934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463CA-A130-4A8F-ABAD-F1BCA56B503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897E1-53C5-4138-9700-1FE8874179D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00040" y="4172040"/>
            <a:ext cx="545796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90000"/>
                </a:solidFill>
                <a:latin typeface="Century Gothic"/>
              </a:rPr>
              <a:t>Connecting to Employers</a:t>
            </a:r>
            <a:endParaRPr b="0" lang="en-US" sz="41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200040" y="5257800"/>
            <a:ext cx="545796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Understanding the Employer Customer and Creating and Implementing an Outreach Plan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rusted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ir network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Networks of good employe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rough their own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en Recrui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tes and sources where they’ve found success befo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Quick Quality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ith Minimal Hassl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e within 24 hou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 has quality resume, is prepared for interview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ive to employer proces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inimal paperwork, especially at the beginning of the proce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ngle point of contact from your agency/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It’s About Relationships!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2235240" y="2320920"/>
            <a:ext cx="41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lationships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</a:t>
            </a: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tru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Quality work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Understanding of employer nee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sistent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aking/keeping commit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 1 way to build trust is to fill jobs quickly and with minimal hassl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2 way is to build relationships, not focus on transactions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Building a Relationship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arget the right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their industry, issues, needs and process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e strategic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cus on the relationship, not on the transac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cument, document, document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09680" y="3428640"/>
            <a:ext cx="496584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Developing an Outreach Plan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argeting Employ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mall vs. Large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and industries/occup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b seeker goal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Initial research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employers in your area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o have you worked with before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Google Maps Search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Of these employers, </a:t>
            </a:r>
            <a:r>
              <a:rPr b="1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who is hiring</a:t>
            </a: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Job postings—in Jobs4Jersey, on their website, on other boar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llow the money”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Char char="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at job openings do they have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key decision-makers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-Suite and Directo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Avoid HR if possibl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member many small companies don’t have HR.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velop Target Lis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Identify Top 25-30 employers in your area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most likely for you to get </a:t>
            </a:r>
            <a:r>
              <a:rPr b="1" lang="en-US" sz="2000" spc="-1" strike="noStrike" u="sng">
                <a:solidFill>
                  <a:srgbClr val="333333"/>
                </a:solidFill>
                <a:uFillTx/>
                <a:latin typeface="Century Gothic"/>
              </a:rPr>
              <a:t>placement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Analyz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do you already know about them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can you easily find out about them through more research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Do you have a relationship with them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the nature/quality of that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Focus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your efforts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</a:rPr>
              <a:t>Build Company Profiles</a:t>
            </a:r>
            <a:endParaRPr b="0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Company Basic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location, # of employees, etc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Decision-Mak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Work Environment/Company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Employment Success Facto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cruitment &amp; Hiring Practi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ferral Preferen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lationship history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Job Development” in the New Economy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employer needs/requireme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the recruitment process from the employer persp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uilding relationshi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onstrating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ing customers to sell their own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wo Relationship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Existing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your current relationship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s worked/hasn’t worked? 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build the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uild your network--“Who else should I be talking to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New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use your network to get connected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get a “face-to-face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ere can you immediately provide them with a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quality 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ferra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other information/resources could you offer to begin building trust and goodwil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Resources for Building Profiles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pany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mpany Profiles and Grou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nnec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Google Searches/Aler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ing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formational interview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nd and Connect to Recruiters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&amp; Hiring Manag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vents/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Society for Human Resource Managers (SHRM)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Industry/Occupational 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hambers of Commerc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ferenc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64832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LinkedIn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witter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mpany websites/blo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mail lists/newslett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Listen and Documen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/read what they po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in their groups to see what they’re discus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gn up for their newslet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be for “pain”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ment and R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ide resources, information that solve problems and address their “pain” poi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them to people and resour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nswer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Engag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lling Existing Need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t up strategies for each company to be notified of job openings. (Company website, Google Alerts, etc.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r each job opening, work with job seeker to “complete the T” (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Refer to next slide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ke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customer to sell him/herself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-up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mpleting 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view job posting and/or company info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dentify employer needs, relevant keyword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job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company/cultur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ll in job seeker info to complete the 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’t complete The T—DON’T APPLY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, complete your resum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Picture 9.png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Picture 11.png"/>
          <p:cNvPicPr/>
          <p:nvPr/>
        </p:nvPicPr>
        <p:blipFill>
          <a:blip r:embed="rId1"/>
          <a:stretch/>
        </p:blipFill>
        <p:spPr>
          <a:xfrm>
            <a:off x="2195640" y="1036800"/>
            <a:ext cx="5043240" cy="529416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penings for the Right Candidat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tch between company needs and applicant skills/experience/personal characteristic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old on applicant through personal contact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asier through network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pic>
        <p:nvPicPr>
          <p:cNvPr id="904" name="Picture 8" descr=""/>
          <p:cNvPicPr/>
          <p:nvPr/>
        </p:nvPicPr>
        <p:blipFill>
          <a:blip r:embed="rId1"/>
          <a:stretch/>
        </p:blipFill>
        <p:spPr>
          <a:xfrm>
            <a:off x="2968560" y="4029120"/>
            <a:ext cx="3051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91840" y="3428640"/>
            <a:ext cx="658332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The Hiring Environment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reating Opening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pain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addresses pain or solves problem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matches culture/skill needs of the 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applicant to sell him/herself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 NOT refer to “job carving” or other industry jargon!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Ongoing 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Relationship-Building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rack and share industry-related articles targeted to your employers’ need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with them on LinkedIn to keep track of and acknowledge professional accomplishments and mileston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ail “tickler” file—keep in ongoing contact. Check in even when you don’t need something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member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70784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ployers are PEOPLE. Connect with them as people, not as a means to an end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nd ways to personalize the connection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hank you not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irthday greetin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spond to achievements/accomplish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eet them for coffe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STEN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do their jobs bett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look good to their bo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ocumenting &amp; Sharing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using Google Docs or a Wiki to document and share your ongoing work with employers with co-worker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CRM software to manage contacts (Salesforce is $15/month for up to 5 users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nsider Microenterpris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57200" y="22093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lf-employment with minimal start-up cos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interests/passions of jobseek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ultiple income streams=more reliable route to self-sufficiency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ore cost-eff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creases self-esteem and motiv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(Archived webinar on microenterprise at www.discoverabilitynj.org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Less Pressure to Hir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2" name="Picture 3" descr="Picture 47.png"/>
          <p:cNvPicPr/>
          <p:nvPr/>
        </p:nvPicPr>
        <p:blipFill>
          <a:blip r:embed="rId1"/>
          <a:stretch/>
        </p:blipFill>
        <p:spPr>
          <a:xfrm>
            <a:off x="1420920" y="1486080"/>
            <a:ext cx="64054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Too Many Applicants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4" name="Picture 4" descr=""/>
          <p:cNvPicPr/>
          <p:nvPr/>
        </p:nvPicPr>
        <p:blipFill>
          <a:blip r:embed="rId1"/>
          <a:stretch/>
        </p:blipFill>
        <p:spPr>
          <a:xfrm>
            <a:off x="677880" y="1486080"/>
            <a:ext cx="7210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0" descr="Picture 46.png"/>
          <p:cNvPicPr/>
          <p:nvPr/>
        </p:nvPicPr>
        <p:blipFill>
          <a:blip r:embed="rId1"/>
          <a:stretch/>
        </p:blipFill>
        <p:spPr>
          <a:xfrm>
            <a:off x="457200" y="60804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71840" y="2921040"/>
            <a:ext cx="2971800" cy="26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Multiple Hiring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Employers Try to Manage Recruitment by. . . 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utting off 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-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iring from referrals without widely adverti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oaching from other compani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What Do They Look For? 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2342880"/>
            <a:ext cx="778356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alified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s </a:t>
            </a:r>
            <a:r>
              <a:rPr b="0" lang="en-US" sz="3200" spc="-1" strike="noStrike">
                <a:solidFill>
                  <a:srgbClr val="333333"/>
                </a:solidFill>
                <a:latin typeface="Century Gothic"/>
              </a:rPr>
              <a:t>from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trusted source,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ferred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ickly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th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minimal hassl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working with organizations, they also prefer a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single point of contact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What Does “Qualified” Mean?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as direct work experience, preferably recen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quired education/certific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ll “add value” from Day On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organizational/corporate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team/departmen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07:14Z</dcterms:created>
  <dc:creator>Michele Martin</dc:creator>
  <dc:description/>
  <dc:language>en-US</dc:language>
  <cp:lastModifiedBy>Michele Martin</cp:lastModifiedBy>
  <dcterms:modified xsi:type="dcterms:W3CDTF">2012-09-19T13:44:50Z</dcterms:modified>
  <cp:revision>16</cp:revision>
  <dc:subject/>
  <dc:title>Asset-Based Assessment and Planning</dc:title>
</cp:coreProperties>
</file>