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notesSlides/_rels/notesSlide2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</p:sldMasterIdLst>
  <p:notesMasterIdLst>
    <p:notesMasterId r:id="rId22"/>
  </p:notes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  <p:sldId id="267" r:id="rId34"/>
    <p:sldId id="268" r:id="rId35"/>
    <p:sldId id="269" r:id="rId36"/>
    <p:sldId id="270" r:id="rId37"/>
    <p:sldId id="271" r:id="rId38"/>
    <p:sldId id="272" r:id="rId39"/>
    <p:sldId id="273" r:id="rId40"/>
    <p:sldId id="274" r:id="rId41"/>
    <p:sldId id="275" r:id="rId42"/>
    <p:sldId id="276" r:id="rId43"/>
    <p:sldId id="277" r:id="rId44"/>
    <p:sldId id="278" r:id="rId45"/>
    <p:sldId id="279" r:id="rId46"/>
    <p:sldId id="280" r:id="rId47"/>
    <p:sldId id="281" r:id="rId48"/>
    <p:sldId id="282" r:id="rId49"/>
    <p:sldId id="283" r:id="rId50"/>
    <p:sldId id="284" r:id="rId51"/>
    <p:sldId id="285" r:id="rId52"/>
    <p:sldId id="286" r:id="rId53"/>
    <p:sldId id="287" r:id="rId54"/>
    <p:sldId id="288" r:id="rId55"/>
    <p:sldId id="289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notesMaster" Target="notesMasters/notesMaster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slide" Target="slides/slide12.xml"/><Relationship Id="rId35" Type="http://schemas.openxmlformats.org/officeDocument/2006/relationships/slide" Target="slides/slide13.xml"/><Relationship Id="rId36" Type="http://schemas.openxmlformats.org/officeDocument/2006/relationships/slide" Target="slides/slide14.xml"/><Relationship Id="rId37" Type="http://schemas.openxmlformats.org/officeDocument/2006/relationships/slide" Target="slides/slide15.xml"/><Relationship Id="rId38" Type="http://schemas.openxmlformats.org/officeDocument/2006/relationships/slide" Target="slides/slide16.xml"/><Relationship Id="rId39" Type="http://schemas.openxmlformats.org/officeDocument/2006/relationships/slide" Target="slides/slide17.xml"/><Relationship Id="rId40" Type="http://schemas.openxmlformats.org/officeDocument/2006/relationships/slide" Target="slides/slide18.xml"/><Relationship Id="rId41" Type="http://schemas.openxmlformats.org/officeDocument/2006/relationships/slide" Target="slides/slide19.xml"/><Relationship Id="rId42" Type="http://schemas.openxmlformats.org/officeDocument/2006/relationships/slide" Target="slides/slide20.xml"/><Relationship Id="rId43" Type="http://schemas.openxmlformats.org/officeDocument/2006/relationships/slide" Target="slides/slide21.xml"/><Relationship Id="rId44" Type="http://schemas.openxmlformats.org/officeDocument/2006/relationships/slide" Target="slides/slide22.xml"/><Relationship Id="rId45" Type="http://schemas.openxmlformats.org/officeDocument/2006/relationships/slide" Target="slides/slide23.xml"/><Relationship Id="rId46" Type="http://schemas.openxmlformats.org/officeDocument/2006/relationships/slide" Target="slides/slide24.xml"/><Relationship Id="rId47" Type="http://schemas.openxmlformats.org/officeDocument/2006/relationships/slide" Target="slides/slide25.xml"/><Relationship Id="rId48" Type="http://schemas.openxmlformats.org/officeDocument/2006/relationships/slide" Target="slides/slide26.xml"/><Relationship Id="rId49" Type="http://schemas.openxmlformats.org/officeDocument/2006/relationships/slide" Target="slides/slide27.xml"/><Relationship Id="rId50" Type="http://schemas.openxmlformats.org/officeDocument/2006/relationships/slide" Target="slides/slide28.xml"/><Relationship Id="rId51" Type="http://schemas.openxmlformats.org/officeDocument/2006/relationships/slide" Target="slides/slide29.xml"/><Relationship Id="rId52" Type="http://schemas.openxmlformats.org/officeDocument/2006/relationships/slide" Target="slides/slide30.xml"/><Relationship Id="rId53" Type="http://schemas.openxmlformats.org/officeDocument/2006/relationships/slide" Target="slides/slide31.xml"/><Relationship Id="rId54" Type="http://schemas.openxmlformats.org/officeDocument/2006/relationships/slide" Target="slides/slide32.xml"/><Relationship Id="rId55" Type="http://schemas.openxmlformats.org/officeDocument/2006/relationships/slide" Target="slides/slide33.xml"/><Relationship Id="rId56" Type="http://schemas.openxmlformats.org/officeDocument/2006/relationships/slide" Target="slides/slide34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dt" idx="5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09D120E-6588-436D-BCAA-F1CB0C41816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Century Gothic"/>
              </a:rPr>
              <a:t>Click to move the slide</a:t>
            </a: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 type="ftr" idx="6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PlaceHolder 6"/>
          <p:cNvSpPr>
            <a:spLocks noGrp="1"/>
          </p:cNvSpPr>
          <p:nvPr>
            <p:ph type="sldNum" idx="6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4F5F383-D6C3-4728-8488-BD661A10F3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27EE9C-8CFE-4633-B9E9-09DA4F3CDF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BD013F-D415-45FB-BBEC-DE864D1688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ewer job openings plus highly qualified applicants begging for jobs. Plus, in many cases, they have current employees who are afraid of losing their jobs pick up the slack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F02409-27E8-4770-B2A4-84AFCF8718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they do advertise for jobs, ost employers are buried in resumes and applic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ore entry-level the job, the people who app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 all companies have HR managers to manage this eith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51F27FE-1DEC-4C38-8FD0-2678B7D3A2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A24E710-4610-41D6-A48C-DEAC49594A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gener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1E2A251-CA75-4AFE-BB35-FA5DDEDA8D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B9DA1-8708-45A7-AF97-09AD1598D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5520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7C733-6BD0-42A9-838C-68B624486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19BE315-151E-4488-8976-41CA772FE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5B3E3D9-383D-4B90-8C5E-5AFEF178C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6508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949B74A-BD5B-4C84-905E-ED793D491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FB89D7F-E59B-4435-94D3-989314391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37926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E40E17F-A6E9-425E-823A-EF81F7F93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24EE1C6-ADD4-4492-928E-987B2145B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57200" y="425520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BE7A372-6447-47BD-A702-BF1BA1E03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37926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26CC037-6E5B-466F-BA90-0D37C9162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265788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85856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5720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265788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485856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99A6E62-98DF-4825-8AFE-D24AEAB5A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798D1B3-E9EC-44D5-9875-3A69E59EA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7926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2858D-0D11-4D94-8D79-F7EF6DAD9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0555FFA-E2CF-4880-9E85-CA748DDF2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D555CE5-0254-4949-80AE-E44F784FA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43C1FF7-3A5A-42BE-BA69-86DA5E33E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32E28B9-4A68-4D57-A8BA-7329ED9B9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6508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4A3FB2C-ABD1-4777-BD44-C8B401B2D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21A018F-A8DF-4F7C-B9F0-FA25F1E92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37926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1C074A2-6EE9-40C2-AB69-52A4C8956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DE337DF-1910-4515-BF9C-EB1CEECD1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57200" y="425520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1B7AC8F-0162-49D2-8D84-5CE08E13C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37926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F76B001-87EF-443F-B266-EF3D791A9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5788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5856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5788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85856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4744D-19C9-4E0F-AC40-52B12CF0C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265788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85856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5720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265788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485856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65AB766-CA2E-49D4-9E26-4C812A753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ECFC533-C600-45FA-BFC7-E17A47BB0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A455C2B-477E-468E-8E85-13A4CC97C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6C6F577-59D0-4348-822F-F34AA5A5D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33AFED5-4C49-4CA0-9DA5-EFBD5559C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6A954CF-6EDD-4169-9D5A-C8CD9002E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6508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9F802E5-CCC7-471B-907A-076E7A2B6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84A411B-A711-4A6A-B29E-38C88270D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37926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CB8E800-09DE-4292-9A73-5504F9531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10E3FCA-E94C-4AB9-A33F-4C0390A7C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41A7C-F2A0-4E57-9957-FEA2D35D7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57200" y="425520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FF92F49-BBDA-49E4-9EC2-21D4C9B70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37926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EC85BAF-C362-48F7-81A1-ED511C87E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265788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85856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5720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265788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485856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8705A11-8F1A-49E9-8EFC-13AF6DAD9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B8CE47E-D75B-4495-B650-2E8DF6296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6FB285B-51E1-415F-91B1-C94B89EEB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68E5629-4906-4327-868A-2FD0F9EAB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0B6082A-50AA-4251-BDC6-05915CF2E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01ACA43-8205-4C4F-BC7C-5F74DEE13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6508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8048D78-0CB0-481D-B667-F8AB25AAB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57DA332-1D48-484A-9206-B850DA2AC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53D86-DEC3-442E-8657-2832AA995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37926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0A099FB-B204-4991-860C-A5A6F65C3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B03D6D4-EC39-4AA8-B9FD-82EE47EAF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57200" y="425520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BAE1EEC-4978-414D-B28B-25EBA7BA4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37926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5B763A5-661E-4C0B-8409-F1B867E7F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265788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85856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5720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265788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485856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C48B722-8919-4DD0-8555-A96DF042B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30664F82-502F-4BF1-8E84-39303D78A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subTitle"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3C58BEA8-585B-4B23-9E3D-E3DA44B7E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1AE49825-D475-4A26-987B-6FD1EFADD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6932255C-4BBA-45B6-8E08-1E86EB7AE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4CF98EE1-9B2F-4603-9305-3F6AE508F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FAD80-25B2-49CE-8027-02566EF6A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6508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F89911C9-3C39-4DE6-87A7-D6280B867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DF9F91DF-402A-4A31-9EF2-8A6B9A019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37926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D7B3550D-8855-4844-B0BB-24EB3F633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BF0F3973-7652-4DD6-9F35-D77165B6D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57200" y="425520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656852EE-A5EE-4BC4-A639-597A2E4BE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37926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97153F35-7729-4A3F-B1FB-ED81D356B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265788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85856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45720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43" name="PlaceHolder 6"/>
          <p:cNvSpPr>
            <a:spLocks noGrp="1"/>
          </p:cNvSpPr>
          <p:nvPr>
            <p:ph/>
          </p:nvPr>
        </p:nvSpPr>
        <p:spPr>
          <a:xfrm>
            <a:off x="265788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44" name="PlaceHolder 7"/>
          <p:cNvSpPr>
            <a:spLocks noGrp="1"/>
          </p:cNvSpPr>
          <p:nvPr>
            <p:ph/>
          </p:nvPr>
        </p:nvSpPr>
        <p:spPr>
          <a:xfrm>
            <a:off x="485856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D234C79C-0D58-4DC8-92ED-3E5FB8512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1DE73351-FC1F-4F11-A92E-273FAB96C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subTitle"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C232F304-630E-4E54-B58B-7DF90F5FA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936B521F-7A8E-4B9A-BF1C-9927F4A46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52A8F-AB80-4204-A473-4427359EC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712E5C37-5BE8-4263-8EA5-80DFC3182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07F5546A-8769-4660-98BB-48D7767E3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6508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2D508D74-97F4-4D00-A7CF-104B984C6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319A78A6-21E5-4884-BE29-072165DD1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37926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7F638A24-4169-4DE0-A6FB-8BA71B599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3B8C862F-D4BB-4066-A18D-436ED519F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57200" y="425520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EC4C8623-BEF4-4EC5-8064-7045A1B7A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/>
          </p:nvPr>
        </p:nvSpPr>
        <p:spPr>
          <a:xfrm>
            <a:off x="37926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C12C207D-9E74-4BE0-B5AB-4C3211F12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265788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85856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/>
          </p:nvPr>
        </p:nvSpPr>
        <p:spPr>
          <a:xfrm>
            <a:off x="45720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85" name="PlaceHolder 6"/>
          <p:cNvSpPr>
            <a:spLocks noGrp="1"/>
          </p:cNvSpPr>
          <p:nvPr>
            <p:ph/>
          </p:nvPr>
        </p:nvSpPr>
        <p:spPr>
          <a:xfrm>
            <a:off x="265788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86" name="PlaceHolder 7"/>
          <p:cNvSpPr>
            <a:spLocks noGrp="1"/>
          </p:cNvSpPr>
          <p:nvPr>
            <p:ph/>
          </p:nvPr>
        </p:nvSpPr>
        <p:spPr>
          <a:xfrm>
            <a:off x="485856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7904031A-DF5B-40CE-AD2D-51C3126DB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CD3706E8-F9E8-414E-A19A-1F50F89BC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6C65F-9FC7-433C-88C2-0B8633A75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 type="subTitle"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A68A3973-7433-4560-8D8E-CA0F91476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3B092384-AA07-4E15-8099-89D2E6316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F1F4F156-5800-4057-A47D-61D652630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8F4EF69D-7E2D-4EAB-B5E6-465BA32D7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6508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A441994F-F387-43E7-B5F8-D0677BAF3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65224950-4C6D-4BA2-B084-A8E90EEE6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37926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41B47530-7880-44A3-9867-B4878CB6B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CFFB89F9-9285-4CDF-A02E-194395891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57200" y="425520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7AD9AE93-E79A-4B76-8E35-D9E16EB4C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/>
          </p:nvPr>
        </p:nvSpPr>
        <p:spPr>
          <a:xfrm>
            <a:off x="37926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222F0D90-A1F2-45D1-8D32-A8711BE1B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6508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DC993-6EFF-479F-8966-8FC6ED032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265788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485856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26" name="PlaceHolder 5"/>
          <p:cNvSpPr>
            <a:spLocks noGrp="1"/>
          </p:cNvSpPr>
          <p:nvPr>
            <p:ph/>
          </p:nvPr>
        </p:nvSpPr>
        <p:spPr>
          <a:xfrm>
            <a:off x="45720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27" name="PlaceHolder 6"/>
          <p:cNvSpPr>
            <a:spLocks noGrp="1"/>
          </p:cNvSpPr>
          <p:nvPr>
            <p:ph/>
          </p:nvPr>
        </p:nvSpPr>
        <p:spPr>
          <a:xfrm>
            <a:off x="265788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28" name="PlaceHolder 7"/>
          <p:cNvSpPr>
            <a:spLocks noGrp="1"/>
          </p:cNvSpPr>
          <p:nvPr>
            <p:ph/>
          </p:nvPr>
        </p:nvSpPr>
        <p:spPr>
          <a:xfrm>
            <a:off x="485856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B3603F7B-6198-43EA-92FA-F346BA358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70C2D316-E1AF-4FAF-85CA-FAE232B84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 type="subTitle"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3A1B04BC-B084-491F-B1AE-0D9537059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8D917846-4EFB-412C-8CDB-DD29B487E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59ADDDF7-ACB3-4560-8C28-95CEC2917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7CCD1861-49B2-4382-AAD1-701DA0843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6508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F007FEA6-32C9-4061-84A7-5EBBD4EC2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FF4D5214-E09C-45C7-8EC6-F825B6FA6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37926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03414CBF-0661-4AFD-A9C9-4D51D00F1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E75F95E4-CD00-4F39-822A-9DD54B023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D1B48-E796-46EE-A7C6-1FC4C2F90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57200" y="425520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1024F00B-09B6-4D18-9ECB-39F92C182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63" name="PlaceHolder 5"/>
          <p:cNvSpPr>
            <a:spLocks noGrp="1"/>
          </p:cNvSpPr>
          <p:nvPr>
            <p:ph/>
          </p:nvPr>
        </p:nvSpPr>
        <p:spPr>
          <a:xfrm>
            <a:off x="37926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5703EBB1-DCBA-4FBA-B764-49A0F250F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265788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485856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5720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69" name="PlaceHolder 6"/>
          <p:cNvSpPr>
            <a:spLocks noGrp="1"/>
          </p:cNvSpPr>
          <p:nvPr>
            <p:ph/>
          </p:nvPr>
        </p:nvSpPr>
        <p:spPr>
          <a:xfrm>
            <a:off x="265788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70" name="PlaceHolder 7"/>
          <p:cNvSpPr>
            <a:spLocks noGrp="1"/>
          </p:cNvSpPr>
          <p:nvPr>
            <p:ph/>
          </p:nvPr>
        </p:nvSpPr>
        <p:spPr>
          <a:xfrm>
            <a:off x="485856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50A87426-04EC-443F-9156-2777D4EFF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97C9E7BD-DF58-4CF8-8131-F5F5B9DC2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 type="subTitle"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0B147ED0-2B9B-47B9-B8E3-ADBA65EEE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FB608017-805B-4BC3-B7F6-EB7592253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BE6DB59C-BCAA-4E3A-87CB-32D1BB96B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B07D26CC-456F-4FC1-A451-B5B99C474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6508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672DEE7D-D564-4B1A-A45D-31D04A09A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18BFEAEE-4B34-415D-807C-D6AEC1D99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0059C-A750-4DC9-8137-7719F7C7A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7926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A0635-F16D-49A9-BFEC-27A8E68A9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37926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4B0593BD-9933-4CDF-9B47-0133FE4E9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856B3393-072F-4998-908C-A70E9B06D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57200" y="425520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41FD7497-7C8F-4092-A033-03180CD15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05" name="PlaceHolder 5"/>
          <p:cNvSpPr>
            <a:spLocks noGrp="1"/>
          </p:cNvSpPr>
          <p:nvPr>
            <p:ph/>
          </p:nvPr>
        </p:nvSpPr>
        <p:spPr>
          <a:xfrm>
            <a:off x="37926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94ADD231-4AC9-4D6D-AEBF-80300A152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265788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485856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10" name="PlaceHolder 5"/>
          <p:cNvSpPr>
            <a:spLocks noGrp="1"/>
          </p:cNvSpPr>
          <p:nvPr>
            <p:ph/>
          </p:nvPr>
        </p:nvSpPr>
        <p:spPr>
          <a:xfrm>
            <a:off x="45720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11" name="PlaceHolder 6"/>
          <p:cNvSpPr>
            <a:spLocks noGrp="1"/>
          </p:cNvSpPr>
          <p:nvPr>
            <p:ph/>
          </p:nvPr>
        </p:nvSpPr>
        <p:spPr>
          <a:xfrm>
            <a:off x="265788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12" name="PlaceHolder 7"/>
          <p:cNvSpPr>
            <a:spLocks noGrp="1"/>
          </p:cNvSpPr>
          <p:nvPr>
            <p:ph/>
          </p:nvPr>
        </p:nvSpPr>
        <p:spPr>
          <a:xfrm>
            <a:off x="485856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EF99141A-3A3C-4A86-8AC1-C67C92EA0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4C15AB0E-ACF7-4707-A56E-E99E99084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subTitle"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1DFFE9D7-3DE9-4DDB-80E8-58BFEDAC6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0EBBE30A-F2C5-4540-90D6-21C7923AB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F2220728-9FF8-4F74-85C9-E841AD4B4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C7F6CA3D-FAF5-4CE5-A304-8E3803135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42329-1445-41BE-855B-BF0697B49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6508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6DB08D4C-3FCF-4DA5-8048-8E064E724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A64DE993-788F-4B31-BA4D-0F3C3098A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37926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B4AC5C23-524C-4999-B14D-222E789AA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322E887D-FB3E-49DC-82C7-18A5DF70A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457200" y="425520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8E0F1AAC-257E-4C8F-B530-77C790D0D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47" name="PlaceHolder 5"/>
          <p:cNvSpPr>
            <a:spLocks noGrp="1"/>
          </p:cNvSpPr>
          <p:nvPr>
            <p:ph/>
          </p:nvPr>
        </p:nvSpPr>
        <p:spPr>
          <a:xfrm>
            <a:off x="37926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A7D9DE39-7820-4A31-AE2B-EB16BCFC3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265788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85856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5720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53" name="PlaceHolder 6"/>
          <p:cNvSpPr>
            <a:spLocks noGrp="1"/>
          </p:cNvSpPr>
          <p:nvPr>
            <p:ph/>
          </p:nvPr>
        </p:nvSpPr>
        <p:spPr>
          <a:xfrm>
            <a:off x="265788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54" name="PlaceHolder 7"/>
          <p:cNvSpPr>
            <a:spLocks noGrp="1"/>
          </p:cNvSpPr>
          <p:nvPr>
            <p:ph/>
          </p:nvPr>
        </p:nvSpPr>
        <p:spPr>
          <a:xfrm>
            <a:off x="485856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B2692E9E-5900-40D7-9F54-D5180EDEE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4EEDC34C-E1F8-4A25-B31C-534B0776F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subTitle"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D124922A-EEA6-4B41-8317-9336BF0DB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FD15E2FE-9BB0-4F66-B550-4562D7F09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425520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643BB-775E-4CBB-8196-464789424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63116B88-D505-4755-81E7-7DCAF4003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C35D12AC-89CD-4D98-AC18-942299B51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6508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FEE5EB5A-AA9A-4408-8664-85661FC0F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036BC7D8-0FAA-4FE3-8F6A-3D3E34FF9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37926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8F173052-A6C0-4BDA-BE2D-AEF893F4D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0B6F7428-DB96-4814-9EE7-7E93BDCD5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57200" y="425520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931A18FF-F14B-409F-ABDF-687CB8E77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89" name="PlaceHolder 5"/>
          <p:cNvSpPr>
            <a:spLocks noGrp="1"/>
          </p:cNvSpPr>
          <p:nvPr>
            <p:ph/>
          </p:nvPr>
        </p:nvSpPr>
        <p:spPr>
          <a:xfrm>
            <a:off x="37926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C8A19454-07AF-45B3-83C0-D2F049224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265788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/>
          </p:nvPr>
        </p:nvSpPr>
        <p:spPr>
          <a:xfrm>
            <a:off x="485856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/>
          </p:nvPr>
        </p:nvSpPr>
        <p:spPr>
          <a:xfrm>
            <a:off x="45720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95" name="PlaceHolder 6"/>
          <p:cNvSpPr>
            <a:spLocks noGrp="1"/>
          </p:cNvSpPr>
          <p:nvPr>
            <p:ph/>
          </p:nvPr>
        </p:nvSpPr>
        <p:spPr>
          <a:xfrm>
            <a:off x="265788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96" name="PlaceHolder 7"/>
          <p:cNvSpPr>
            <a:spLocks noGrp="1"/>
          </p:cNvSpPr>
          <p:nvPr>
            <p:ph/>
          </p:nvPr>
        </p:nvSpPr>
        <p:spPr>
          <a:xfrm>
            <a:off x="485856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E282B6DD-F851-446F-8FD7-BBDC694EE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D2C1CC0D-8399-46AC-B906-E21C6A274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37926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9D647-557C-4EB2-90FD-CD22DC5F3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 type="subTitle"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6CF08343-21F9-4F9D-A137-F682098FF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3F6A33F5-AA59-4525-87F7-F22E71004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26CC6A27-8FCC-4BD2-951D-93834495D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588AF00F-46B9-499E-BF77-C150C4DFD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6508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F5F1B947-D001-44B1-BAA4-A2A38CF4B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647AF4B5-0218-46A4-9328-65FD08A04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819" name="PlaceHolder 4"/>
          <p:cNvSpPr>
            <a:spLocks noGrp="1"/>
          </p:cNvSpPr>
          <p:nvPr>
            <p:ph/>
          </p:nvPr>
        </p:nvSpPr>
        <p:spPr>
          <a:xfrm>
            <a:off x="37926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CCD028BB-A8B3-4C24-A97F-3A5C91756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EBDC3373-2843-4C8A-B2BD-2C946D70C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457200" y="425520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A895C3B7-88F0-41A7-BDA3-5A42A7FCC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830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831" name="PlaceHolder 5"/>
          <p:cNvSpPr>
            <a:spLocks noGrp="1"/>
          </p:cNvSpPr>
          <p:nvPr>
            <p:ph/>
          </p:nvPr>
        </p:nvSpPr>
        <p:spPr>
          <a:xfrm>
            <a:off x="37926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BDE87174-90AB-4BA1-BADF-369922DC1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265788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5856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265788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485856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5F151-A7A9-4886-B5F6-B69476AF8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265788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485856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836" name="PlaceHolder 5"/>
          <p:cNvSpPr>
            <a:spLocks noGrp="1"/>
          </p:cNvSpPr>
          <p:nvPr>
            <p:ph/>
          </p:nvPr>
        </p:nvSpPr>
        <p:spPr>
          <a:xfrm>
            <a:off x="45720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837" name="PlaceHolder 6"/>
          <p:cNvSpPr>
            <a:spLocks noGrp="1"/>
          </p:cNvSpPr>
          <p:nvPr>
            <p:ph/>
          </p:nvPr>
        </p:nvSpPr>
        <p:spPr>
          <a:xfrm>
            <a:off x="265788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838" name="PlaceHolder 7"/>
          <p:cNvSpPr>
            <a:spLocks noGrp="1"/>
          </p:cNvSpPr>
          <p:nvPr>
            <p:ph/>
          </p:nvPr>
        </p:nvSpPr>
        <p:spPr>
          <a:xfrm>
            <a:off x="485856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6D798301-4DE5-49E0-B242-187756357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4CB6E3-3EE2-456F-8736-4EA6AA076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1B7244-9019-4840-ABF3-904015E38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06625E-3FCB-4F9D-930B-B56FF1037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F24503-831C-4B39-8D18-12DC2D6C9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0C5707-E430-4239-85B8-9EE162E99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B5413-7E5A-4D82-804D-825A69B4E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6508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2CA78A-9236-4E7D-97B0-1D313F48D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C8C65C-90FE-4C02-B760-E25B1E9A1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37926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5D383D-CE8A-4874-8E13-2B84BCB39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FEED3C-2BF5-4609-A92E-603791EF3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425520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C43401-CE95-48B1-87CF-A8117BAEC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37926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55DDC8-A6D2-43DA-BE3E-29F2E697E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265788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85856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265788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485856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AD265E-FB7B-443F-BDC3-F262887D9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F8D84D-9EAE-4D9D-A137-0636CEE89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211C9C-B7AC-403F-A595-E5D54DCFF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6F825B-4B43-4981-A6C9-AF9B14258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AEAA6-9ADC-4C87-B24E-58EDC4D4F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7877E9-AE93-48E5-9A51-D70E82D55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42CD31-6898-422C-A025-C8042831C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6508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E6CC30-1E0D-4C1C-BFEA-30D51A11C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4914BB-C3FC-4B6C-9EDC-2333B081B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37926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42FE4E-1A90-41C8-AA15-95570B3AD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B55822-F835-44D8-9C02-87EF397A9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57200" y="425520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D10250-9935-45DE-B64C-F3AB56889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37926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DF84DE-F296-46DA-800F-72C2D49C7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265788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85856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5720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265788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485856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F5B155-C46D-4905-AB8A-3E43B8AF4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0DF8DC-9363-420C-9D7D-B6E00D46F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8B425-55C6-444D-8B35-444BC81C3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17F1D3-5287-4861-AD39-470B024F0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FBD005-C069-4B9C-A22C-4D889A9F7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6F0883-5048-4B1B-846C-429608364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6BB773-95C8-4C6E-B2AB-DE5844B23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6508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EEEAE6-B613-4BA8-99B9-D030066B4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81F63E-8A68-4E79-9FD4-CB4362D01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37926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8100FA-16CD-4935-8551-AFA49F31A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82811A-E222-44E3-8AC2-B545E9AB4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425520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44BE15-8152-4E2E-9E7B-D5B4026A5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37926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707039-7C19-4C60-B89F-85F79C303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6508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1F324-8FE1-4036-9144-47D3CE049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265788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85856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265788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485856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5EB0BC-B132-4F22-9D16-AA31242C7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B65E98-64C1-4F72-8CB1-71012A522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258D3B-0F4E-425D-8A08-6EEFA2D36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FD73F5-4BCA-44DC-AF2E-7FD2BE88F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013A4E-40B2-4D00-B38A-0ABFD6F10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658971-B312-43AA-A263-F36CA17C8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6508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8BC9D3-519D-488E-9BA1-CB60AC5C9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DF1300-12C8-441D-9A6C-0DB8C1B82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37926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74EE5F-0650-4F25-8876-25E5A85F4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74F8A7-C87C-4929-814F-C44ABAECA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E5F65-E374-44D7-B642-D19A331A6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57200" y="425520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63FF27-6E6D-48CD-978F-C551B31B0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37926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340065-3C80-4DA8-BAC8-7CD389A3D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265788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85856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5720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265788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485856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BB9479-283B-46F2-A4A4-1A0C6279D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41B9FE3-E70D-488E-9371-A2F45E3B0BCE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64920F7-9C80-412C-B526-FFBCA8652A9F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4CD9800-19A6-48D6-9D45-6D5C3D96075E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F1DED5B-A88E-4B1D-BDA8-3F2B6F42CA12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65068CB-22A9-4AC6-9BDE-FBCE334CED1D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6508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573D45F-41B3-41F8-86C9-44A5C33641C7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834A886-0601-4F54-A559-C587A49A40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7926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B4A3E-BE70-4507-B2B6-5057B66AE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37926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2EAF43C-3448-4D00-B86A-4D0D22F79115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AD8DCC6-BE7E-489C-8180-DC8A8C8BF2E9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425520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F07AE00-3D8D-4905-BBD6-CCA7A91D8C41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37926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8BFCC2E-FCEE-4D1D-B3B1-E9CBD8E09E4A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265788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85856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265788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485856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AB84330-326F-4484-9366-F90D1C3C5D86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318BCF1-6052-411E-84A0-7346B9D5E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5276498-5F4E-49D9-BC23-EAAC9AE15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78F094E-F150-49B4-A814-EB79D6947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76B3A91-6BF1-4B51-ABF8-83F8802BC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08C98AC-10C5-4FFE-9D4F-1B1B796E2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DB8A7-6CE7-4127-8B8A-3E16EC6B6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6508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0C16AE3-394D-4B13-B670-ED43C6DA4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9E7BFF7-5C42-4EFC-8C20-2AFEA8CC6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37926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23659BA-9C5A-4730-8F3E-246998B0D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2DF02A5-218F-4A05-97DB-98679E65B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425520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32DA14A-04E0-423A-9497-9E6571CD7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37926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C619D1C-9D50-4140-B2DB-640ACCC12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265788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85856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265788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485856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7F7F028-DE69-4CDC-9866-7C8B6D95C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CCAAEB4-8422-406B-8C37-C2178277C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4E9794B-CE2B-460B-B415-9B6FCF42D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BDF3287-3545-4CFB-A90F-CF9CF118A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1" marL="457200" indent="-228600">
              <a:spcBef>
                <a:spcPts val="1800"/>
              </a:spcBef>
              <a:buClr>
                <a:srgbClr val="4d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2" marL="6858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3" marL="914400" indent="-228600">
              <a:spcBef>
                <a:spcPts val="1800"/>
              </a:spcBef>
              <a:buClr>
                <a:srgbClr val="4d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4" marL="11430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5" marL="1143000" indent="-228600">
              <a:spcBef>
                <a:spcPts val="18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6" marL="1143000" indent="-228600">
              <a:spcBef>
                <a:spcPts val="18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199280" y="6356520"/>
            <a:ext cx="1752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858585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B83513-2503-4EDA-8D5C-CA2C044DD258}" type="datetime">
              <a:rPr b="1" lang="en-US" sz="1100" spc="-1" strike="noStrike">
                <a:solidFill>
                  <a:srgbClr val="858585"/>
                </a:solidFill>
                <a:latin typeface="Century Gothic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74600" y="6356520"/>
            <a:ext cx="6006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256240" y="360360"/>
            <a:ext cx="506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2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A57C48-6B92-4238-88F4-E578AE3917E0}" type="slidenum">
              <a:rPr b="1" lang="en-US" sz="2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6"/>
          <p:cNvSpPr/>
          <p:nvPr/>
        </p:nvSpPr>
        <p:spPr>
          <a:xfrm>
            <a:off x="8148600" y="268200"/>
            <a:ext cx="719280" cy="164628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1" marL="457200" indent="-228600">
              <a:spcBef>
                <a:spcPts val="1800"/>
              </a:spcBef>
              <a:buClr>
                <a:srgbClr val="4d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2" marL="6858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3" marL="914400" indent="-228600">
              <a:spcBef>
                <a:spcPts val="1800"/>
              </a:spcBef>
              <a:buClr>
                <a:srgbClr val="4d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4" marL="11430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5" marL="1143000" indent="-228600">
              <a:spcBef>
                <a:spcPts val="18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6" marL="1143000" indent="-228600">
              <a:spcBef>
                <a:spcPts val="18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 type="dt" idx="26"/>
          </p:nvPr>
        </p:nvSpPr>
        <p:spPr>
          <a:xfrm>
            <a:off x="7199280" y="6356520"/>
            <a:ext cx="1752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858585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755FC2-91DB-40AA-9161-134BB7F60CCC}" type="datetime">
              <a:rPr b="1" lang="en-US" sz="1100" spc="-1" strike="noStrike">
                <a:solidFill>
                  <a:srgbClr val="858585"/>
                </a:solidFill>
                <a:latin typeface="Century Gothic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 type="ftr" idx="27"/>
          </p:nvPr>
        </p:nvSpPr>
        <p:spPr>
          <a:xfrm>
            <a:off x="174600" y="6356520"/>
            <a:ext cx="6006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 type="sldNum" idx="28"/>
          </p:nvPr>
        </p:nvSpPr>
        <p:spPr>
          <a:xfrm>
            <a:off x="8256240" y="360360"/>
            <a:ext cx="506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2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84CEA14-097E-466F-8A8F-3F7A770DD9F8}" type="slidenum">
              <a:rPr b="1" lang="en-US" sz="2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6"/>
          <p:cNvSpPr/>
          <p:nvPr/>
        </p:nvSpPr>
        <p:spPr>
          <a:xfrm>
            <a:off x="8148600" y="268200"/>
            <a:ext cx="719280" cy="164628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1" marL="457200" indent="-228600">
              <a:spcBef>
                <a:spcPts val="1800"/>
              </a:spcBef>
              <a:buClr>
                <a:srgbClr val="4d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2" marL="6858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3" marL="914400" indent="-228600">
              <a:spcBef>
                <a:spcPts val="1800"/>
              </a:spcBef>
              <a:buClr>
                <a:srgbClr val="4d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4" marL="11430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5" marL="1143000" indent="-228600">
              <a:spcBef>
                <a:spcPts val="18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6" marL="1143000" indent="-228600">
              <a:spcBef>
                <a:spcPts val="18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 type="dt" idx="29"/>
          </p:nvPr>
        </p:nvSpPr>
        <p:spPr>
          <a:xfrm>
            <a:off x="7199280" y="6356520"/>
            <a:ext cx="1752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858585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F1FA19F-3457-4289-A1C8-779D7EF06D14}" type="datetime">
              <a:rPr b="1" lang="en-US" sz="1100" spc="-1" strike="noStrike">
                <a:solidFill>
                  <a:srgbClr val="858585"/>
                </a:solidFill>
                <a:latin typeface="Century Gothic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 type="ftr" idx="30"/>
          </p:nvPr>
        </p:nvSpPr>
        <p:spPr>
          <a:xfrm>
            <a:off x="174600" y="6356520"/>
            <a:ext cx="6006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 type="sldNum" idx="31"/>
          </p:nvPr>
        </p:nvSpPr>
        <p:spPr>
          <a:xfrm>
            <a:off x="8256240" y="360360"/>
            <a:ext cx="506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2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2231E6A-D34B-41FD-8FD6-C207CFB95225}" type="slidenum">
              <a:rPr b="1" lang="en-US" sz="2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6"/>
          <p:cNvSpPr/>
          <p:nvPr/>
        </p:nvSpPr>
        <p:spPr>
          <a:xfrm>
            <a:off x="8148600" y="268200"/>
            <a:ext cx="719280" cy="164628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1" marL="457200" indent="-228600">
              <a:spcBef>
                <a:spcPts val="1800"/>
              </a:spcBef>
              <a:buClr>
                <a:srgbClr val="4d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2" marL="6858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3" marL="914400" indent="-228600">
              <a:spcBef>
                <a:spcPts val="1800"/>
              </a:spcBef>
              <a:buClr>
                <a:srgbClr val="4d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4" marL="11430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5" marL="1143000" indent="-228600">
              <a:spcBef>
                <a:spcPts val="18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6" marL="1143000" indent="-228600">
              <a:spcBef>
                <a:spcPts val="18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 type="dt" idx="32"/>
          </p:nvPr>
        </p:nvSpPr>
        <p:spPr>
          <a:xfrm>
            <a:off x="7199280" y="6356520"/>
            <a:ext cx="1752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858585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DCE979-0757-4535-B89F-399521637F2A}" type="datetime">
              <a:rPr b="1" lang="en-US" sz="1100" spc="-1" strike="noStrike">
                <a:solidFill>
                  <a:srgbClr val="858585"/>
                </a:solidFill>
                <a:latin typeface="Century Gothic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 type="ftr" idx="33"/>
          </p:nvPr>
        </p:nvSpPr>
        <p:spPr>
          <a:xfrm>
            <a:off x="174600" y="6356520"/>
            <a:ext cx="6006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 type="sldNum" idx="34"/>
          </p:nvPr>
        </p:nvSpPr>
        <p:spPr>
          <a:xfrm>
            <a:off x="8256240" y="360360"/>
            <a:ext cx="506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2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0E1DEF-C92B-431D-86FE-47B162223040}" type="slidenum">
              <a:rPr b="1" lang="en-US" sz="2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6"/>
          <p:cNvSpPr/>
          <p:nvPr/>
        </p:nvSpPr>
        <p:spPr>
          <a:xfrm>
            <a:off x="8148600" y="268200"/>
            <a:ext cx="719280" cy="164628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1" marL="457200" indent="-228600">
              <a:spcBef>
                <a:spcPts val="1800"/>
              </a:spcBef>
              <a:buClr>
                <a:srgbClr val="4d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2" marL="6858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3" marL="914400" indent="-228600">
              <a:spcBef>
                <a:spcPts val="1800"/>
              </a:spcBef>
              <a:buClr>
                <a:srgbClr val="4d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4" marL="11430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5" marL="1143000" indent="-228600">
              <a:spcBef>
                <a:spcPts val="18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6" marL="1143000" indent="-228600">
              <a:spcBef>
                <a:spcPts val="18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 type="dt" idx="35"/>
          </p:nvPr>
        </p:nvSpPr>
        <p:spPr>
          <a:xfrm>
            <a:off x="7199280" y="6356520"/>
            <a:ext cx="1752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858585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0EB5AD-6462-4DD7-AA57-65F45A63EFE6}" type="datetime">
              <a:rPr b="1" lang="en-US" sz="1100" spc="-1" strike="noStrike">
                <a:solidFill>
                  <a:srgbClr val="858585"/>
                </a:solidFill>
                <a:latin typeface="Century Gothic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 type="ftr" idx="36"/>
          </p:nvPr>
        </p:nvSpPr>
        <p:spPr>
          <a:xfrm>
            <a:off x="174600" y="6356520"/>
            <a:ext cx="6006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 type="sldNum" idx="37"/>
          </p:nvPr>
        </p:nvSpPr>
        <p:spPr>
          <a:xfrm>
            <a:off x="8256240" y="360360"/>
            <a:ext cx="506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2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15177CF-4DEC-4DBD-9BCE-B0287928E166}" type="slidenum">
              <a:rPr b="1" lang="en-US" sz="2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6"/>
          <p:cNvSpPr/>
          <p:nvPr/>
        </p:nvSpPr>
        <p:spPr>
          <a:xfrm>
            <a:off x="8148600" y="268200"/>
            <a:ext cx="719280" cy="56700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1" marL="457200" indent="-228600">
              <a:spcBef>
                <a:spcPts val="1800"/>
              </a:spcBef>
              <a:buClr>
                <a:srgbClr val="4d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2" marL="6858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3" marL="914400" indent="-228600">
              <a:spcBef>
                <a:spcPts val="1800"/>
              </a:spcBef>
              <a:buClr>
                <a:srgbClr val="4d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4" marL="11430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5" marL="1143000" indent="-228600">
              <a:spcBef>
                <a:spcPts val="18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6" marL="1143000" indent="-228600">
              <a:spcBef>
                <a:spcPts val="18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 type="dt" idx="38"/>
          </p:nvPr>
        </p:nvSpPr>
        <p:spPr>
          <a:xfrm>
            <a:off x="7199280" y="6356520"/>
            <a:ext cx="1752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858585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53650F7-902C-4E99-A2C7-59381946BBA7}" type="datetime">
              <a:rPr b="1" lang="en-US" sz="1100" spc="-1" strike="noStrike">
                <a:solidFill>
                  <a:srgbClr val="858585"/>
                </a:solidFill>
                <a:latin typeface="Century Gothic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 type="ftr" idx="39"/>
          </p:nvPr>
        </p:nvSpPr>
        <p:spPr>
          <a:xfrm>
            <a:off x="174600" y="6356520"/>
            <a:ext cx="6006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 type="sldNum" idx="40"/>
          </p:nvPr>
        </p:nvSpPr>
        <p:spPr>
          <a:xfrm>
            <a:off x="8256240" y="360360"/>
            <a:ext cx="506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2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F7E6F6-348E-44B9-AABD-FB05515BD996}" type="slidenum">
              <a:rPr b="1" lang="en-US" sz="2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Rectangle 6"/>
          <p:cNvSpPr/>
          <p:nvPr/>
        </p:nvSpPr>
        <p:spPr>
          <a:xfrm>
            <a:off x="8148600" y="268200"/>
            <a:ext cx="719280" cy="56700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1" marL="457200" indent="-228600">
              <a:spcBef>
                <a:spcPts val="1800"/>
              </a:spcBef>
              <a:buClr>
                <a:srgbClr val="4d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2" marL="6858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3" marL="914400" indent="-228600">
              <a:spcBef>
                <a:spcPts val="1800"/>
              </a:spcBef>
              <a:buClr>
                <a:srgbClr val="4d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4" marL="11430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5" marL="1143000" indent="-228600">
              <a:spcBef>
                <a:spcPts val="18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6" marL="1143000" indent="-228600">
              <a:spcBef>
                <a:spcPts val="18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 type="dt" idx="41"/>
          </p:nvPr>
        </p:nvSpPr>
        <p:spPr>
          <a:xfrm>
            <a:off x="7199280" y="6356520"/>
            <a:ext cx="1752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858585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6F9A7C2-E059-4CF3-989F-2B637A882FA8}" type="datetime">
              <a:rPr b="1" lang="en-US" sz="1100" spc="-1" strike="noStrike">
                <a:solidFill>
                  <a:srgbClr val="858585"/>
                </a:solidFill>
                <a:latin typeface="Century Gothic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 type="ftr" idx="42"/>
          </p:nvPr>
        </p:nvSpPr>
        <p:spPr>
          <a:xfrm>
            <a:off x="174600" y="6356520"/>
            <a:ext cx="6006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 type="sldNum" idx="43"/>
          </p:nvPr>
        </p:nvSpPr>
        <p:spPr>
          <a:xfrm>
            <a:off x="8256240" y="360360"/>
            <a:ext cx="506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2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63697D1-6DB0-4C54-8CFA-003054F51F45}" type="slidenum">
              <a:rPr b="1" lang="en-US" sz="2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Rectangle 6"/>
          <p:cNvSpPr/>
          <p:nvPr/>
        </p:nvSpPr>
        <p:spPr>
          <a:xfrm>
            <a:off x="4746600" y="268200"/>
            <a:ext cx="4114800" cy="56700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1" marL="457200" indent="-228600">
              <a:spcBef>
                <a:spcPts val="1800"/>
              </a:spcBef>
              <a:buClr>
                <a:srgbClr val="4d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2" marL="6858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3" marL="914400" indent="-228600">
              <a:spcBef>
                <a:spcPts val="1800"/>
              </a:spcBef>
              <a:buClr>
                <a:srgbClr val="4d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4" marL="11430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5" marL="1143000" indent="-228600">
              <a:spcBef>
                <a:spcPts val="18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6" marL="1143000" indent="-228600">
              <a:spcBef>
                <a:spcPts val="18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 type="dt" idx="44"/>
          </p:nvPr>
        </p:nvSpPr>
        <p:spPr>
          <a:xfrm>
            <a:off x="162000" y="6124680"/>
            <a:ext cx="1752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858585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0F7F702-D879-4C6E-8D62-9D1585152DB9}" type="datetime">
              <a:rPr b="1" lang="en-US" sz="1100" spc="-1" strike="noStrike">
                <a:solidFill>
                  <a:srgbClr val="858585"/>
                </a:solidFill>
                <a:latin typeface="Century Gothic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 type="ftr" idx="45"/>
          </p:nvPr>
        </p:nvSpPr>
        <p:spPr>
          <a:xfrm>
            <a:off x="174240" y="6356520"/>
            <a:ext cx="386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 type="sldNum" idx="46"/>
          </p:nvPr>
        </p:nvSpPr>
        <p:spPr>
          <a:xfrm>
            <a:off x="8256240" y="360360"/>
            <a:ext cx="506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2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B9B90C-E234-4C06-A286-4FFBDC44F2B6}" type="slidenum">
              <a:rPr b="1" lang="en-US" sz="2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Rectangle 6"/>
          <p:cNvSpPr/>
          <p:nvPr/>
        </p:nvSpPr>
        <p:spPr>
          <a:xfrm>
            <a:off x="7216920" y="268200"/>
            <a:ext cx="1639800" cy="36385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1" marL="457200" indent="-228600">
              <a:spcBef>
                <a:spcPts val="1800"/>
              </a:spcBef>
              <a:buClr>
                <a:srgbClr val="4d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2" marL="6858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3" marL="914400" indent="-228600">
              <a:spcBef>
                <a:spcPts val="1800"/>
              </a:spcBef>
              <a:buClr>
                <a:srgbClr val="4d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4" marL="11430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5" marL="1143000" indent="-228600">
              <a:spcBef>
                <a:spcPts val="18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6" marL="1143000" indent="-228600">
              <a:spcBef>
                <a:spcPts val="18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 type="dt" idx="47"/>
          </p:nvPr>
        </p:nvSpPr>
        <p:spPr>
          <a:xfrm>
            <a:off x="7199280" y="6356520"/>
            <a:ext cx="1752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858585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1563207-DAA7-4E67-ABC2-2591E45777B5}" type="datetime">
              <a:rPr b="1" lang="en-US" sz="1100" spc="-1" strike="noStrike">
                <a:solidFill>
                  <a:srgbClr val="858585"/>
                </a:solidFill>
                <a:latin typeface="Century Gothic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 type="ftr" idx="48"/>
          </p:nvPr>
        </p:nvSpPr>
        <p:spPr>
          <a:xfrm>
            <a:off x="174600" y="6356520"/>
            <a:ext cx="6006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5"/>
          <p:cNvSpPr>
            <a:spLocks noGrp="1"/>
          </p:cNvSpPr>
          <p:nvPr>
            <p:ph type="sldNum" idx="49"/>
          </p:nvPr>
        </p:nvSpPr>
        <p:spPr>
          <a:xfrm>
            <a:off x="8256240" y="360360"/>
            <a:ext cx="506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2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F5210C-CA35-4CA4-8E9B-421E49BE5F71}" type="slidenum">
              <a:rPr b="1" lang="en-US" sz="2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Rectangle 6"/>
          <p:cNvSpPr/>
          <p:nvPr/>
        </p:nvSpPr>
        <p:spPr>
          <a:xfrm>
            <a:off x="8136000" y="268200"/>
            <a:ext cx="720720" cy="36385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1" marL="457200" indent="-228600">
              <a:spcBef>
                <a:spcPts val="1800"/>
              </a:spcBef>
              <a:buClr>
                <a:srgbClr val="4d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2" marL="6858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3" marL="914400" indent="-228600">
              <a:spcBef>
                <a:spcPts val="1800"/>
              </a:spcBef>
              <a:buClr>
                <a:srgbClr val="4d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4" marL="11430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5" marL="1143000" indent="-228600">
              <a:spcBef>
                <a:spcPts val="18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6" marL="1143000" indent="-228600">
              <a:spcBef>
                <a:spcPts val="18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 type="dt" idx="50"/>
          </p:nvPr>
        </p:nvSpPr>
        <p:spPr>
          <a:xfrm>
            <a:off x="7199280" y="6356520"/>
            <a:ext cx="1752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858585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DD3FF4A-9FBE-4F8C-93FC-9DBE961CC78E}" type="datetime">
              <a:rPr b="1" lang="en-US" sz="1100" spc="-1" strike="noStrike">
                <a:solidFill>
                  <a:srgbClr val="858585"/>
                </a:solidFill>
                <a:latin typeface="Century Gothic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 type="ftr" idx="51"/>
          </p:nvPr>
        </p:nvSpPr>
        <p:spPr>
          <a:xfrm>
            <a:off x="174600" y="6356520"/>
            <a:ext cx="6006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 type="sldNum" idx="52"/>
          </p:nvPr>
        </p:nvSpPr>
        <p:spPr>
          <a:xfrm>
            <a:off x="8256240" y="360360"/>
            <a:ext cx="506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2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ABE74A-C954-49EC-A448-D664F124DBA8}" type="slidenum">
              <a:rPr b="1" lang="en-US" sz="2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Rectangle 6"/>
          <p:cNvSpPr/>
          <p:nvPr/>
        </p:nvSpPr>
        <p:spPr>
          <a:xfrm>
            <a:off x="7211880" y="268200"/>
            <a:ext cx="1646280" cy="164628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 type="body"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1" marL="457200" indent="-228600">
              <a:spcBef>
                <a:spcPts val="1800"/>
              </a:spcBef>
              <a:buClr>
                <a:srgbClr val="4d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2" marL="6858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3" marL="914400" indent="-228600">
              <a:spcBef>
                <a:spcPts val="1800"/>
              </a:spcBef>
              <a:buClr>
                <a:srgbClr val="4d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4" marL="11430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5" marL="1143000" indent="-228600">
              <a:spcBef>
                <a:spcPts val="18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6" marL="1143000" indent="-228600">
              <a:spcBef>
                <a:spcPts val="18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 type="dt" idx="53"/>
          </p:nvPr>
        </p:nvSpPr>
        <p:spPr>
          <a:xfrm>
            <a:off x="7199280" y="6356520"/>
            <a:ext cx="1752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858585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0C58F6B-5D31-48CB-B7EF-732833966D09}" type="datetime">
              <a:rPr b="1" lang="en-US" sz="1100" spc="-1" strike="noStrike">
                <a:solidFill>
                  <a:srgbClr val="858585"/>
                </a:solidFill>
                <a:latin typeface="Century Gothic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 type="ftr" idx="54"/>
          </p:nvPr>
        </p:nvSpPr>
        <p:spPr>
          <a:xfrm>
            <a:off x="174600" y="6356520"/>
            <a:ext cx="6006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5"/>
          <p:cNvSpPr>
            <a:spLocks noGrp="1"/>
          </p:cNvSpPr>
          <p:nvPr>
            <p:ph type="sldNum" idx="55"/>
          </p:nvPr>
        </p:nvSpPr>
        <p:spPr>
          <a:xfrm>
            <a:off x="8256240" y="360360"/>
            <a:ext cx="506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2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AA4477-0B54-440A-BC2D-88C2FF8B7E50}" type="slidenum">
              <a:rPr b="1" lang="en-US" sz="2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3187800" y="268200"/>
            <a:ext cx="5668920" cy="390060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7"/>
          <p:cNvSpPr/>
          <p:nvPr/>
        </p:nvSpPr>
        <p:spPr>
          <a:xfrm>
            <a:off x="268200" y="268200"/>
            <a:ext cx="184320" cy="388620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1" marL="457200" indent="-228600">
              <a:spcBef>
                <a:spcPts val="1800"/>
              </a:spcBef>
              <a:buClr>
                <a:srgbClr val="4d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2" marL="6858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3" marL="914400" indent="-228600">
              <a:spcBef>
                <a:spcPts val="1800"/>
              </a:spcBef>
              <a:buClr>
                <a:srgbClr val="4d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4" marL="11430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5" marL="1143000" indent="-228600">
              <a:spcBef>
                <a:spcPts val="18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6" marL="1143000" indent="-228600">
              <a:spcBef>
                <a:spcPts val="18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3276360" y="390600"/>
            <a:ext cx="550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D5BFCFA-0D1C-4DA1-BA9C-0BA2A0769EAC}" type="datetime"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07/29/26</a:t>
            </a:fld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219480" y="6356520"/>
            <a:ext cx="4735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8256240" y="6356520"/>
            <a:ext cx="685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858585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F28A129-55B6-4F3F-86F5-56C5C187A2E1}" type="slidenum">
              <a:rPr b="1" lang="en-US" sz="1100" spc="-1" strike="noStrike">
                <a:solidFill>
                  <a:srgbClr val="858585"/>
                </a:solidFill>
                <a:latin typeface="Century Gothic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Rectangle 6"/>
          <p:cNvSpPr/>
          <p:nvPr/>
        </p:nvSpPr>
        <p:spPr>
          <a:xfrm>
            <a:off x="8148600" y="268200"/>
            <a:ext cx="719280" cy="56700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 type="body"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1" marL="457200" indent="-228600">
              <a:spcBef>
                <a:spcPts val="1800"/>
              </a:spcBef>
              <a:buClr>
                <a:srgbClr val="4d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2" marL="6858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3" marL="914400" indent="-228600">
              <a:spcBef>
                <a:spcPts val="1800"/>
              </a:spcBef>
              <a:buClr>
                <a:srgbClr val="4d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4" marL="11430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5" marL="1143000" indent="-228600">
              <a:spcBef>
                <a:spcPts val="18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6" marL="1143000" indent="-228600">
              <a:spcBef>
                <a:spcPts val="18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 type="dt" idx="56"/>
          </p:nvPr>
        </p:nvSpPr>
        <p:spPr>
          <a:xfrm>
            <a:off x="7199280" y="6356520"/>
            <a:ext cx="1752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858585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6C50327-5447-45E2-AEB9-FDA982EC045D}" type="datetime">
              <a:rPr b="1" lang="en-US" sz="1100" spc="-1" strike="noStrike">
                <a:solidFill>
                  <a:srgbClr val="858585"/>
                </a:solidFill>
                <a:latin typeface="Century Gothic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 type="ftr" idx="57"/>
          </p:nvPr>
        </p:nvSpPr>
        <p:spPr>
          <a:xfrm>
            <a:off x="174600" y="6356520"/>
            <a:ext cx="6006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5"/>
          <p:cNvSpPr>
            <a:spLocks noGrp="1"/>
          </p:cNvSpPr>
          <p:nvPr>
            <p:ph type="sldNum" idx="58"/>
          </p:nvPr>
        </p:nvSpPr>
        <p:spPr>
          <a:xfrm>
            <a:off x="8256240" y="360360"/>
            <a:ext cx="506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2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4195C4-56FD-4085-B5B2-55C16A8EAEB3}" type="slidenum">
              <a:rPr b="1" lang="en-US" sz="2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6"/>
          <p:cNvSpPr/>
          <p:nvPr/>
        </p:nvSpPr>
        <p:spPr>
          <a:xfrm>
            <a:off x="7211880" y="268200"/>
            <a:ext cx="1646280" cy="164628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1" marL="457200" indent="-228600">
              <a:spcBef>
                <a:spcPts val="1800"/>
              </a:spcBef>
              <a:buClr>
                <a:srgbClr val="4d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2" marL="6858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3" marL="914400" indent="-228600">
              <a:spcBef>
                <a:spcPts val="1800"/>
              </a:spcBef>
              <a:buClr>
                <a:srgbClr val="4d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4" marL="11430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5" marL="1143000" indent="-228600">
              <a:spcBef>
                <a:spcPts val="18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6" marL="1143000" indent="-228600">
              <a:spcBef>
                <a:spcPts val="18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7211520" y="6356520"/>
            <a:ext cx="1752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858585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E05FBFF-878E-49EF-8AF2-18A15C105C38}" type="datetime">
              <a:rPr b="1" lang="en-US" sz="1100" spc="-1" strike="noStrike">
                <a:solidFill>
                  <a:srgbClr val="858585"/>
                </a:solidFill>
                <a:latin typeface="Century Gothic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174600" y="6356520"/>
            <a:ext cx="6006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8256240" y="360360"/>
            <a:ext cx="506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2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00EDDE9-FA87-441A-BB21-C41758C3613C}" type="slidenum">
              <a:rPr b="1" lang="en-US" sz="2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6"/>
          <p:cNvSpPr/>
          <p:nvPr/>
        </p:nvSpPr>
        <p:spPr>
          <a:xfrm>
            <a:off x="3187800" y="268200"/>
            <a:ext cx="5668920" cy="256068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7"/>
          <p:cNvSpPr/>
          <p:nvPr/>
        </p:nvSpPr>
        <p:spPr>
          <a:xfrm>
            <a:off x="268200" y="268200"/>
            <a:ext cx="184320" cy="388620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1" marL="457200" indent="-228600">
              <a:spcBef>
                <a:spcPts val="1800"/>
              </a:spcBef>
              <a:buClr>
                <a:srgbClr val="4d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2" marL="6858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3" marL="914400" indent="-228600">
              <a:spcBef>
                <a:spcPts val="1800"/>
              </a:spcBef>
              <a:buClr>
                <a:srgbClr val="4d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4" marL="11430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5" marL="1143000" indent="-228600">
              <a:spcBef>
                <a:spcPts val="18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6" marL="1143000" indent="-228600">
              <a:spcBef>
                <a:spcPts val="18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10"/>
          </p:nvPr>
        </p:nvSpPr>
        <p:spPr>
          <a:xfrm>
            <a:off x="3276360" y="390600"/>
            <a:ext cx="5499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817180E-9511-468C-B4E1-46A3015E005A}" type="datetime"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07/29/26</a:t>
            </a:fld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11"/>
          </p:nvPr>
        </p:nvSpPr>
        <p:spPr>
          <a:xfrm>
            <a:off x="3213000" y="6356520"/>
            <a:ext cx="4735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12"/>
          </p:nvPr>
        </p:nvSpPr>
        <p:spPr>
          <a:xfrm>
            <a:off x="8265600" y="6356520"/>
            <a:ext cx="685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858585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4DC8CB0-D1CC-436A-B5EE-6329215084E5}" type="slidenum">
              <a:rPr b="1" lang="en-US" sz="1100" spc="-1" strike="noStrike">
                <a:solidFill>
                  <a:srgbClr val="858585"/>
                </a:solidFill>
                <a:latin typeface="Century Gothic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6"/>
          <p:cNvSpPr/>
          <p:nvPr/>
        </p:nvSpPr>
        <p:spPr>
          <a:xfrm>
            <a:off x="270000" y="268200"/>
            <a:ext cx="1646280" cy="164628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1" marL="457200" indent="-228600">
              <a:spcBef>
                <a:spcPts val="1800"/>
              </a:spcBef>
              <a:buClr>
                <a:srgbClr val="4d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2" marL="6858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3" marL="914400" indent="-228600">
              <a:spcBef>
                <a:spcPts val="1800"/>
              </a:spcBef>
              <a:buClr>
                <a:srgbClr val="4d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4" marL="11430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5" marL="1143000" indent="-228600">
              <a:spcBef>
                <a:spcPts val="18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6" marL="1143000" indent="-228600">
              <a:spcBef>
                <a:spcPts val="18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7211520" y="6356520"/>
            <a:ext cx="1752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858585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1DCD53D-0139-400F-83E6-9A5B086040B8}" type="datetime">
              <a:rPr b="1" lang="en-US" sz="1100" spc="-1" strike="noStrike">
                <a:solidFill>
                  <a:srgbClr val="858585"/>
                </a:solidFill>
                <a:latin typeface="Century Gothic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14"/>
          </p:nvPr>
        </p:nvSpPr>
        <p:spPr>
          <a:xfrm>
            <a:off x="2178000" y="6356520"/>
            <a:ext cx="4927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15"/>
          </p:nvPr>
        </p:nvSpPr>
        <p:spPr>
          <a:xfrm>
            <a:off x="331920" y="360360"/>
            <a:ext cx="506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2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55FF764-7FA7-4588-9337-0FF96B54D96F}" type="slidenum">
              <a:rPr b="1" lang="en-US" sz="2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6"/>
          <p:cNvSpPr/>
          <p:nvPr/>
        </p:nvSpPr>
        <p:spPr>
          <a:xfrm>
            <a:off x="7759800" y="268200"/>
            <a:ext cx="1098360" cy="635004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1" marL="457200" indent="-228600">
              <a:spcBef>
                <a:spcPts val="1800"/>
              </a:spcBef>
              <a:buClr>
                <a:srgbClr val="4d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2" marL="6858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3" marL="914400" indent="-228600">
              <a:spcBef>
                <a:spcPts val="1800"/>
              </a:spcBef>
              <a:buClr>
                <a:srgbClr val="4d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4" marL="11430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5" marL="1143000" indent="-228600">
              <a:spcBef>
                <a:spcPts val="18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6" marL="1143000" indent="-228600">
              <a:spcBef>
                <a:spcPts val="18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6"/>
          </p:nvPr>
        </p:nvSpPr>
        <p:spPr>
          <a:xfrm>
            <a:off x="5562720" y="6356520"/>
            <a:ext cx="1622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858585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EDCEA8-E6E9-4503-9354-F618FB6C62FE}" type="datetime">
              <a:rPr b="1" lang="en-US" sz="1100" spc="-1" strike="noStrike">
                <a:solidFill>
                  <a:srgbClr val="858585"/>
                </a:solidFill>
                <a:latin typeface="Century Gothic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7"/>
          </p:nvPr>
        </p:nvSpPr>
        <p:spPr>
          <a:xfrm>
            <a:off x="174240" y="6356520"/>
            <a:ext cx="5311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8"/>
          </p:nvPr>
        </p:nvSpPr>
        <p:spPr>
          <a:xfrm>
            <a:off x="8256240" y="360360"/>
            <a:ext cx="506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2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D4DB11A-F5B8-442F-BCC7-8578B365A050}" type="slidenum">
              <a:rPr b="1" lang="en-US" sz="2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6"/>
          <p:cNvSpPr/>
          <p:nvPr/>
        </p:nvSpPr>
        <p:spPr>
          <a:xfrm>
            <a:off x="270000" y="4773600"/>
            <a:ext cx="2971800" cy="184464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1" marL="457200" indent="-228600">
              <a:spcBef>
                <a:spcPts val="1800"/>
              </a:spcBef>
              <a:buClr>
                <a:srgbClr val="4d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2" marL="6858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3" marL="914400" indent="-228600">
              <a:spcBef>
                <a:spcPts val="1800"/>
              </a:spcBef>
              <a:buClr>
                <a:srgbClr val="4d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4" marL="11430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5" marL="1143000" indent="-228600">
              <a:spcBef>
                <a:spcPts val="18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6" marL="1143000" indent="-228600">
              <a:spcBef>
                <a:spcPts val="18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19"/>
          </p:nvPr>
        </p:nvSpPr>
        <p:spPr>
          <a:xfrm>
            <a:off x="351000" y="6105600"/>
            <a:ext cx="506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2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63444EA-B378-4AD4-8ADF-0F45D86842E9}" type="slidenum">
              <a:rPr b="1" lang="en-US" sz="2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6"/>
          <p:cNvSpPr/>
          <p:nvPr/>
        </p:nvSpPr>
        <p:spPr>
          <a:xfrm>
            <a:off x="8148600" y="268200"/>
            <a:ext cx="719280" cy="164628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1" marL="457200" indent="-228600">
              <a:spcBef>
                <a:spcPts val="1800"/>
              </a:spcBef>
              <a:buClr>
                <a:srgbClr val="4d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2" marL="6858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3" marL="914400" indent="-228600">
              <a:spcBef>
                <a:spcPts val="1800"/>
              </a:spcBef>
              <a:buClr>
                <a:srgbClr val="4d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4" marL="11430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5" marL="1143000" indent="-228600">
              <a:spcBef>
                <a:spcPts val="18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6" marL="1143000" indent="-228600">
              <a:spcBef>
                <a:spcPts val="18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20"/>
          </p:nvPr>
        </p:nvSpPr>
        <p:spPr>
          <a:xfrm>
            <a:off x="7199280" y="6356520"/>
            <a:ext cx="1752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858585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C391E9-A4FE-4D3E-8418-5B16A33EA0AE}" type="datetime">
              <a:rPr b="1" lang="en-US" sz="1100" spc="-1" strike="noStrike">
                <a:solidFill>
                  <a:srgbClr val="858585"/>
                </a:solidFill>
                <a:latin typeface="Century Gothic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1"/>
          </p:nvPr>
        </p:nvSpPr>
        <p:spPr>
          <a:xfrm>
            <a:off x="174600" y="6356520"/>
            <a:ext cx="6006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2"/>
          </p:nvPr>
        </p:nvSpPr>
        <p:spPr>
          <a:xfrm>
            <a:off x="8256240" y="360360"/>
            <a:ext cx="506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2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269B89F-DD12-4773-99C5-0FC4746C7891}" type="slidenum">
              <a:rPr b="1" lang="en-US" sz="2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6"/>
          <p:cNvSpPr/>
          <p:nvPr/>
        </p:nvSpPr>
        <p:spPr>
          <a:xfrm>
            <a:off x="8148600" y="268200"/>
            <a:ext cx="719280" cy="164628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1" marL="457200" indent="-228600">
              <a:spcBef>
                <a:spcPts val="1800"/>
              </a:spcBef>
              <a:buClr>
                <a:srgbClr val="4d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2" marL="6858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3" marL="914400" indent="-228600">
              <a:spcBef>
                <a:spcPts val="1800"/>
              </a:spcBef>
              <a:buClr>
                <a:srgbClr val="4d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4" marL="11430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5" marL="1143000" indent="-228600">
              <a:spcBef>
                <a:spcPts val="18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6" marL="1143000" indent="-228600">
              <a:spcBef>
                <a:spcPts val="18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dt" idx="23"/>
          </p:nvPr>
        </p:nvSpPr>
        <p:spPr>
          <a:xfrm>
            <a:off x="7199280" y="6356520"/>
            <a:ext cx="1752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858585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66B2058-A170-419F-BCA6-96A8BE8BD3D8}" type="datetime">
              <a:rPr b="1" lang="en-US" sz="1100" spc="-1" strike="noStrike">
                <a:solidFill>
                  <a:srgbClr val="858585"/>
                </a:solidFill>
                <a:latin typeface="Century Gothic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ftr" idx="24"/>
          </p:nvPr>
        </p:nvSpPr>
        <p:spPr>
          <a:xfrm>
            <a:off x="174600" y="6356520"/>
            <a:ext cx="6006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 type="sldNum" idx="25"/>
          </p:nvPr>
        </p:nvSpPr>
        <p:spPr>
          <a:xfrm>
            <a:off x="8256240" y="360360"/>
            <a:ext cx="506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2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A69F82E-5965-4240-91E6-AF86E892E254}" type="slidenum">
              <a:rPr b="1" lang="en-US" sz="2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57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4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3200040" y="4172040"/>
            <a:ext cx="5457960" cy="1085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990000"/>
                </a:solidFill>
                <a:latin typeface="Century Gothic"/>
              </a:rPr>
              <a:t>Connecting to Employers</a:t>
            </a:r>
            <a:endParaRPr b="0" lang="en-US" sz="41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 type="subTitle"/>
          </p:nvPr>
        </p:nvSpPr>
        <p:spPr>
          <a:xfrm>
            <a:off x="3200040" y="5257800"/>
            <a:ext cx="5457960" cy="61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Century Gothic"/>
              </a:rPr>
              <a:t>Understanding the Employer Customer and Creating and Implementing an Outreach Plan</a:t>
            </a:r>
            <a:endParaRPr b="0" lang="en-US" sz="1600" spc="-1" strike="noStrike">
              <a:solidFill>
                <a:srgbClr val="333333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Century Gothic"/>
              </a:rPr>
              <a:t>Trusted Sources</a:t>
            </a: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864" name=""/>
          <p:cNvSpPr txBox="1"/>
          <p:nvPr/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Their network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Networks of good employees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Through their own website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Proven Recruiters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ites and sources where they’ve found success before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Century Gothic"/>
              </a:rPr>
              <a:t>Quick Quality </a:t>
            </a:r>
            <a:br>
              <a:rPr sz="3600"/>
            </a:br>
            <a:r>
              <a:rPr b="0" lang="en-US" sz="3600" spc="-1" strike="noStrike">
                <a:solidFill>
                  <a:srgbClr val="990000"/>
                </a:solidFill>
                <a:latin typeface="Century Gothic"/>
              </a:rPr>
              <a:t>With Minimal Hassle</a:t>
            </a: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866" name=""/>
          <p:cNvSpPr txBox="1"/>
          <p:nvPr/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Response within 24 hours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Applicant has quality resume, is prepared for interview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Responsive to employer process 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Minimal paperwork, especially at the beginning of the process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ingle point of contact from your agency/organization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Century Gothic"/>
              </a:rPr>
              <a:t>It’s About Relationships!</a:t>
            </a: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pic>
        <p:nvPicPr>
          <p:cNvPr id="868" name="Picture 3" descr=""/>
          <p:cNvPicPr/>
          <p:nvPr/>
        </p:nvPicPr>
        <p:blipFill>
          <a:blip r:embed="rId1"/>
          <a:stretch/>
        </p:blipFill>
        <p:spPr>
          <a:xfrm>
            <a:off x="2235240" y="2320920"/>
            <a:ext cx="41292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Century Gothic"/>
              </a:rPr>
              <a:t>Relationships. . . </a:t>
            </a: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870" name=""/>
          <p:cNvSpPr txBox="1"/>
          <p:nvPr/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Based on </a:t>
            </a:r>
            <a:r>
              <a:rPr b="1" lang="en-US" sz="2000" spc="-1" strike="noStrike">
                <a:solidFill>
                  <a:srgbClr val="333333"/>
                </a:solidFill>
                <a:latin typeface="Century Gothic"/>
              </a:rPr>
              <a:t>trust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1" marL="457200" indent="-228600">
              <a:spcBef>
                <a:spcPts val="601"/>
              </a:spcBef>
              <a:buClr>
                <a:srgbClr val="e0e0e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Century Gothic"/>
              </a:rPr>
              <a:t>Quality work</a:t>
            </a:r>
            <a:endParaRPr b="0" lang="en-US" sz="1800" spc="-1" strike="noStrike">
              <a:solidFill>
                <a:srgbClr val="333333"/>
              </a:solidFill>
              <a:latin typeface="Century Gothic"/>
            </a:endParaRPr>
          </a:p>
          <a:p>
            <a:pPr lvl="1" marL="457200" indent="-228600">
              <a:spcBef>
                <a:spcPts val="601"/>
              </a:spcBef>
              <a:buClr>
                <a:srgbClr val="e0e0e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Century Gothic"/>
              </a:rPr>
              <a:t>Understanding of employer needs</a:t>
            </a:r>
            <a:endParaRPr b="0" lang="en-US" sz="1800" spc="-1" strike="noStrike">
              <a:solidFill>
                <a:srgbClr val="333333"/>
              </a:solidFill>
              <a:latin typeface="Century Gothic"/>
            </a:endParaRPr>
          </a:p>
          <a:p>
            <a:pPr lvl="1" marL="457200" indent="-228600">
              <a:spcBef>
                <a:spcPts val="601"/>
              </a:spcBef>
              <a:buClr>
                <a:srgbClr val="e0e0e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Century Gothic"/>
              </a:rPr>
              <a:t>Consistent</a:t>
            </a:r>
            <a:endParaRPr b="0" lang="en-US" sz="1800" spc="-1" strike="noStrike">
              <a:solidFill>
                <a:srgbClr val="333333"/>
              </a:solidFill>
              <a:latin typeface="Century Gothic"/>
            </a:endParaRPr>
          </a:p>
          <a:p>
            <a:pPr lvl="1" marL="457200" indent="-228600">
              <a:spcBef>
                <a:spcPts val="601"/>
              </a:spcBef>
              <a:buClr>
                <a:srgbClr val="e0e0e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Century Gothic"/>
              </a:rPr>
              <a:t>Making/keeping commitments</a:t>
            </a:r>
            <a:endParaRPr b="0" lang="en-US" sz="18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Century Gothic"/>
              </a:rPr>
              <a:t># 1 way to build trust is to fill jobs quickly and with minimal hassle. 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Century Gothic"/>
              </a:rPr>
              <a:t>#2 way is to build relationships, not focus on transactions. 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Century Gothic"/>
              </a:rPr>
              <a:t>Building a Relationship</a:t>
            </a: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872" name=""/>
          <p:cNvSpPr txBox="1"/>
          <p:nvPr/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Target the right employers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Know their industry, issues, needs and processes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Be strategic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Focus on the relationship, not on the transaction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Document, document, document!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2209680" y="3428640"/>
            <a:ext cx="4965840" cy="1398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990000"/>
                </a:solidFill>
                <a:latin typeface="Century Gothic"/>
              </a:rPr>
              <a:t>Developing an Outreach Plan</a:t>
            </a:r>
            <a:endParaRPr b="0" lang="en-US" sz="4600" spc="-1" strike="noStrike">
              <a:solidFill>
                <a:srgbClr val="99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Century Gothic"/>
              </a:rPr>
              <a:t>Targeting Employers</a:t>
            </a: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875" name=""/>
          <p:cNvSpPr txBox="1"/>
          <p:nvPr/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mall vs. Large Employers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Demand industries/occupations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Job seeker goals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Century Gothic"/>
              </a:rPr>
              <a:t>Initial research</a:t>
            </a: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877" name=""/>
          <p:cNvSpPr txBox="1"/>
          <p:nvPr/>
        </p:nvSpPr>
        <p:spPr>
          <a:xfrm>
            <a:off x="779400" y="1828440"/>
            <a:ext cx="356544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1800"/>
              </a:spcBef>
              <a:buClr>
                <a:srgbClr val="99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Century Gothic"/>
              </a:rPr>
              <a:t>Who are the employers in your area? </a:t>
            </a:r>
            <a:endParaRPr b="0" lang="en-US" sz="1800" spc="-1" strike="noStrike">
              <a:solidFill>
                <a:srgbClr val="333333"/>
              </a:solidFill>
              <a:latin typeface="Century Gothic"/>
            </a:endParaRPr>
          </a:p>
          <a:p>
            <a:pPr lvl="1" marL="752400" indent="-457200">
              <a:spcBef>
                <a:spcPts val="601"/>
              </a:spcBef>
              <a:buClr>
                <a:srgbClr val="e0e0e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Century Gothic"/>
              </a:rPr>
              <a:t>Who have you worked with before? </a:t>
            </a:r>
            <a:endParaRPr b="0" lang="en-US" sz="1800" spc="-1" strike="noStrike">
              <a:solidFill>
                <a:srgbClr val="333333"/>
              </a:solidFill>
              <a:latin typeface="Century Gothic"/>
            </a:endParaRPr>
          </a:p>
          <a:p>
            <a:pPr lvl="1" marL="752400" indent="-457200">
              <a:spcBef>
                <a:spcPts val="601"/>
              </a:spcBef>
              <a:buClr>
                <a:srgbClr val="e0e0e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Century Gothic"/>
              </a:rPr>
              <a:t>Google Maps Search</a:t>
            </a:r>
            <a:endParaRPr b="0" lang="en-US" sz="1800" spc="-1" strike="noStrike">
              <a:solidFill>
                <a:srgbClr val="333333"/>
              </a:solidFill>
              <a:latin typeface="Century Gothic"/>
            </a:endParaRPr>
          </a:p>
          <a:p>
            <a:pPr marL="457200" indent="-457200">
              <a:spcBef>
                <a:spcPts val="1800"/>
              </a:spcBef>
              <a:buClr>
                <a:srgbClr val="99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Century Gothic"/>
              </a:rPr>
              <a:t>Of these employers, </a:t>
            </a:r>
            <a:r>
              <a:rPr b="1" lang="en-US" sz="1800" spc="-1" strike="noStrike" u="sng">
                <a:solidFill>
                  <a:srgbClr val="333333"/>
                </a:solidFill>
                <a:uFillTx/>
                <a:latin typeface="Century Gothic"/>
              </a:rPr>
              <a:t>who is hiring</a:t>
            </a:r>
            <a:r>
              <a:rPr b="1" lang="en-US" sz="1800" spc="-1" strike="noStrike">
                <a:solidFill>
                  <a:srgbClr val="333333"/>
                </a:solidFill>
                <a:latin typeface="Century Gothic"/>
              </a:rPr>
              <a:t>?</a:t>
            </a:r>
            <a:endParaRPr b="0" lang="en-US" sz="1800" spc="-1" strike="noStrike">
              <a:solidFill>
                <a:srgbClr val="333333"/>
              </a:solidFill>
              <a:latin typeface="Century Gothic"/>
            </a:endParaRPr>
          </a:p>
          <a:p>
            <a:pPr lvl="1" marL="752400" indent="-457200">
              <a:spcBef>
                <a:spcPts val="601"/>
              </a:spcBef>
              <a:buClr>
                <a:srgbClr val="e0e0e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Century Gothic"/>
              </a:rPr>
              <a:t>Job postings—in Jobs4Jersey, on their website, on other boards</a:t>
            </a:r>
            <a:endParaRPr b="0" lang="en-US" sz="1800" spc="-1" strike="noStrike">
              <a:solidFill>
                <a:srgbClr val="333333"/>
              </a:solidFill>
              <a:latin typeface="Century Gothic"/>
            </a:endParaRPr>
          </a:p>
          <a:p>
            <a:pPr lvl="1" marL="752400" indent="-457200">
              <a:spcBef>
                <a:spcPts val="601"/>
              </a:spcBef>
              <a:buClr>
                <a:srgbClr val="e0e0e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Century Gothic"/>
              </a:rPr>
              <a:t>“</a:t>
            </a:r>
            <a:r>
              <a:rPr b="0" lang="en-US" sz="1800" spc="-1" strike="noStrike">
                <a:solidFill>
                  <a:srgbClr val="333333"/>
                </a:solidFill>
                <a:latin typeface="Century Gothic"/>
              </a:rPr>
              <a:t>Follow the money”</a:t>
            </a:r>
            <a:endParaRPr b="0" lang="en-US" sz="1800" spc="-1" strike="noStrike">
              <a:solidFill>
                <a:srgbClr val="333333"/>
              </a:solidFill>
              <a:latin typeface="Century Gothic"/>
            </a:endParaRPr>
          </a:p>
          <a:p>
            <a:pPr marL="457200" indent="-457200">
              <a:spcBef>
                <a:spcPts val="1800"/>
              </a:spcBef>
              <a:buClr>
                <a:srgbClr val="990000"/>
              </a:buClr>
              <a:buFont typeface="Century Gothic"/>
              <a:buChar char="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878" name=""/>
          <p:cNvSpPr txBox="1"/>
          <p:nvPr/>
        </p:nvSpPr>
        <p:spPr>
          <a:xfrm>
            <a:off x="4797360" y="1828440"/>
            <a:ext cx="356544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1800"/>
              </a:spcBef>
              <a:buClr>
                <a:srgbClr val="990000"/>
              </a:buClr>
              <a:buFont typeface="Century Gothic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Century Gothic"/>
              </a:rPr>
              <a:t>What job openings do they have?</a:t>
            </a:r>
            <a:endParaRPr b="0" lang="en-US" sz="1800" spc="-1" strike="noStrike">
              <a:solidFill>
                <a:srgbClr val="333333"/>
              </a:solidFill>
              <a:latin typeface="Century Gothic"/>
            </a:endParaRPr>
          </a:p>
          <a:p>
            <a:pPr marL="457200" indent="-457200">
              <a:spcBef>
                <a:spcPts val="1800"/>
              </a:spcBef>
              <a:buClr>
                <a:srgbClr val="990000"/>
              </a:buClr>
              <a:buFont typeface="Century Gothic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Century Gothic"/>
              </a:rPr>
              <a:t>Who are the key decision-makers? </a:t>
            </a:r>
            <a:endParaRPr b="0" lang="en-US" sz="1800" spc="-1" strike="noStrike">
              <a:solidFill>
                <a:srgbClr val="333333"/>
              </a:solidFill>
              <a:latin typeface="Century Gothic"/>
            </a:endParaRPr>
          </a:p>
          <a:p>
            <a:pPr lvl="1" marL="752400" indent="-457200">
              <a:spcBef>
                <a:spcPts val="601"/>
              </a:spcBef>
              <a:buClr>
                <a:srgbClr val="e0e0e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Century Gothic"/>
              </a:rPr>
              <a:t>C-Suite and Directors</a:t>
            </a:r>
            <a:endParaRPr b="0" lang="en-US" sz="1800" spc="-1" strike="noStrike">
              <a:solidFill>
                <a:srgbClr val="333333"/>
              </a:solidFill>
              <a:latin typeface="Century Gothic"/>
            </a:endParaRPr>
          </a:p>
          <a:p>
            <a:pPr lvl="1" marL="752400" indent="-457200">
              <a:spcBef>
                <a:spcPts val="601"/>
              </a:spcBef>
              <a:buClr>
                <a:srgbClr val="e0e0e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Century Gothic"/>
              </a:rPr>
              <a:t>Avoid HR if possible</a:t>
            </a:r>
            <a:endParaRPr b="0" lang="en-US" sz="1800" spc="-1" strike="noStrike">
              <a:solidFill>
                <a:srgbClr val="333333"/>
              </a:solidFill>
              <a:latin typeface="Century Gothic"/>
            </a:endParaRPr>
          </a:p>
          <a:p>
            <a:pPr lvl="1" marL="752400" indent="-457200">
              <a:spcBef>
                <a:spcPts val="601"/>
              </a:spcBef>
              <a:buClr>
                <a:srgbClr val="e0e0e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Century Gothic"/>
              </a:rPr>
              <a:t>Remember many small companies don’t have HR. </a:t>
            </a:r>
            <a:endParaRPr b="0" lang="en-US" sz="1800" spc="-1" strike="noStrike">
              <a:solidFill>
                <a:srgbClr val="333333"/>
              </a:solidFill>
              <a:latin typeface="Century Gothic"/>
            </a:endParaRPr>
          </a:p>
          <a:p>
            <a:pPr lvl="1" marL="752400" indent="-457200">
              <a:spcBef>
                <a:spcPts val="601"/>
              </a:spcBef>
              <a:buClr>
                <a:srgbClr val="e0e0e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Century Gothic"/>
              </a:rPr>
              <a:t>Develop Target List</a:t>
            </a: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880" name=""/>
          <p:cNvSpPr txBox="1"/>
          <p:nvPr/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Century Gothic"/>
              </a:rPr>
              <a:t>Identify Top 25-30 employers in your area</a:t>
            </a: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—most likely for you to get </a:t>
            </a:r>
            <a:r>
              <a:rPr b="1" lang="en-US" sz="2000" spc="-1" strike="noStrike" u="sng">
                <a:solidFill>
                  <a:srgbClr val="333333"/>
                </a:solidFill>
                <a:uFillTx/>
                <a:latin typeface="Century Gothic"/>
              </a:rPr>
              <a:t>placements</a:t>
            </a: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. 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Century Gothic"/>
              </a:rPr>
              <a:t>Analyze</a:t>
            </a: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: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1" marL="457200" indent="-228600">
              <a:spcBef>
                <a:spcPts val="601"/>
              </a:spcBef>
              <a:buClr>
                <a:srgbClr val="e0e0e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Century Gothic"/>
              </a:rPr>
              <a:t>What do you already know about them? </a:t>
            </a:r>
            <a:endParaRPr b="0" lang="en-US" sz="1800" spc="-1" strike="noStrike">
              <a:solidFill>
                <a:srgbClr val="333333"/>
              </a:solidFill>
              <a:latin typeface="Century Gothic"/>
            </a:endParaRPr>
          </a:p>
          <a:p>
            <a:pPr lvl="1" marL="457200" indent="-228600">
              <a:spcBef>
                <a:spcPts val="601"/>
              </a:spcBef>
              <a:buClr>
                <a:srgbClr val="e0e0e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Century Gothic"/>
              </a:rPr>
              <a:t>What can you easily find out about them through more research? </a:t>
            </a:r>
            <a:endParaRPr b="0" lang="en-US" sz="1800" spc="-1" strike="noStrike">
              <a:solidFill>
                <a:srgbClr val="333333"/>
              </a:solidFill>
              <a:latin typeface="Century Gothic"/>
            </a:endParaRPr>
          </a:p>
          <a:p>
            <a:pPr lvl="1" marL="457200" indent="-228600">
              <a:spcBef>
                <a:spcPts val="601"/>
              </a:spcBef>
              <a:buClr>
                <a:srgbClr val="e0e0e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Century Gothic"/>
              </a:rPr>
              <a:t>Do you have a relationship with them?</a:t>
            </a:r>
            <a:endParaRPr b="0" lang="en-US" sz="1800" spc="-1" strike="noStrike">
              <a:solidFill>
                <a:srgbClr val="333333"/>
              </a:solidFill>
              <a:latin typeface="Century Gothic"/>
            </a:endParaRPr>
          </a:p>
          <a:p>
            <a:pPr lvl="1" marL="457200" indent="-228600">
              <a:spcBef>
                <a:spcPts val="601"/>
              </a:spcBef>
              <a:buClr>
                <a:srgbClr val="e0e0e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Century Gothic"/>
              </a:rPr>
              <a:t>What is the nature/quality of that relationship?</a:t>
            </a:r>
            <a:endParaRPr b="0" lang="en-US" sz="1800" spc="-1" strike="noStrike">
              <a:solidFill>
                <a:srgbClr val="333333"/>
              </a:solidFill>
              <a:latin typeface="Century Gothic"/>
            </a:endParaRPr>
          </a:p>
          <a:p>
            <a:pPr lvl="1" marL="457200" indent="-228600">
              <a:spcBef>
                <a:spcPts val="601"/>
              </a:spcBef>
              <a:buClr>
                <a:srgbClr val="e0e0e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Century Gothic"/>
              </a:rPr>
              <a:t>What have you done for them in the past?</a:t>
            </a:r>
            <a:endParaRPr b="0" lang="en-US" sz="18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Century Gothic"/>
              </a:rPr>
              <a:t>Focus </a:t>
            </a: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your efforts!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1" marL="45720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Century Gothic"/>
            </a:endParaRPr>
          </a:p>
          <a:p>
            <a:pPr lvl="1" marL="457200" indent="-228600">
              <a:spcBef>
                <a:spcPts val="601"/>
              </a:spcBef>
              <a:buClr>
                <a:srgbClr val="e0e0e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00"/>
                </a:solidFill>
                <a:latin typeface="Century Gothic"/>
              </a:rPr>
              <a:t>Build Company Profiles</a:t>
            </a:r>
            <a:endParaRPr b="0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882" name=""/>
          <p:cNvSpPr txBox="1"/>
          <p:nvPr/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Century Gothic"/>
              </a:rPr>
              <a:t>Company Basics</a:t>
            </a: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—location, # of employees, etc.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Century Gothic"/>
              </a:rPr>
              <a:t>Key Decision-Makers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Century Gothic"/>
              </a:rPr>
              <a:t>Work Environment/Company Culture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Century Gothic"/>
              </a:rPr>
              <a:t>Key Employment Success Factors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Century Gothic"/>
              </a:rPr>
              <a:t>Recruitment &amp; Hiring Practices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Century Gothic"/>
              </a:rPr>
              <a:t>Referral Preferences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Century Gothic"/>
              </a:rPr>
              <a:t>Relationship history 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Century Gothic"/>
              </a:rPr>
              <a:t>“</a:t>
            </a:r>
            <a:r>
              <a:rPr b="0" lang="en-US" sz="3600" spc="-1" strike="noStrike">
                <a:solidFill>
                  <a:srgbClr val="990000"/>
                </a:solidFill>
                <a:latin typeface="Century Gothic"/>
              </a:rPr>
              <a:t>Job Development” in the New Economy</a:t>
            </a: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849" name=""/>
          <p:cNvSpPr txBox="1"/>
          <p:nvPr/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Understanding employer needs/requirements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Understanding the recruitment process from the employer perspective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Building relationships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Demonstrating value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Coaching customers to sell their own value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Century Gothic"/>
              </a:rPr>
              <a:t>Two Relationships</a:t>
            </a: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884" name=""/>
          <p:cNvSpPr txBox="1"/>
          <p:nvPr/>
        </p:nvSpPr>
        <p:spPr>
          <a:xfrm>
            <a:off x="779400" y="1828440"/>
            <a:ext cx="356544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Century Gothic"/>
              </a:rPr>
              <a:t>Existing Customers</a:t>
            </a:r>
            <a:endParaRPr b="0" lang="en-US" sz="1800" spc="-1" strike="noStrike">
              <a:solidFill>
                <a:srgbClr val="333333"/>
              </a:solidFill>
              <a:latin typeface="Century Gothic"/>
            </a:endParaRPr>
          </a:p>
          <a:p>
            <a:pPr lvl="1" marL="457200" indent="-228600">
              <a:spcBef>
                <a:spcPts val="601"/>
              </a:spcBef>
              <a:buClr>
                <a:srgbClr val="e0e0e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Century Gothic"/>
              </a:rPr>
              <a:t>What is your current relationship? </a:t>
            </a:r>
            <a:endParaRPr b="0" lang="en-US" sz="1800" spc="-1" strike="noStrike">
              <a:solidFill>
                <a:srgbClr val="333333"/>
              </a:solidFill>
              <a:latin typeface="Century Gothic"/>
            </a:endParaRPr>
          </a:p>
          <a:p>
            <a:pPr lvl="1" marL="457200" indent="-228600">
              <a:spcBef>
                <a:spcPts val="601"/>
              </a:spcBef>
              <a:buClr>
                <a:srgbClr val="e0e0e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Century Gothic"/>
              </a:rPr>
              <a:t>What have you done for them in the past? </a:t>
            </a:r>
            <a:endParaRPr b="0" lang="en-US" sz="1800" spc="-1" strike="noStrike">
              <a:solidFill>
                <a:srgbClr val="333333"/>
              </a:solidFill>
              <a:latin typeface="Century Gothic"/>
            </a:endParaRPr>
          </a:p>
          <a:p>
            <a:pPr lvl="1" marL="457200" indent="-228600">
              <a:spcBef>
                <a:spcPts val="601"/>
              </a:spcBef>
              <a:buClr>
                <a:srgbClr val="e0e0e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Century Gothic"/>
              </a:rPr>
              <a:t>What has worked/hasn’t worked?  </a:t>
            </a:r>
            <a:endParaRPr b="0" lang="en-US" sz="1800" spc="-1" strike="noStrike">
              <a:solidFill>
                <a:srgbClr val="333333"/>
              </a:solidFill>
              <a:latin typeface="Century Gothic"/>
            </a:endParaRPr>
          </a:p>
          <a:p>
            <a:pPr lvl="1" marL="457200" indent="-228600">
              <a:spcBef>
                <a:spcPts val="601"/>
              </a:spcBef>
              <a:buClr>
                <a:srgbClr val="e0e0e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Century Gothic"/>
              </a:rPr>
              <a:t>How can you build the relationship?</a:t>
            </a:r>
            <a:endParaRPr b="0" lang="en-US" sz="1800" spc="-1" strike="noStrike">
              <a:solidFill>
                <a:srgbClr val="333333"/>
              </a:solidFill>
              <a:latin typeface="Century Gothic"/>
            </a:endParaRPr>
          </a:p>
          <a:p>
            <a:pPr lvl="1" marL="457200" indent="-228600">
              <a:spcBef>
                <a:spcPts val="601"/>
              </a:spcBef>
              <a:buClr>
                <a:srgbClr val="e0e0e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Century Gothic"/>
              </a:rPr>
              <a:t>Build your network--“Who else should I be talking to?” </a:t>
            </a:r>
            <a:endParaRPr b="0" lang="en-US" sz="18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885" name=""/>
          <p:cNvSpPr txBox="1"/>
          <p:nvPr/>
        </p:nvSpPr>
        <p:spPr>
          <a:xfrm>
            <a:off x="4797360" y="1828440"/>
            <a:ext cx="356544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Century Gothic"/>
              </a:rPr>
              <a:t>New Customers</a:t>
            </a:r>
            <a:endParaRPr b="0" lang="en-US" sz="1800" spc="-1" strike="noStrike">
              <a:solidFill>
                <a:srgbClr val="333333"/>
              </a:solidFill>
              <a:latin typeface="Century Gothic"/>
            </a:endParaRPr>
          </a:p>
          <a:p>
            <a:pPr lvl="1" marL="457200" indent="-228600">
              <a:spcBef>
                <a:spcPts val="601"/>
              </a:spcBef>
              <a:buClr>
                <a:srgbClr val="e0e0e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Century Gothic"/>
              </a:rPr>
              <a:t>How can you use your network to get connected? </a:t>
            </a:r>
            <a:endParaRPr b="0" lang="en-US" sz="1800" spc="-1" strike="noStrike">
              <a:solidFill>
                <a:srgbClr val="333333"/>
              </a:solidFill>
              <a:latin typeface="Century Gothic"/>
            </a:endParaRPr>
          </a:p>
          <a:p>
            <a:pPr lvl="1" marL="457200" indent="-228600">
              <a:spcBef>
                <a:spcPts val="601"/>
              </a:spcBef>
              <a:buClr>
                <a:srgbClr val="e0e0e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Century Gothic"/>
              </a:rPr>
              <a:t>How can you get a “face-to-face?” </a:t>
            </a:r>
            <a:endParaRPr b="0" lang="en-US" sz="1800" spc="-1" strike="noStrike">
              <a:solidFill>
                <a:srgbClr val="333333"/>
              </a:solidFill>
              <a:latin typeface="Century Gothic"/>
            </a:endParaRPr>
          </a:p>
          <a:p>
            <a:pPr lvl="1" marL="457200" indent="-228600">
              <a:spcBef>
                <a:spcPts val="601"/>
              </a:spcBef>
              <a:buClr>
                <a:srgbClr val="e0e0e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Century Gothic"/>
              </a:rPr>
              <a:t>Where can you immediately provide them with a </a:t>
            </a:r>
            <a:r>
              <a:rPr b="0" lang="en-US" sz="1800" spc="-1" strike="noStrike" u="sng">
                <a:solidFill>
                  <a:srgbClr val="333333"/>
                </a:solidFill>
                <a:uFillTx/>
                <a:latin typeface="Century Gothic"/>
              </a:rPr>
              <a:t>quality </a:t>
            </a:r>
            <a:r>
              <a:rPr b="0" lang="en-US" sz="1800" spc="-1" strike="noStrike">
                <a:solidFill>
                  <a:srgbClr val="333333"/>
                </a:solidFill>
                <a:latin typeface="Century Gothic"/>
              </a:rPr>
              <a:t>referral?</a:t>
            </a:r>
            <a:endParaRPr b="0" lang="en-US" sz="1800" spc="-1" strike="noStrike">
              <a:solidFill>
                <a:srgbClr val="333333"/>
              </a:solidFill>
              <a:latin typeface="Century Gothic"/>
            </a:endParaRPr>
          </a:p>
          <a:p>
            <a:pPr lvl="1" marL="457200" indent="-228600">
              <a:spcBef>
                <a:spcPts val="601"/>
              </a:spcBef>
              <a:buClr>
                <a:srgbClr val="e0e0e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Century Gothic"/>
              </a:rPr>
              <a:t>What other information/resources could you offer to begin building trust and goodwill?</a:t>
            </a:r>
            <a:endParaRPr b="0" lang="en-US" sz="1800" spc="-1" strike="noStrike">
              <a:solidFill>
                <a:srgbClr val="333333"/>
              </a:solidFill>
              <a:latin typeface="Century Gothic"/>
            </a:endParaRPr>
          </a:p>
          <a:p>
            <a:pPr lvl="1" marL="457200" indent="-228600">
              <a:spcBef>
                <a:spcPts val="601"/>
              </a:spcBef>
              <a:buClr>
                <a:srgbClr val="e0e0e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Century Gothic"/>
            </a:endParaRPr>
          </a:p>
          <a:p>
            <a:pPr lvl="1" marL="457200" indent="-228600">
              <a:spcBef>
                <a:spcPts val="601"/>
              </a:spcBef>
              <a:buClr>
                <a:srgbClr val="e0e0e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Century Gothic"/>
              </a:rPr>
              <a:t>Resources for Building Profiles</a:t>
            </a:r>
            <a:endParaRPr b="0" lang="en-US" sz="32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887" name=""/>
          <p:cNvSpPr txBox="1"/>
          <p:nvPr/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Company website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LinkedIn Company Profiles and Groups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LinkedIn Connections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Google Searches/Alerts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Asking questions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Informational interviews 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Century Gothic"/>
              </a:rPr>
              <a:t>Find and Connect to Recruiters </a:t>
            </a:r>
            <a:br>
              <a:rPr sz="3600"/>
            </a:br>
            <a:r>
              <a:rPr b="0" lang="en-US" sz="3600" spc="-1" strike="noStrike">
                <a:solidFill>
                  <a:srgbClr val="990000"/>
                </a:solidFill>
                <a:latin typeface="Century Gothic"/>
              </a:rPr>
              <a:t>&amp; Hiring Managers</a:t>
            </a: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889" name=""/>
          <p:cNvSpPr txBox="1"/>
          <p:nvPr/>
        </p:nvSpPr>
        <p:spPr>
          <a:xfrm>
            <a:off x="457200" y="2355480"/>
            <a:ext cx="4038480" cy="377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Century Gothic"/>
              </a:rPr>
              <a:t>Events/Associations</a:t>
            </a:r>
            <a:endParaRPr b="0" lang="en-US" sz="1800" spc="-1" strike="noStrike">
              <a:solidFill>
                <a:srgbClr val="333333"/>
              </a:solidFill>
              <a:latin typeface="Century Gothic"/>
            </a:endParaRPr>
          </a:p>
          <a:p>
            <a:pPr lvl="1" marL="457200" indent="-228600">
              <a:spcBef>
                <a:spcPts val="601"/>
              </a:spcBef>
              <a:buClr>
                <a:srgbClr val="4d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Century Gothic"/>
              </a:rPr>
              <a:t>Society for Human Resource Managers (SHRM)</a:t>
            </a:r>
            <a:endParaRPr b="0" lang="en-US" sz="1800" spc="-1" strike="noStrike">
              <a:solidFill>
                <a:srgbClr val="333333"/>
              </a:solidFill>
              <a:latin typeface="Century Gothic"/>
            </a:endParaRPr>
          </a:p>
          <a:p>
            <a:pPr lvl="1" marL="457200" indent="-228600">
              <a:spcBef>
                <a:spcPts val="601"/>
              </a:spcBef>
              <a:buClr>
                <a:srgbClr val="4d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Century Gothic"/>
              </a:rPr>
              <a:t>Industry/Occupational Associations</a:t>
            </a:r>
            <a:endParaRPr b="0" lang="en-US" sz="1800" spc="-1" strike="noStrike">
              <a:solidFill>
                <a:srgbClr val="333333"/>
              </a:solidFill>
              <a:latin typeface="Century Gothic"/>
            </a:endParaRPr>
          </a:p>
          <a:p>
            <a:pPr lvl="1" marL="457200" indent="-228600">
              <a:spcBef>
                <a:spcPts val="601"/>
              </a:spcBef>
              <a:buClr>
                <a:srgbClr val="4d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Century Gothic"/>
              </a:rPr>
              <a:t>Chambers of Commerce</a:t>
            </a:r>
            <a:endParaRPr b="0" lang="en-US" sz="1800" spc="-1" strike="noStrike">
              <a:solidFill>
                <a:srgbClr val="333333"/>
              </a:solidFill>
              <a:latin typeface="Century Gothic"/>
            </a:endParaRPr>
          </a:p>
          <a:p>
            <a:pPr lvl="1" marL="457200" indent="-228600">
              <a:spcBef>
                <a:spcPts val="601"/>
              </a:spcBef>
              <a:buClr>
                <a:srgbClr val="4d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Century Gothic"/>
              </a:rPr>
              <a:t>Conferences</a:t>
            </a:r>
            <a:endParaRPr b="0" lang="en-US" sz="18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890" name=""/>
          <p:cNvSpPr txBox="1"/>
          <p:nvPr/>
        </p:nvSpPr>
        <p:spPr>
          <a:xfrm>
            <a:off x="4648320" y="2355480"/>
            <a:ext cx="4038480" cy="377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Century Gothic"/>
              </a:rPr>
              <a:t>LinkedIn</a:t>
            </a:r>
            <a:endParaRPr b="0" lang="en-US" sz="18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Century Gothic"/>
              </a:rPr>
              <a:t>Twitter</a:t>
            </a:r>
            <a:endParaRPr b="0" lang="en-US" sz="18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Century Gothic"/>
              </a:rPr>
              <a:t>Company websites/blogs</a:t>
            </a:r>
            <a:endParaRPr b="0" lang="en-US" sz="18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Century Gothic"/>
              </a:rPr>
              <a:t>Email lists/newsletters</a:t>
            </a:r>
            <a:endParaRPr b="0" lang="en-US" sz="18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Century Gothic"/>
              </a:rPr>
              <a:t>Listen and Document</a:t>
            </a: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892" name=""/>
          <p:cNvSpPr txBox="1"/>
          <p:nvPr/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1363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Follow/read what they post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363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Join their groups to see what they’re discussing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363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ign up for their newsletters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363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Ask questions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363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Probe for “pain” and problems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"/>
          <p:cNvSpPr txBox="1"/>
          <p:nvPr/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Comment and RT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Provide resources, information that solve problems and address their “pain” points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Connect them to people and resources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Answer questions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Century Gothic"/>
              </a:rPr>
              <a:t>Engage</a:t>
            </a: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Century Gothic"/>
              </a:rPr>
              <a:t>Filling Existing Needs</a:t>
            </a: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896" name=""/>
          <p:cNvSpPr txBox="1"/>
          <p:nvPr/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et up strategies for each company to be notified of job openings. (Company website, Google Alerts, etc.)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For each job opening, work with job seeker to “complete the T” (</a:t>
            </a:r>
            <a:r>
              <a:rPr b="0" i="1" lang="en-US" sz="2000" spc="-1" strike="noStrike">
                <a:solidFill>
                  <a:srgbClr val="333333"/>
                </a:solidFill>
                <a:latin typeface="Century Gothic"/>
              </a:rPr>
              <a:t>Refer to next slides</a:t>
            </a: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) 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Make referra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Coach customer to sell him/herself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Follow-up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Century Gothic"/>
              </a:rPr>
              <a:t>Completing the “T”</a:t>
            </a: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898" name=""/>
          <p:cNvSpPr txBox="1"/>
          <p:nvPr/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1800"/>
              </a:spcBef>
              <a:buClr>
                <a:srgbClr val="99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Review job posting and/or company info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514440" indent="-514440">
              <a:spcBef>
                <a:spcPts val="1800"/>
              </a:spcBef>
              <a:buClr>
                <a:srgbClr val="99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Identify employer needs, relevant keywords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1" marL="914400" indent="-514440">
              <a:spcBef>
                <a:spcPts val="601"/>
              </a:spcBef>
              <a:buClr>
                <a:srgbClr val="4d0000"/>
              </a:buClr>
              <a:buFont typeface="Wingdings 2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Century Gothic"/>
              </a:rPr>
              <a:t>For job</a:t>
            </a:r>
            <a:endParaRPr b="0" lang="en-US" sz="1800" spc="-1" strike="noStrike">
              <a:solidFill>
                <a:srgbClr val="333333"/>
              </a:solidFill>
              <a:latin typeface="Century Gothic"/>
            </a:endParaRPr>
          </a:p>
          <a:p>
            <a:pPr lvl="1" marL="914400" indent="-514440">
              <a:spcBef>
                <a:spcPts val="601"/>
              </a:spcBef>
              <a:buClr>
                <a:srgbClr val="4d0000"/>
              </a:buClr>
              <a:buFont typeface="Wingdings 2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Century Gothic"/>
              </a:rPr>
              <a:t>For company/culture</a:t>
            </a:r>
            <a:endParaRPr b="0" lang="en-US" sz="1800" spc="-1" strike="noStrike">
              <a:solidFill>
                <a:srgbClr val="333333"/>
              </a:solidFill>
              <a:latin typeface="Century Gothic"/>
            </a:endParaRPr>
          </a:p>
          <a:p>
            <a:pPr marL="514440" indent="-514440">
              <a:spcBef>
                <a:spcPts val="1800"/>
              </a:spcBef>
              <a:spcAft>
                <a:spcPts val="1199"/>
              </a:spcAft>
              <a:buClr>
                <a:srgbClr val="99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Fill in job seeker info to complete the T.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514440" indent="-514440">
              <a:spcBef>
                <a:spcPts val="1800"/>
              </a:spcBef>
              <a:spcAft>
                <a:spcPts val="1199"/>
              </a:spcAft>
              <a:buClr>
                <a:srgbClr val="99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If you can’t complete The T—DON’T APPLY!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514440" indent="-514440">
              <a:spcBef>
                <a:spcPts val="1800"/>
              </a:spcBef>
              <a:spcAft>
                <a:spcPts val="1199"/>
              </a:spcAft>
              <a:buClr>
                <a:srgbClr val="99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If you can, complete your resume. 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9" name="Picture 3" descr="Picture 9.png"/>
          <p:cNvPicPr/>
          <p:nvPr/>
        </p:nvPicPr>
        <p:blipFill>
          <a:blip r:embed="rId1"/>
          <a:stretch/>
        </p:blipFill>
        <p:spPr>
          <a:xfrm>
            <a:off x="0" y="614520"/>
            <a:ext cx="9144000" cy="56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0" name="Picture 3" descr="Picture 11.png"/>
          <p:cNvPicPr/>
          <p:nvPr/>
        </p:nvPicPr>
        <p:blipFill>
          <a:blip r:embed="rId1"/>
          <a:stretch/>
        </p:blipFill>
        <p:spPr>
          <a:xfrm>
            <a:off x="2195640" y="1036800"/>
            <a:ext cx="5043240" cy="5294160"/>
          </a:xfrm>
          <a:prstGeom prst="rect">
            <a:avLst/>
          </a:prstGeom>
          <a:ln w="0">
            <a:noFill/>
          </a:ln>
        </p:spPr>
      </p:pic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Century Gothic"/>
              </a:rPr>
              <a:t>The “T”</a:t>
            </a: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Century Gothic"/>
              </a:rPr>
              <a:t>Openings for the Right Candidate</a:t>
            </a: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903" name=""/>
          <p:cNvSpPr txBox="1"/>
          <p:nvPr/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Match between company needs and applicant skills/experience/personal characteristics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old on applicant through personal contact 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Easier through network referra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pic>
        <p:nvPicPr>
          <p:cNvPr id="904" name="Picture 8" descr=""/>
          <p:cNvPicPr/>
          <p:nvPr/>
        </p:nvPicPr>
        <p:blipFill>
          <a:blip r:embed="rId1"/>
          <a:stretch/>
        </p:blipFill>
        <p:spPr>
          <a:xfrm>
            <a:off x="2968560" y="4029120"/>
            <a:ext cx="3051360" cy="206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591840" y="3428640"/>
            <a:ext cx="6583320" cy="1398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990000"/>
                </a:solidFill>
                <a:latin typeface="Century Gothic"/>
              </a:rPr>
              <a:t>The Hiring Environment</a:t>
            </a:r>
            <a:endParaRPr b="0" lang="en-US" sz="4600" spc="-1" strike="noStrike">
              <a:solidFill>
                <a:srgbClr val="99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Century Gothic"/>
              </a:rPr>
              <a:t>Creating Openings</a:t>
            </a: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906" name=""/>
          <p:cNvSpPr txBox="1"/>
          <p:nvPr/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Know pain and problems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how how applicant addresses pain or solves problem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how how applicant matches culture/skill needs of the organization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Coach applicant to sell him/herself!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Do NOT refer to “job carving” or other industry jargon!!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00"/>
                </a:solidFill>
                <a:latin typeface="Century Gothic"/>
              </a:rPr>
              <a:t>Ongoing </a:t>
            </a:r>
            <a:br>
              <a:rPr sz="4000"/>
            </a:br>
            <a:r>
              <a:rPr b="0" lang="en-US" sz="4000" spc="-1" strike="noStrike">
                <a:solidFill>
                  <a:srgbClr val="990000"/>
                </a:solidFill>
                <a:latin typeface="Century Gothic"/>
              </a:rPr>
              <a:t>Relationship-Building</a:t>
            </a:r>
            <a:endParaRPr b="0" lang="en-US" sz="40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908" name=""/>
          <p:cNvSpPr txBox="1"/>
          <p:nvPr/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Track and share industry-related articles targeted to your employers’ needs.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Connect with them on LinkedIn to keep track of and acknowledge professional accomplishments and milestones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Email “tickler” file—keep in ongoing contact. Check in even when you don’t need something. 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7200" y="34272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Century Gothic"/>
              </a:rPr>
              <a:t>Remember. . . </a:t>
            </a: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910" name=""/>
          <p:cNvSpPr txBox="1"/>
          <p:nvPr/>
        </p:nvSpPr>
        <p:spPr>
          <a:xfrm>
            <a:off x="457200" y="170784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10240" indent="-21024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Employers are PEOPLE. Connect with them as people, not as a means to an end.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10240" indent="-21024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Find ways to personalize the connection: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1" marL="420480" indent="-210240">
              <a:spcBef>
                <a:spcPts val="601"/>
              </a:spcBef>
              <a:buClr>
                <a:srgbClr val="4d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Century Gothic"/>
              </a:rPr>
              <a:t>Thank you notes</a:t>
            </a:r>
            <a:endParaRPr b="0" lang="en-US" sz="1800" spc="-1" strike="noStrike">
              <a:solidFill>
                <a:srgbClr val="333333"/>
              </a:solidFill>
              <a:latin typeface="Century Gothic"/>
            </a:endParaRPr>
          </a:p>
          <a:p>
            <a:pPr lvl="1" marL="420480" indent="-210240">
              <a:spcBef>
                <a:spcPts val="601"/>
              </a:spcBef>
              <a:buClr>
                <a:srgbClr val="4d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Century Gothic"/>
              </a:rPr>
              <a:t>Birthday greetings</a:t>
            </a:r>
            <a:endParaRPr b="0" lang="en-US" sz="1800" spc="-1" strike="noStrike">
              <a:solidFill>
                <a:srgbClr val="333333"/>
              </a:solidFill>
              <a:latin typeface="Century Gothic"/>
            </a:endParaRPr>
          </a:p>
          <a:p>
            <a:pPr lvl="1" marL="420480" indent="-210240">
              <a:spcBef>
                <a:spcPts val="601"/>
              </a:spcBef>
              <a:buClr>
                <a:srgbClr val="4d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Century Gothic"/>
              </a:rPr>
              <a:t>Respond to achievements/accomplishments</a:t>
            </a:r>
            <a:endParaRPr b="0" lang="en-US" sz="1800" spc="-1" strike="noStrike">
              <a:solidFill>
                <a:srgbClr val="333333"/>
              </a:solidFill>
              <a:latin typeface="Century Gothic"/>
            </a:endParaRPr>
          </a:p>
          <a:p>
            <a:pPr lvl="1" marL="420480" indent="-210240">
              <a:spcBef>
                <a:spcPts val="601"/>
              </a:spcBef>
              <a:buClr>
                <a:srgbClr val="4d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Century Gothic"/>
              </a:rPr>
              <a:t>Meet them for coffee</a:t>
            </a:r>
            <a:endParaRPr b="0" lang="en-US" sz="1800" spc="-1" strike="noStrike">
              <a:solidFill>
                <a:srgbClr val="333333"/>
              </a:solidFill>
              <a:latin typeface="Century Gothic"/>
            </a:endParaRPr>
          </a:p>
          <a:p>
            <a:pPr marL="210240" indent="-21024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LISTEN!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10240" indent="-21024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Help them do their jobs better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10240" indent="-21024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Help them look good to their boss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Century Gothic"/>
              </a:rPr>
              <a:t>Documenting &amp; Sharing</a:t>
            </a: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912" name=""/>
          <p:cNvSpPr txBox="1"/>
          <p:nvPr/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Consider using Google Docs or a Wiki to document and share your ongoing work with employers with co-workers.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Consider CRM software to manage contacts (Salesforce is $15/month for up to 5 users) 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Century Gothic"/>
              </a:rPr>
              <a:t>Consider Microenterprise</a:t>
            </a: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914" name=""/>
          <p:cNvSpPr txBox="1"/>
          <p:nvPr/>
        </p:nvSpPr>
        <p:spPr>
          <a:xfrm>
            <a:off x="457200" y="2209320"/>
            <a:ext cx="86868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elf-employment with minimal start-up costs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Based on interests/passions of jobseeker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Multiple income streams=more reliable route to self-sufficiency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More cost-effective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Increases self-esteem and motivation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33"/>
                </a:solidFill>
                <a:latin typeface="Century Gothic"/>
              </a:rPr>
              <a:t>(Archived webinar on microenterprise at www.discoverabilitynj.org)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457200" y="34272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Century Gothic"/>
              </a:rPr>
              <a:t>Less Pressure to Hire</a:t>
            </a: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pic>
        <p:nvPicPr>
          <p:cNvPr id="852" name="Picture 3" descr="Picture 47.png"/>
          <p:cNvPicPr/>
          <p:nvPr/>
        </p:nvPicPr>
        <p:blipFill>
          <a:blip r:embed="rId1"/>
          <a:stretch/>
        </p:blipFill>
        <p:spPr>
          <a:xfrm>
            <a:off x="1420920" y="1486080"/>
            <a:ext cx="6405480" cy="43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457200" y="34272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Century Gothic"/>
              </a:rPr>
              <a:t>Too Many Applicants </a:t>
            </a: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pic>
        <p:nvPicPr>
          <p:cNvPr id="854" name="Picture 4" descr=""/>
          <p:cNvPicPr/>
          <p:nvPr/>
        </p:nvPicPr>
        <p:blipFill>
          <a:blip r:embed="rId1"/>
          <a:stretch/>
        </p:blipFill>
        <p:spPr>
          <a:xfrm>
            <a:off x="677880" y="1486080"/>
            <a:ext cx="721044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5" name="Picture 10" descr="Picture 46.png"/>
          <p:cNvPicPr/>
          <p:nvPr/>
        </p:nvPicPr>
        <p:blipFill>
          <a:blip r:embed="rId1"/>
          <a:stretch/>
        </p:blipFill>
        <p:spPr>
          <a:xfrm>
            <a:off x="457200" y="608040"/>
            <a:ext cx="8012160" cy="5726160"/>
          </a:xfrm>
          <a:prstGeom prst="rect">
            <a:avLst/>
          </a:prstGeom>
          <a:ln w="0">
            <a:noFill/>
          </a:ln>
        </p:spPr>
      </p:pic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6171840" y="2921040"/>
            <a:ext cx="2971800" cy="2695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Century Gothic"/>
              </a:rPr>
              <a:t>Multiple Hiring Sources</a:t>
            </a: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Century Gothic"/>
              </a:rPr>
              <a:t>Employers Try to Manage Recruitment by. . . </a:t>
            </a:r>
            <a:endParaRPr b="0" lang="en-US" sz="32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858" name=""/>
          <p:cNvSpPr txBox="1"/>
          <p:nvPr/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Putting off hiring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Re-hiring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Hiring from referrals without widely advertising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Poaching from other companies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457200" y="342720"/>
            <a:ext cx="7105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Century Gothic"/>
              </a:rPr>
              <a:t>What Do They Look For? </a:t>
            </a:r>
            <a:endParaRPr b="0" lang="en-US" sz="40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860" name=""/>
          <p:cNvSpPr txBox="1"/>
          <p:nvPr/>
        </p:nvSpPr>
        <p:spPr>
          <a:xfrm>
            <a:off x="456840" y="2342880"/>
            <a:ext cx="7783560" cy="32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Century Gothic"/>
              </a:rPr>
              <a:t>Qualified </a:t>
            </a: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applicants </a:t>
            </a:r>
            <a:r>
              <a:rPr b="0" lang="en-US" sz="3200" spc="-1" strike="noStrike">
                <a:solidFill>
                  <a:srgbClr val="333333"/>
                </a:solidFill>
                <a:latin typeface="Century Gothic"/>
              </a:rPr>
              <a:t>from </a:t>
            </a:r>
            <a:r>
              <a:rPr b="1" lang="en-US" sz="3200" spc="-1" strike="noStrike">
                <a:solidFill>
                  <a:srgbClr val="333333"/>
                </a:solidFill>
                <a:latin typeface="Century Gothic"/>
              </a:rPr>
              <a:t>trusted source, </a:t>
            </a: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referred </a:t>
            </a:r>
            <a:r>
              <a:rPr b="1" lang="en-US" sz="3200" spc="-1" strike="noStrike">
                <a:solidFill>
                  <a:srgbClr val="333333"/>
                </a:solidFill>
                <a:latin typeface="Century Gothic"/>
              </a:rPr>
              <a:t>quickly </a:t>
            </a: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with </a:t>
            </a:r>
            <a:r>
              <a:rPr b="1" lang="en-US" sz="3200" spc="-1" strike="noStrike">
                <a:solidFill>
                  <a:srgbClr val="333333"/>
                </a:solidFill>
                <a:latin typeface="Century Gothic"/>
              </a:rPr>
              <a:t>minimal hassle</a:t>
            </a: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.  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51444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If working with organizations, they also prefer a </a:t>
            </a:r>
            <a:r>
              <a:rPr b="1" lang="en-US" sz="3200" spc="-1" strike="noStrike">
                <a:solidFill>
                  <a:srgbClr val="333333"/>
                </a:solidFill>
                <a:latin typeface="Century Gothic"/>
              </a:rPr>
              <a:t>single point of contact</a:t>
            </a: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. 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Century Gothic"/>
              </a:rPr>
              <a:t>What Does “Qualified” Mean?</a:t>
            </a:r>
            <a:endParaRPr b="0" lang="en-US" sz="32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862" name=""/>
          <p:cNvSpPr txBox="1"/>
          <p:nvPr/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Has direct work experience, preferably recent.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Required education/certifications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Will “add value” from Day One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Fits into organizational/corporate culture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Fits into team/department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7T12:07:14Z</dcterms:created>
  <dc:creator>Michele Martin</dc:creator>
  <dc:description/>
  <dc:language>en-US</dc:language>
  <cp:lastModifiedBy>Michele Martin</cp:lastModifiedBy>
  <dcterms:modified xsi:type="dcterms:W3CDTF">2012-09-19T13:44:50Z</dcterms:modified>
  <cp:revision>16</cp:revision>
  <dc:subject/>
  <dc:title>Asset-Based Assessment and Planning</dc:title>
</cp:coreProperties>
</file>