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  <p:sldId id="278" r:id="rId45"/>
    <p:sldId id="279" r:id="rId46"/>
    <p:sldId id="280" r:id="rId47"/>
    <p:sldId id="281" r:id="rId48"/>
    <p:sldId id="282" r:id="rId49"/>
    <p:sldId id="283" r:id="rId50"/>
    <p:sldId id="284" r:id="rId51"/>
    <p:sldId id="285" r:id="rId52"/>
    <p:sldId id="286" r:id="rId53"/>
    <p:sldId id="287" r:id="rId54"/>
    <p:sldId id="288" r:id="rId55"/>
    <p:sldId id="28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slide" Target="slides/slide23.xml"/><Relationship Id="rId46" Type="http://schemas.openxmlformats.org/officeDocument/2006/relationships/slide" Target="slides/slide24.xml"/><Relationship Id="rId47" Type="http://schemas.openxmlformats.org/officeDocument/2006/relationships/slide" Target="slides/slide25.xml"/><Relationship Id="rId48" Type="http://schemas.openxmlformats.org/officeDocument/2006/relationships/slide" Target="slides/slide26.xml"/><Relationship Id="rId49" Type="http://schemas.openxmlformats.org/officeDocument/2006/relationships/slide" Target="slides/slide27.xml"/><Relationship Id="rId50" Type="http://schemas.openxmlformats.org/officeDocument/2006/relationships/slide" Target="slides/slide28.xml"/><Relationship Id="rId51" Type="http://schemas.openxmlformats.org/officeDocument/2006/relationships/slide" Target="slides/slide29.xml"/><Relationship Id="rId52" Type="http://schemas.openxmlformats.org/officeDocument/2006/relationships/slide" Target="slides/slide30.xml"/><Relationship Id="rId53" Type="http://schemas.openxmlformats.org/officeDocument/2006/relationships/slide" Target="slides/slide31.xml"/><Relationship Id="rId54" Type="http://schemas.openxmlformats.org/officeDocument/2006/relationships/slide" Target="slides/slide32.xml"/><Relationship Id="rId55" Type="http://schemas.openxmlformats.org/officeDocument/2006/relationships/slide" Target="slides/slide33.xml"/><Relationship Id="rId56" Type="http://schemas.openxmlformats.org/officeDocument/2006/relationships/slide" Target="slides/slide34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dt" idx="5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47A8EE-80E6-48EF-8B62-298AB92E95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ftr" idx="6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 type="sldNum" idx="6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BF012C-19EA-4BA8-A1FB-E325731ED7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D140D8-9D09-4AC9-96E0-6A016B1946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E2F8E5-DEE6-41A0-AE1D-26ACE8667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er job openings plus highly qualified applicants begging for jobs. Plus, in many cases, they have current employees who are afraid of losing their jobs pick up the slac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B8229B-9BC1-4C91-862F-F008F12655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y do advertise for jobs, ost employers are buried in resumes and appl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re entry-level the job, the people who ap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companies have HR managers to manage this ei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680128-67C2-4448-8B06-E54DE676F3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178A43-6A05-4289-AEC9-035C0CEC74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gene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0853E8-3C88-4AEA-AC31-BBAC6C04E6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7B5D-398A-4E2E-89CB-2D3D64C46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6754-D9E1-479E-B3E7-9BC26AC1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5E410B-A96E-4FA8-96CF-7F9A7252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F81936-6003-4190-8B0B-1F0EE412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19D45E-2318-4DB3-900E-B4CB9F94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045A8C-D4D3-4C25-9091-32F8C6AC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03D50B-DFFE-4AF2-AEBE-EE0DB0A2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39E397-CE17-4285-9C09-D945E910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AA43F4-8CBA-470D-BB6A-40DC04BB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2E912E-E100-4431-AA4C-C71140EC6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E502C3-993E-417D-959C-74C59FF62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8BB022-CCCB-4AF0-83DB-189609549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033E-64FD-4C17-B1D8-E402C9608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261403-DB43-4448-9CCD-D8792D17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7C3AD1-19EC-4859-BC80-CBDA73F4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E76443-7F8F-4C0B-BD14-72498FA7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7A14B8-C811-487C-A143-B0495F5F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61FBF8-9F1C-43A2-9C6C-1A298A2E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454CC6-81AE-4073-9961-E473F9B3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416A64-62E9-4B86-A56F-EBA57700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0BEF8A-4DDB-492E-8373-F5394383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91246A-DA43-4D6D-AAA1-5925D616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64F32B-3279-478B-9917-499C9BFF2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9420-476C-4A83-A6FF-B5FFA9B44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2652A9-EBBA-4C3D-AE74-E47A1A40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ABC81B3-A02D-4CD5-9B0E-43BB4949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EEDC5B7-14CE-4505-9091-829C48DD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EB4629A-5400-420B-A83A-19570D45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2992EC3-EBBF-4025-A4A8-09A0E0AE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265742A-3A5E-494A-A710-7C2CB372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59A024A-85CD-4C16-BDA6-3695C2ED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361B837-77B1-49D4-B74B-82256C29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F50101C-4A6B-41A5-9646-4BEDF912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ED954E5-6C91-4101-914F-C894EF4F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F786-F4CD-4AB1-81C1-8417C0BC5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2241074-EE4A-4D05-966C-D6007B9B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C8D6379-1C4E-4D4D-B6AB-19C20B72D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0E742BA-C5B4-4662-8C71-4FA53FC0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3FADBE-B4A2-469F-92A3-7A90D1AD6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7EFB01-2820-4FBF-85F9-6B2B7AA2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D22769-C19F-40E6-A5C0-7AA52DEF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251755-7B2D-4F89-8966-C50A3172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035C92-1F34-4749-92B4-A119D653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F3EC71-1406-4E46-AA12-9661FC30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1F066C-08BF-496A-832E-1505D332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3694-DE6E-4AC0-81FA-AD15ABA4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F74691-A8B5-46CC-9F31-FFCFB2ED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28BC32-1165-48C0-8413-FF704474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87BFB7-DCDD-4728-BFB9-0A945F0E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16BCF2-7480-4B45-9C69-125F37F62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174050-1E78-482B-AB50-C0EEAF664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FAE6883-6FC0-473B-A741-E4693895B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06AE321-8B79-437A-80A0-6EF29F8F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97C919F-439A-4F87-8649-7D72C3F7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AC544DA-8765-4498-9DE2-2A58606C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0F36911-4956-43EE-B491-9FBF3D49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A4CA-13B9-4910-819D-128E21CA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33408D2-5138-48BF-A0FD-3774AB39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58331C7-A65E-4A52-8784-492A0D80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893A22B-C14B-409A-9AB4-82F40965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3F99DB1-D3E5-4ED2-9DEA-7DDA79A6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D0A386F-7A24-4BFA-B749-AB64B7D6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71D837F-1333-49C4-84A8-858CCD217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392A24C-6C87-47BD-804F-E666F5899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C3976AE-89D8-4EC4-904A-0D419D9A2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AE3964F-E89C-40F3-A216-479C5DBD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089FC1C-AE45-4537-B37A-1F15C7C4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7BFF-B1B7-45AE-9BCD-C2126350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3811AF3-27BA-433E-A2E4-A3DF49B3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EAEF944-1582-4D93-AA62-E60E870D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848D118-259B-41A1-A4DF-3E7A097E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B20CD72-2A74-40F8-AC13-DCAACBDC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5A2BCDA-8CE3-4448-B4C0-70E62A92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E613630-3162-4DB5-92D6-1CABD852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68B7A09-94F7-4045-AD69-B7E51703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68E8C6D-564C-4979-A015-0A01CBD57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1CFFEB6-1C68-408B-8A95-3DF0A2914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04EB2D2-705C-4C7B-9B70-F304B4FCF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C661-E9F0-4995-8AE5-63A3451E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1FF9A1B-45D6-42FD-BA0E-58A28268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0F6AFC9-606C-449F-ADB1-9DB8CEAA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589C729-36ED-4B10-8B8C-C39066B6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4F748B2-B207-4CC4-A66A-EB460045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081D8E7-C535-4CD3-85FE-78C94DFD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EB965A5-DFC0-4924-9B71-E4F31C30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0D45BA9-31DD-428B-80A3-3A684B12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A973027-F3E1-4674-A7ED-94D70314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343E508-F018-45CD-AD1C-5B13612A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BD83ABC-415F-4FFC-93A7-A8E054385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ED05-03AA-4082-908E-4C0CB78C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1D8589C-470E-407C-9EA4-1236A9624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2B1E8C5-C8C8-49B8-BE7A-2896AA704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FA4A233-A9DA-44FF-9778-615888AD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186E480-CFEF-476B-89F1-7E5D7FEE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95C3B27-38B9-445D-B3E1-60A772C0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C7BEF52-7359-49B5-909D-9954747D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3BCCE64-ED51-448E-B7B8-63137546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2771EF4-DE24-4EB9-A95B-60918A40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369A06A-3365-4764-92F5-E3BE53A7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8542E79-60CD-4B07-87BD-06A3765A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08B9-556B-4457-B4A7-A42E1F0E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B9A24C2-8BFE-4899-9290-190AC5F3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F7E27DE-33F4-4715-AB43-B9A10A16B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00C4D9D-9A81-44EE-8562-C6CF59D9D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C12A0C1-A926-4883-BF73-11E870893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FF16A3F-ACB2-44E7-9871-8AF2EBB5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CA27BCC-80C2-49F6-9EE9-8A2F6875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A02621A-7E5F-43FE-A7A5-484E2625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8B23597-72D2-46A0-8E3E-666AE956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004FD9F-61A0-403F-8B58-A13B02B4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14FF3CE-72D9-4108-9E7F-3CC4A815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12FC-323E-404D-B330-D3FDDEE8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AC56-A428-415D-B63E-B24DAE4D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05C8410-0567-4D5B-BE5A-BC511B79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66E9B4E-9DC0-4E40-8CCE-AD24764D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DE86458-C3A3-4D86-8556-E4A9E712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EC8A7B1-64DE-45A2-BF6A-07CE4DBDB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C515C33-2E8A-418B-B4C9-AEB8B4828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AFED175-C168-4624-BC26-6DE0BD4D6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2819F2A-D2A2-48A8-8C4F-E7FF0D4B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4AA5540-99CA-4DE0-9B11-0D96EE8C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D6EE4F9-2223-4020-81C8-3076F5FF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B7DF37C-20B8-4EB3-93F4-A1451338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0F8F-17D9-45FD-85FB-F932D1F4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911A881-4389-4BB4-AC9E-7DF9143E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5C07BFA-F01B-4ABD-AAD3-6ECEB388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63EBEC3-376D-4F11-800D-09550C96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DFC5BC8-69A8-4CF6-9685-A118C41E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32C6227-16D6-4322-8981-8EE91FB8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B24E7F9-6EF2-423D-9DCC-5030964EF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27CE82A-628C-41AA-9175-5AB291B8D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F20AB30-730C-4961-AB78-C171F3D67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B496A5F-C810-4CE8-B10F-4AE33F3C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AAD742D-1EB4-4101-90B1-F44AD3CC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AEC5-5DC5-4145-B939-77E6EA8D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510EA65-00FA-4027-9C70-56DBE3E7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E323386-3149-4EB6-85B7-BF50A34A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6835753-668A-4522-9F09-F9C7C7B9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0399E95-DCA1-4284-98C6-09D982D7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CF7BFFF-768A-48B2-91A0-E30CED15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0C72E73-687D-453E-844B-FFEC4B4D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51423D8-2CFD-47CC-A27F-FF5490A8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5FD0B9E-1ED4-458C-A0D0-9E933CEFB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58798B8-AF3E-4CC6-90FC-D27F9518C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ECBA132-C9F8-4979-BAF9-6A5CAD738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23D6-A797-4F88-BBE1-3D04852EF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5A4491F-98A4-4486-8CEF-94D0A058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2DE04F5-8697-4E70-8842-72245C1D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DFFCD37-8281-4AE3-9492-60FE76D9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D31559B-F0AA-4F61-8AAC-09E76FA9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3655332-C572-4BA2-83D8-044E0FBC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12930EB-CEC0-45BC-97A7-160914E8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450581E-02AD-43A9-AFAC-B90885D6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27FFC99-8CE6-4AB1-B36B-267CF6CD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EE0F80C-64B0-424E-9A98-384E8A82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B78D165-71BD-4642-B4E2-A133F7421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0E3A-1CDD-403E-993F-602476CB9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4BBCB66-6554-4200-9C3F-85A52C842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AAEED-FDCE-4D3D-95A3-E97D34076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24EDD-7DDC-4902-81DD-078D433E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7F1C5-C88F-40AD-BB0C-3C1D1C9D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55175-C1C1-4094-9F12-557E6D2B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67012-4E69-4424-828D-8B97DD78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4FBA-1006-4947-A84B-7F1D9BA7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45D5E-7B07-4E48-9545-148FD924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96B08-933E-47DA-9CB2-92AD0CA7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6E180-AF0F-4034-9220-85D07011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ABF0F-29AF-4BC2-A6D0-D57E8FC0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ABF70-48AB-41AF-B2C2-5B231CE8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6549C-3882-4F05-B1F1-06B41619D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E2D19-F11B-4A14-8E5F-8B25C226A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B781A-5D78-4CC2-9436-18DA363BC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0EE71-57FB-4107-9DC9-B5507D92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149EA-7127-4329-A836-B1028C69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675E-BF12-471F-AD82-E2B5ECE9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231E9-6044-4FC7-89DC-D3F5E644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EA53F-C4F9-41E8-81A7-7C929A14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6C044-75A6-4C28-9F10-DE2FC309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6EF38-F5CF-4A4B-82D7-E567239C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13407-83AD-4032-9666-D7349411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AC43C-381C-4494-B0D0-3DC6AE12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FF6D7-FE72-420F-88F4-73199D91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9BB4F-03E6-4E42-93CD-BCC90913B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653FB-54AF-4036-BC75-B89A9370F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16FF4-DC36-45BA-B91B-6A2EEE8C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3CF7-61F0-4D39-82D7-E6F755E0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097F5-EBF2-4ECD-A719-12598DF4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6AF26-147C-43A9-9C0A-8FAB9BF7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40722-69CA-408A-88DC-33B7A578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8854A-B90F-4402-9158-EF6D1C7F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F51E9-E013-4CD6-9B73-993BB472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27E68-7B1B-4828-9B40-E34A8560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2A43E-A954-427D-A086-F7256601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3676C-50F5-4B99-8E57-15FED4B2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8A67F-A78E-416C-B09A-2CFBCA52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EA9D5-DE44-471F-BE12-B00D14A99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1328-67C8-4189-9253-12D0A321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A3F6C-2584-4118-A1BB-B1717F1A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472C4-F4FC-43D9-AF9E-948187EEA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C40BE-DDC8-4EA5-9BC3-1401988E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2D054-7A3E-46BD-AE30-432C6977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CDCCB-2716-42DD-975D-2D87057A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A8155-AF48-4709-85ED-5C4476F0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419A4-30BB-4C23-9A11-696BBB98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25B3D-B8B7-49DA-BA8A-5CF9255F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96DA8-8BE5-496A-855F-5559C8A4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275A2-3DB8-4CB4-84EA-48673FA4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2891-C96B-4CE1-A10E-2A1269C2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6D750-FEBC-4B38-9D55-2A2D4B51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DF607-8992-48DA-9510-5C8F71323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1422C-8255-4D31-8F07-32D9FADA0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15A7F6-3D41-4EA3-A361-DD1C37E10A6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47B178-5A97-4741-9B6D-D723B60BB58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530F24-EACE-4755-AFAA-89322A661AB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258D8B-CE3D-407A-BD11-7461274D37E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6878C8-ACE6-45A9-8B52-110E1BBE682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8DB0EC-8A92-4127-804F-23B8C30CDAE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1158C9-4458-4366-A53C-83594F8AEA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FA8D-A4C2-4942-8AAE-D27AFBFA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6E8626-756F-4C55-AF0B-494CF28EFA7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9313AC-9F23-4A91-9BE4-5EFBBBDBA68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698E21-3539-44B2-B8A2-4FE02537C91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0EBAE1-FE76-4BDB-83D0-B08E3CB23B7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534005-0EE9-4DA2-B7B7-074BD42FE88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8E82CC-AE27-4851-94B0-CEF198FF5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493AAD-CE5A-41C9-8DC7-743BC40C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A9493D-76D4-47CA-8C91-751B96A9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22D11E-C753-44FC-917D-545C8D29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85CCF7-55E9-4EBD-8E0A-ACC89FB5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6B0D-BA39-4756-863A-79521D17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6888E9-DD40-411C-B5C6-E743C914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93B6C0-328A-4228-8D81-264B5C9E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CC382F-4194-4A2C-BD65-22A2FEAC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8D7D02-812A-4C92-8975-E3AB2E1E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1AE274-324D-4076-9670-AA05A16B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453D40-31A9-4253-AA6F-D6D35D65B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D8411A-BE2A-4E2D-93C9-D6B33BD61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C6602F-6B73-44AD-8651-30CD6337E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271C08-EF8B-4360-8A41-E180DD0A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5661A8-6E1E-4D90-B397-8A48C638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9A8F0D-1175-45C0-9235-58E76D73E440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3EDB46-F733-422F-A175-8C9503170DB6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6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32FC5F-E08A-44FF-B313-08835E165A6A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7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8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18B7E6-4943-4C12-B524-047C3A96D47F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9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835E8D-014F-4FE2-B807-1755CF653B09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0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1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EB048F-5D6D-4F67-8582-70FAD98BA062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2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2C48F0-7917-4C30-AAFC-6F614AD877F5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3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4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1F3F8D-CAAE-4363-ADEF-AF1D883F9BDA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5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B34C2B-F6DF-4980-BED6-F95994E387D8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6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7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F5A755-3C89-4AB9-AD90-9C045A5E0291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6"/>
          <p:cNvSpPr/>
          <p:nvPr/>
        </p:nvSpPr>
        <p:spPr>
          <a:xfrm>
            <a:off x="8148600" y="268200"/>
            <a:ext cx="719280" cy="567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38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E73433-D0F2-4A9B-A201-B9819237A97E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39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40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EBD4B2-9438-4C9D-B061-4B9DB838294D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6"/>
          <p:cNvSpPr/>
          <p:nvPr/>
        </p:nvSpPr>
        <p:spPr>
          <a:xfrm>
            <a:off x="8148600" y="268200"/>
            <a:ext cx="719280" cy="567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1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93E984-3A25-42C5-9176-869875B12EB5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2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3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387EF8-8CB2-4F35-AF6E-9E42F323E238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6"/>
          <p:cNvSpPr/>
          <p:nvPr/>
        </p:nvSpPr>
        <p:spPr>
          <a:xfrm>
            <a:off x="4746600" y="268200"/>
            <a:ext cx="4114800" cy="567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44"/>
          </p:nvPr>
        </p:nvSpPr>
        <p:spPr>
          <a:xfrm>
            <a:off x="162000" y="612468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929911-929D-4565-AE71-EDAFD98A5A95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45"/>
          </p:nvPr>
        </p:nvSpPr>
        <p:spPr>
          <a:xfrm>
            <a:off x="174240" y="6356520"/>
            <a:ext cx="386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46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E6DD46-D427-44A8-ACA8-B6BC597AA5D3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6"/>
          <p:cNvSpPr/>
          <p:nvPr/>
        </p:nvSpPr>
        <p:spPr>
          <a:xfrm>
            <a:off x="7216920" y="268200"/>
            <a:ext cx="1639800" cy="3638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7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F2AA5A-A15F-4D30-A195-F583AEBE0C67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48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49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7A09D2-4F65-4429-84B5-23D9E9DCEBD4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6"/>
          <p:cNvSpPr/>
          <p:nvPr/>
        </p:nvSpPr>
        <p:spPr>
          <a:xfrm>
            <a:off x="8136000" y="268200"/>
            <a:ext cx="720720" cy="3638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dt" idx="50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A7319A-D7E4-41C6-9FEE-06E6B3681012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ftr" idx="51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 type="sldNum" idx="52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74751A-7AF2-4072-BD7F-1676B13F8F25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6"/>
          <p:cNvSpPr/>
          <p:nvPr/>
        </p:nvSpPr>
        <p:spPr>
          <a:xfrm>
            <a:off x="7211880" y="268200"/>
            <a:ext cx="1646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dt" idx="53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CD956D-6596-4D67-A484-93808A0F13C5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ftr" idx="54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 type="sldNum" idx="55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E120D4-A84A-466D-A852-7824CDBD4C66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3187800" y="268200"/>
            <a:ext cx="5668920" cy="39006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68200" y="268200"/>
            <a:ext cx="184320" cy="38862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276360" y="390600"/>
            <a:ext cx="550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8C33C4-35E4-41C0-977B-DF949EACDF9B}" type="datetime"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07/31/26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219480" y="6356520"/>
            <a:ext cx="4735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25624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667C96-7EE7-41D0-9080-E0875D14F6BC}" type="slidenum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6"/>
          <p:cNvSpPr/>
          <p:nvPr/>
        </p:nvSpPr>
        <p:spPr>
          <a:xfrm>
            <a:off x="8148600" y="268200"/>
            <a:ext cx="719280" cy="567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56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CB40AF-9E4B-4E03-9136-623CA479C343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57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58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13F7D2-93E9-4982-BCD0-8A4605D11FA1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7211880" y="268200"/>
            <a:ext cx="1646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7211520" y="6356520"/>
            <a:ext cx="175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53A03E-0931-41BF-AB30-950EE7D37A35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1A27D6-5D0D-4FE6-AF9A-35EF6B33C1CD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3187800" y="268200"/>
            <a:ext cx="5668920" cy="25606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268200" y="268200"/>
            <a:ext cx="184320" cy="38862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276360" y="390600"/>
            <a:ext cx="5499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5CB8F8-8582-4D6F-9D77-AC7B908FDAFA}" type="datetime"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07/31/26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213000" y="6356520"/>
            <a:ext cx="4735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826560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E0D407-2498-40D6-963A-D1F3E5B9CEC1}" type="slidenum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270000" y="268200"/>
            <a:ext cx="1646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7211520" y="6356520"/>
            <a:ext cx="175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AD740A-2DAB-4112-A752-167B199B12ED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2178000" y="6356520"/>
            <a:ext cx="4927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331920" y="360360"/>
            <a:ext cx="50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4B1DCE-BF60-4288-A978-B885A143EF87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7759800" y="268200"/>
            <a:ext cx="1098360" cy="63500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5562720" y="6356520"/>
            <a:ext cx="1622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C1F1FF-CC81-4263-8E77-D832001F8D91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174240" y="635652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5B5378-0DC0-4AD2-A7B9-6E779A17C819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270000" y="4773600"/>
            <a:ext cx="2971800" cy="1844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9"/>
          </p:nvPr>
        </p:nvSpPr>
        <p:spPr>
          <a:xfrm>
            <a:off x="351000" y="6105600"/>
            <a:ext cx="50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C88E0B-C815-44D1-9AE3-B9F8904CED37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0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CE6431-B253-4675-9F52-66BB5585532F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1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2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29ACAA-7D14-4BBF-8482-B60C8A5C8261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3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D76096-23E2-498D-8358-62F5306496C0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4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5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7B0F28-C998-489F-8983-8662832A6772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200040" y="4172040"/>
            <a:ext cx="5457960" cy="108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990000"/>
                </a:solidFill>
                <a:latin typeface="Century Gothic"/>
              </a:rPr>
              <a:t>Connecting to Employers</a:t>
            </a:r>
            <a:endParaRPr b="0" lang="en-US" sz="41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3200040" y="5257800"/>
            <a:ext cx="5457960" cy="6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Understanding the Employer Customer and Creating and Implementing an Outreach Plan</a:t>
            </a:r>
            <a:endParaRPr b="0" lang="en-US" sz="16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Trusted Sources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eir network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Networks of good employee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rough their own websit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Proven Recruiter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tes and sources where they’ve found success befor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Quick Quality </a:t>
            </a:r>
            <a:br>
              <a:rPr sz="3600"/>
            </a:b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With Minimal Hassle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Response within 24 hour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Applicant has quality resume, is prepared for interview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Responsive to employer process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Minimal paperwork, especially at the beginning of the proces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ngle point of contact from your agency/organization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entury Gothic"/>
              </a:rPr>
              <a:t>It’s About Relationships!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pic>
        <p:nvPicPr>
          <p:cNvPr id="868" name="Picture 3" descr=""/>
          <p:cNvPicPr/>
          <p:nvPr/>
        </p:nvPicPr>
        <p:blipFill>
          <a:blip r:embed="rId1"/>
          <a:stretch/>
        </p:blipFill>
        <p:spPr>
          <a:xfrm>
            <a:off x="2235240" y="2320920"/>
            <a:ext cx="4129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Relationships. . . 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Based on </a:t>
            </a: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trus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Quality work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Understanding of employer need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Consistent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Making/keeping commitment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# 1 way to build trust is to fill jobs quickly and with minimal hassle.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#2 way is to build relationships, not focus on transactions.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Building a Relationship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arget the right employer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Know their industry, issues, needs and processe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Be strategic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cus on the relationship, not on the transaction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Document, document, document!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2209680" y="3428640"/>
            <a:ext cx="4965840" cy="13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90000"/>
                </a:solidFill>
                <a:latin typeface="Century Gothic"/>
              </a:rPr>
              <a:t>Developing an Outreach Plan</a:t>
            </a:r>
            <a:endParaRPr b="0" lang="en-US" sz="46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Targeting Employers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mall vs. Large Employer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Demand industries/occupation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Job seeker goal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Initial research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779400" y="1828440"/>
            <a:ext cx="35654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99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entury Gothic"/>
              </a:rPr>
              <a:t>Who are the employers in your area?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752400" indent="-4572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o have you worked with before?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752400" indent="-4572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Google Maps Search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457200" indent="-457200">
              <a:spcBef>
                <a:spcPts val="1800"/>
              </a:spcBef>
              <a:buClr>
                <a:srgbClr val="99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entury Gothic"/>
              </a:rPr>
              <a:t>Of these employers, </a:t>
            </a:r>
            <a:r>
              <a:rPr b="1" lang="en-US" sz="1800" spc="-1" strike="noStrike" u="sng">
                <a:solidFill>
                  <a:srgbClr val="333333"/>
                </a:solidFill>
                <a:uFillTx/>
                <a:latin typeface="Century Gothic"/>
              </a:rPr>
              <a:t>who is hiring</a:t>
            </a:r>
            <a:r>
              <a:rPr b="1" lang="en-US" sz="1800" spc="-1" strike="noStrike">
                <a:solidFill>
                  <a:srgbClr val="333333"/>
                </a:solidFill>
                <a:latin typeface="Century Gothic"/>
              </a:rPr>
              <a:t>?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752400" indent="-4572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Job postings—in Jobs4Jersey, on their website, on other board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752400" indent="-4572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“</a:t>
            </a: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Follow the money”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457200" indent="-457200">
              <a:spcBef>
                <a:spcPts val="1800"/>
              </a:spcBef>
              <a:buClr>
                <a:srgbClr val="990000"/>
              </a:buClr>
              <a:buFont typeface="Century Gothic"/>
              <a:buChar char="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4797360" y="1828440"/>
            <a:ext cx="35654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990000"/>
              </a:buClr>
              <a:buFont typeface="Century Gothic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entury Gothic"/>
              </a:rPr>
              <a:t>What job openings do they have?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457200" indent="-457200">
              <a:spcBef>
                <a:spcPts val="1800"/>
              </a:spcBef>
              <a:buClr>
                <a:srgbClr val="990000"/>
              </a:buClr>
              <a:buFont typeface="Century Gothic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entury Gothic"/>
              </a:rPr>
              <a:t>Who are the key decision-makers?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752400" indent="-4572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C-Suite and Director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752400" indent="-4572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Avoid HR if possible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752400" indent="-4572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Remember many small companies don’t have HR.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752400" indent="-4572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Develop Target Lis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Identify Top 25-30 employers in your area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—most likely for you to get </a:t>
            </a:r>
            <a:r>
              <a:rPr b="1" lang="en-US" sz="2000" spc="-1" strike="noStrike" u="sng">
                <a:solidFill>
                  <a:srgbClr val="333333"/>
                </a:solidFill>
                <a:uFillTx/>
                <a:latin typeface="Century Gothic"/>
              </a:rPr>
              <a:t>placements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.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Analyze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at do you already know about them?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at can you easily find out about them through more research?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Do you have a relationship with them?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at is the nature/quality of that relationship?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at have you done for them in the past?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Focus 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your efforts!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entury Gothic"/>
              </a:rPr>
              <a:t>Build Company Profiles</a:t>
            </a:r>
            <a:endParaRPr b="0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Company Basics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—location, # of employees, etc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Key Decision-Maker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Work Environment/Company Cultur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Key Employment Success Factor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Recruitment &amp; Hiring Practice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Referral Preference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Relationship history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“</a:t>
            </a: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Job Development” in the New Economy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Understanding employer needs/requirement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Understanding the recruitment process from the employer perspectiv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Building relationship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Demonstrating valu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aching customers to sell their own valu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Two Relationships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779400" y="1828440"/>
            <a:ext cx="35654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entury Gothic"/>
              </a:rPr>
              <a:t>Existing Customer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at is your current relationship?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at have you done for them in the past?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at has worked/hasn’t worked? 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How can you build the relationship?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Build your network--“Who else should I be talking to?”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4797360" y="1828440"/>
            <a:ext cx="35654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entury Gothic"/>
              </a:rPr>
              <a:t>New Customer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How can you use your network to get connected?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How can you get a “face-to-face?”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ere can you immediately provide them with a </a:t>
            </a:r>
            <a:r>
              <a:rPr b="0" lang="en-US" sz="1800" spc="-1" strike="noStrike" u="sng">
                <a:solidFill>
                  <a:srgbClr val="333333"/>
                </a:solidFill>
                <a:uFillTx/>
                <a:latin typeface="Century Gothic"/>
              </a:rPr>
              <a:t>quality </a:t>
            </a: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referral?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at other information/resources could you offer to begin building trust and goodwill?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entury Gothic"/>
              </a:rPr>
              <a:t>Resources for Building Profiles</a:t>
            </a:r>
            <a:endParaRPr b="0" lang="en-US" sz="32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mpany websit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LinkedIn Company Profiles and Group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LinkedIn Connection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Google Searches/Alert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Asking question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Informational interviews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Find and Connect to Recruiters </a:t>
            </a:r>
            <a:br>
              <a:rPr sz="3600"/>
            </a:b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&amp; Hiring Managers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57200" y="2355480"/>
            <a:ext cx="403848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Events/Association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Society for Human Resource Managers (SHRM)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Industry/Occupational Association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Chambers of Commerce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Conference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4648320" y="2355480"/>
            <a:ext cx="403848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LinkedIn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Twitter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Company websites/blog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Email lists/newsletter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Listen and Documen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363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llow/read what they pos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363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Join their groups to see what they’re discussing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363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gn up for their newsletter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363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Ask question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363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Probe for “pain” and problem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mment and R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Provide resources, information that solve problems and address their “pain” point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nnect them to people and resource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Answer question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Engage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Filling Existing Needs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t up strategies for each company to be notified of job openings. (Company website, Google Alerts, etc.)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r each job opening, work with job seeker to “complete the T” (</a:t>
            </a:r>
            <a:r>
              <a:rPr b="0" i="1" lang="en-US" sz="2000" spc="-1" strike="noStrike">
                <a:solidFill>
                  <a:srgbClr val="333333"/>
                </a:solidFill>
                <a:latin typeface="Century Gothic"/>
              </a:rPr>
              <a:t>Refer to next slides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)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Make referra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ach customer to sell him/herself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llow-up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ompleting the “T”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800"/>
              </a:spcBef>
              <a:buClr>
                <a:srgbClr val="99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Review job posting and/or company info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514440" indent="-514440">
              <a:spcBef>
                <a:spcPts val="1800"/>
              </a:spcBef>
              <a:buClr>
                <a:srgbClr val="99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Identify employer needs, relevant keyword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914400" indent="-51444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For job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914400" indent="-51444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For company/culture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514440" indent="-514440">
              <a:spcBef>
                <a:spcPts val="1800"/>
              </a:spcBef>
              <a:spcAft>
                <a:spcPts val="1199"/>
              </a:spcAft>
              <a:buClr>
                <a:srgbClr val="99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ll in job seeker info to complete the T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514440" indent="-514440">
              <a:spcBef>
                <a:spcPts val="1800"/>
              </a:spcBef>
              <a:spcAft>
                <a:spcPts val="1199"/>
              </a:spcAft>
              <a:buClr>
                <a:srgbClr val="99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If you can’t complete The T—DON’T APPLY!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514440" indent="-514440">
              <a:spcBef>
                <a:spcPts val="1800"/>
              </a:spcBef>
              <a:spcAft>
                <a:spcPts val="1199"/>
              </a:spcAft>
              <a:buClr>
                <a:srgbClr val="99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If you can, complete your resume.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Picture 3" descr="Picture 9.png"/>
          <p:cNvPicPr/>
          <p:nvPr/>
        </p:nvPicPr>
        <p:blipFill>
          <a:blip r:embed="rId1"/>
          <a:stretch/>
        </p:blipFill>
        <p:spPr>
          <a:xfrm>
            <a:off x="0" y="614520"/>
            <a:ext cx="9144000" cy="56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Picture 3" descr="Picture 11.png"/>
          <p:cNvPicPr/>
          <p:nvPr/>
        </p:nvPicPr>
        <p:blipFill>
          <a:blip r:embed="rId1"/>
          <a:stretch/>
        </p:blipFill>
        <p:spPr>
          <a:xfrm>
            <a:off x="2195640" y="1036800"/>
            <a:ext cx="5043240" cy="5294160"/>
          </a:xfrm>
          <a:prstGeom prst="rect">
            <a:avLst/>
          </a:prstGeom>
          <a:ln w="0">
            <a:noFill/>
          </a:ln>
        </p:spPr>
      </p:pic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The “T”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Openings for the Right Candidate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Match between company needs and applicant skills/experience/personal characteristic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old on applicant through personal contact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Easier through network referra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pic>
        <p:nvPicPr>
          <p:cNvPr id="904" name="Picture 8" descr=""/>
          <p:cNvPicPr/>
          <p:nvPr/>
        </p:nvPicPr>
        <p:blipFill>
          <a:blip r:embed="rId1"/>
          <a:stretch/>
        </p:blipFill>
        <p:spPr>
          <a:xfrm>
            <a:off x="2968560" y="4029120"/>
            <a:ext cx="305136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91840" y="3428640"/>
            <a:ext cx="6583320" cy="13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90000"/>
                </a:solidFill>
                <a:latin typeface="Century Gothic"/>
              </a:rPr>
              <a:t>The Hiring Environment</a:t>
            </a:r>
            <a:endParaRPr b="0" lang="en-US" sz="46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reating Openings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Know pain and problem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how how applicant addresses pain or solves problem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how how applicant matches culture/skill needs of the organization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ach applicant to sell him/herself!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Do NOT refer to “job carving” or other industry jargon!!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Century Gothic"/>
              </a:rPr>
              <a:t>Ongoing </a:t>
            </a:r>
            <a:br>
              <a:rPr sz="4000"/>
            </a:br>
            <a:r>
              <a:rPr b="0" lang="en-US" sz="4000" spc="-1" strike="noStrike">
                <a:solidFill>
                  <a:srgbClr val="990000"/>
                </a:solidFill>
                <a:latin typeface="Century Gothic"/>
              </a:rPr>
              <a:t>Relationship-Building</a:t>
            </a:r>
            <a:endParaRPr b="0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rack and share industry-related articles targeted to your employers’ needs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nnect with them on LinkedIn to keep track of and acknowledge professional accomplishments and milestone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Email “tickler” file—keep in ongoing contact. Check in even when you don’t need something.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Remember. . . 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457200" y="170784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10240" indent="-21024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Employers are PEOPLE. Connect with them as people, not as a means to an end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10240" indent="-21024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nd ways to personalize the connection: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20480" indent="-21024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Thank you note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20480" indent="-21024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Birthday greeting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20480" indent="-21024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Respond to achievements/accomplishment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20480" indent="-21024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Meet them for coffee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210240" indent="-21024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LISTEN!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10240" indent="-21024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Help them do their jobs better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10240" indent="-21024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Help them look good to their bos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Documenting &amp; Sharing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nsider using Google Docs or a Wiki to document and share your ongoing work with employers with co-workers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nsider CRM software to manage contacts (Salesforce is $15/month for up to 5 users)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onsider Microenterprise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457200" y="2209320"/>
            <a:ext cx="8686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lf-employment with minimal start-up cost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Based on interests/passions of jobseeker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Multiple income streams=more reliable route to self-sufficiency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More cost-effectiv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Increases self-esteem and motivation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33"/>
                </a:solidFill>
                <a:latin typeface="Century Gothic"/>
              </a:rPr>
              <a:t>(Archived webinar on microenterprise at www.discoverabilitynj.org)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entury Gothic"/>
              </a:rPr>
              <a:t>Less Pressure to Hire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pic>
        <p:nvPicPr>
          <p:cNvPr id="852" name="Picture 3" descr="Picture 47.png"/>
          <p:cNvPicPr/>
          <p:nvPr/>
        </p:nvPicPr>
        <p:blipFill>
          <a:blip r:embed="rId1"/>
          <a:stretch/>
        </p:blipFill>
        <p:spPr>
          <a:xfrm>
            <a:off x="1420920" y="1486080"/>
            <a:ext cx="640548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entury Gothic"/>
              </a:rPr>
              <a:t>Too Many Applicants 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pic>
        <p:nvPicPr>
          <p:cNvPr id="854" name="Picture 4" descr=""/>
          <p:cNvPicPr/>
          <p:nvPr/>
        </p:nvPicPr>
        <p:blipFill>
          <a:blip r:embed="rId1"/>
          <a:stretch/>
        </p:blipFill>
        <p:spPr>
          <a:xfrm>
            <a:off x="677880" y="1486080"/>
            <a:ext cx="721044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10" descr="Picture 46.png"/>
          <p:cNvPicPr/>
          <p:nvPr/>
        </p:nvPicPr>
        <p:blipFill>
          <a:blip r:embed="rId1"/>
          <a:stretch/>
        </p:blipFill>
        <p:spPr>
          <a:xfrm>
            <a:off x="457200" y="608040"/>
            <a:ext cx="8012160" cy="572616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171840" y="2921040"/>
            <a:ext cx="2971800" cy="269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entury Gothic"/>
              </a:rPr>
              <a:t>Multiple Hiring Sources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entury Gothic"/>
              </a:rPr>
              <a:t>Employers Try to Manage Recruitment by. . . </a:t>
            </a:r>
            <a:endParaRPr b="0" lang="en-US" sz="32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Putting off hiring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Re-hiring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Hiring from referrals without widely advertising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Poaching from other companie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7105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Century Gothic"/>
              </a:rPr>
              <a:t>What Do They Look For? </a:t>
            </a:r>
            <a:endParaRPr b="0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456840" y="2342880"/>
            <a:ext cx="7783560" cy="32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Century Gothic"/>
              </a:rPr>
              <a:t>Qualified 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applicants </a:t>
            </a:r>
            <a:r>
              <a:rPr b="0" lang="en-US" sz="3200" spc="-1" strike="noStrike">
                <a:solidFill>
                  <a:srgbClr val="333333"/>
                </a:solidFill>
                <a:latin typeface="Century Gothic"/>
              </a:rPr>
              <a:t>from </a:t>
            </a:r>
            <a:r>
              <a:rPr b="1" lang="en-US" sz="3200" spc="-1" strike="noStrike">
                <a:solidFill>
                  <a:srgbClr val="333333"/>
                </a:solidFill>
                <a:latin typeface="Century Gothic"/>
              </a:rPr>
              <a:t>trusted source, 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referred </a:t>
            </a:r>
            <a:r>
              <a:rPr b="1" lang="en-US" sz="3200" spc="-1" strike="noStrike">
                <a:solidFill>
                  <a:srgbClr val="333333"/>
                </a:solidFill>
                <a:latin typeface="Century Gothic"/>
              </a:rPr>
              <a:t>quickly 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with </a:t>
            </a:r>
            <a:r>
              <a:rPr b="1" lang="en-US" sz="3200" spc="-1" strike="noStrike">
                <a:solidFill>
                  <a:srgbClr val="333333"/>
                </a:solidFill>
                <a:latin typeface="Century Gothic"/>
              </a:rPr>
              <a:t>minimal hassle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. 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514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If working with organizations, they also prefer a </a:t>
            </a:r>
            <a:r>
              <a:rPr b="1" lang="en-US" sz="3200" spc="-1" strike="noStrike">
                <a:solidFill>
                  <a:srgbClr val="333333"/>
                </a:solidFill>
                <a:latin typeface="Century Gothic"/>
              </a:rPr>
              <a:t>single point of contact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.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entury Gothic"/>
              </a:rPr>
              <a:t>What Does “Qualified” Mean?</a:t>
            </a:r>
            <a:endParaRPr b="0" lang="en-US" sz="32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Has direct work experience, preferably recent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Required education/certification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Will “add value” from Day On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ts into organizational/corporate cultur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ts into team/departmen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7T12:07:14Z</dcterms:created>
  <dc:creator>Michele Martin</dc:creator>
  <dc:description/>
  <dc:language>en-US</dc:language>
  <cp:lastModifiedBy>Michele Martin</cp:lastModifiedBy>
  <dcterms:modified xsi:type="dcterms:W3CDTF">2012-09-19T13:44:50Z</dcterms:modified>
  <cp:revision>16</cp:revision>
  <dc:subject/>
  <dc:title>Asset-Based Assessment and Planning</dc:title>
</cp:coreProperties>
</file>