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9.wmf" ContentType="image/x-wmf"/>
  <Override PartName="/ppt/media/image14.png" ContentType="image/png"/>
  <Override PartName="/ppt/media/image11.wmf" ContentType="image/x-wmf"/>
  <Override PartName="/ppt/media/image3.png" ContentType="image/png"/>
  <Override PartName="/ppt/media/image7.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5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3462A-4513-44ED-BC17-2A26256FD60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move the slide</a:t>
            </a:r>
            <a:endParaRPr b="0" lang="en-US" sz="3600" spc="-1" strike="noStrike">
              <a:solidFill>
                <a:srgbClr val="990000"/>
              </a:solidFill>
              <a:latin typeface="Century Gothic"/>
            </a:endParaRPr>
          </a:p>
        </p:txBody>
      </p:sp>
      <p:sp>
        <p:nvSpPr>
          <p:cNvPr id="8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6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7645D-DFBB-496C-88AF-46894918F9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DF089-551D-48B7-A9D3-0EF662095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illegal in NJ to advertise this way, this is the mindset of many employers—will simply screen out those people who don’t have recent work history when they are doing the resume screen. </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9DA68-E5E8-4752-800E-46139A6A1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51664-81A0-483A-A9DC-555BC5373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AFB2D-CD94-4879-B43F-2BDC6AB31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nd globalization causes this</a:t>
            </a: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39558-E7CB-4E06-99F9-630E7C48A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fungible” continues to expand as technology improves</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B639B-6F38-4F55-B032-50B0B7877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tion rate is the number of NJ residents, age 16-65 who are actively working or seeking work. </a:t>
            </a: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66E2C-326D-49A7-B412-D1AB8A057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000F9-D1CD-42AC-BFE1-7DECADCB7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employment rate</a:t>
            </a: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91864-405B-46EF-A432-37FC4FC45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eople who are unemployed</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185EA-1E46-41C0-8899-68D3EB3C4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E38FF-6E8D-41E6-9D51-7BE028763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64C3C-7B9D-4644-8C53-7AAD185D2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reau of Labor Statistics (BLS) is a good source of general occupational information. Publish the online Occupational Outlook Handbook, which provides descriptions of occupations, as well as vide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ccupational Outlook Quarterly focuses on key industries and occupations and gives more detailed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er Guide to Industries provides national level information on key industries—the occupations they employ, general outlook and trends for those industries, etc. </a:t>
            </a: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0F5A4-6B5E-425C-BF9C-41976FC31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F4B21-EC24-44E1-9C46-27A573603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 Time Jobs in Demand “spiders” job search sites all over the web and LWD analysts create Top 50 Occupations lists based on these resul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ustry focus reports provide information on NJ’s key indus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ional Focus reports provide information on the employment landscape in NJ’s 3 key reg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Labor Market Field Analysts for more detailed information on your reg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ccupation Explorer lets you get some basic info on occupations, along with wage and employment projections by county. </a:t>
            </a:r>
            <a:endParaRPr b="0" lang="en-US" sz="1200" spc="-1" strike="noStrike">
              <a:solidFill>
                <a:srgbClr val="000000"/>
              </a:solidFill>
              <a:latin typeface="Calibri"/>
            </a:endParaRPr>
          </a:p>
        </p:txBody>
      </p:sp>
      <p:sp>
        <p:nvSpPr>
          <p:cNvPr id="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BB334-644F-44B0-A6C3-B31B820AE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ough the Employability Check-up, can look at how well prepared you currently are for specific jobs in specific industries in your geographic area. Answer the questions and it will give you pluses/minuses for your situ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 have to do multiple searches, though, because information is very specific on occupations and indus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4B3CF-F4E7-454E-A0C6-A17144C20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f Career One Stop—helps people make career transitions—match previous occupations to potential new occupations. </a:t>
            </a:r>
            <a:endParaRPr b="0" lang="en-US" sz="1200" spc="-1" strike="noStrike">
              <a:solidFill>
                <a:srgbClr val="000000"/>
              </a:solidFill>
              <a:latin typeface="Calibri"/>
            </a:endParaRPr>
          </a:p>
        </p:txBody>
      </p:sp>
      <p:sp>
        <p:nvSpPr>
          <p:cNvPr id="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683A5-D372-4166-AD8B-1ADCB6EFB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marily for students or people who haven’t worked. </a:t>
            </a:r>
            <a:endParaRPr b="0" lang="en-US" sz="1200" spc="-1" strike="noStrike">
              <a:solidFill>
                <a:srgbClr val="000000"/>
              </a:solidFill>
              <a:latin typeface="Calibri"/>
            </a:endParaRPr>
          </a:p>
        </p:txBody>
      </p:sp>
      <p:sp>
        <p:nvSpPr>
          <p:cNvPr id="1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685E3-092A-494A-81F8-88BC83A08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07443-36C5-4F4A-971E-4C6D69850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o create list of your skills and then match with potential occup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irly general skill matching, but can be a good place to start for some people, especially those with limited work experience. </a:t>
            </a:r>
            <a:endParaRPr b="0" lang="en-US" sz="1200" spc="-1" strike="noStrike">
              <a:solidFill>
                <a:srgbClr val="000000"/>
              </a:solidFill>
              <a:latin typeface="Calibri"/>
            </a:endParaRPr>
          </a:p>
        </p:txBody>
      </p:sp>
      <p:sp>
        <p:nvSpPr>
          <p:cNvPr id="1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C3941-8D75-4DD4-B8FC-039599D13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uracy—many LMI resources depend on employers posting job openings, but not all job openings are posted. Increasingly, they are using online job postings, but not all employers post openings on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liness—pay attention to how current the LMI data is. Frequently government sources are at least a few months behi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ability—a lot of LMI is confusing to read and understand and not particularly helpful for advising people. Look for resources that make it easier to use LMI. </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CF83C-849D-46E4-A0A9-B476FCA97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we look at the NJ LMI trends, look at general economic and workplace trends that impact career planning and job search. </a:t>
            </a: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7E791-3E6A-4D26-89F4-9A92637BB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of these are reducing or eliminating need for workers and/or profoundly changing the nature of jobs. </a:t>
            </a: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647E2-A14F-43AD-8C66-4FE4CC498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McKinsey report: http://www.mckinsey.com/Insights/MGI/Research/Labor_Markets/An_economy_that_works_for_US_job_cre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outsourcing work to contractors; they are hiring people to work part-time or “just-in-time”—as need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iven by technology improvements and costs—especially for healthcare. Employers don’t want full-time, permanent employees because of healthcare costs and also UI benefits. Their rates go up when they have to lay people off and people collect unemployment. Want a more flexible workfo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EBE8D-9637-4E3D-A5B3-943C349F6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49DA7-AC67-4F07-849D-8B416F41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7AF75-D33B-441F-AA00-87947B15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4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0C66AC3-E164-4681-BBAB-17D10F7210D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4BC1D0F-49B3-40FC-A8CB-E885B5F0179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4113E8B-74D9-439E-92C2-F896EF66FA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0D8247-3550-4129-80C1-E10621A84F9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5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BC93EB0-32B1-4B20-9B8A-8C0B1DED105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2AC714-098C-4DFF-97FD-DAF7C1C874B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9A83E35-F810-4A44-9F64-9807FF1236C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6EBBB58-890D-424E-922D-0BAC5E62FB3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7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3C1411-D907-4FF0-836A-8FA66984D0F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06A2D27-6D0C-4224-B0E3-6A8AADDAAF9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31A35-5CAD-4079-84E1-AFE45147A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1D4A555-CEA6-47A8-A2EF-4E8E8A5D5AB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C802D3B-2A31-40B8-88B9-6F73D07076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8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498DD93-B9D5-4D8B-B6C8-77357A35BCD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363475F-A45D-4D1F-96CB-B523211689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5D55B1B-9E43-46DE-AC71-FBF2977A373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97473F-94BA-4752-BF95-4BABA5E435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9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01A120-29F4-413D-8AED-C96E63F7B6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C2933F-4DD2-4AA3-B9B8-CB7DBB0880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329B3AA-55B3-4ECA-8F8F-F5ADEBF1A9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01F8E0E-05D1-4BE5-95E8-2EBC1B53AE4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6ED7E-DB9A-4133-8455-5E11932C0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1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1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1924ADA-A854-4E32-9728-9B823734000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DB2E6CB-4ACD-4345-B8A6-131C1BE88D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9847BA3-E72D-4124-8503-1B02EA3B65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2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CDADF5B-BBA4-46C2-AAF4-89BF11EBF6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956F25E-785B-4239-AF2C-AE1748D1B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7106626-665D-466E-B9CA-65F0E88E14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CFBC9BB-5DE4-4CDD-858F-FB3B66574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3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D957FF8-F8AC-4C3E-800D-F3E8EB424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3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31F906-B64A-48E7-91C8-6ECE592F2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2CE897F-A5EF-4F4A-872B-8DADB9458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C5BAB-6906-4F3D-A593-CFABBAB3D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4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4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B94798-E708-467A-9074-AE34B97890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4AAC703-9247-4E3A-9BCF-DFCAB587FC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5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5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6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697C524-83D4-4BE8-8489-DA528C181B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6FFB218-561D-4A73-9D4D-1E3E1E7BEC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6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2564773-4679-4367-B6B8-9174EBB53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AF16432-E659-478D-8BD7-6E5D863151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7AEC465-6C28-4749-9959-90254247C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E2EE2C1-FCAB-4F6B-9370-85ED2481C3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FD6E877-2E57-4EAF-9C02-48A1090A88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7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7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EB8A54F-ABBB-481A-8FD4-9DA790455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8EFD9-DE51-463B-BCAD-F91709D16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565B0A2-C331-4A41-81ED-D5A2C96706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8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E476AC-5C04-42ED-86EE-87BAD02432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8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B4F94AC-33FE-4659-9896-9E5A0FEAE5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57C3781-8A9C-4D4C-92A9-DA927B24B7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49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9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0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0F84884-95BF-4542-810A-E298C71E3D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DEABD3C-E6A9-411D-9D32-39916BDFE3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30F983E-8939-476E-A1CA-1A92315A21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13845C6-F73C-456E-8D56-FBC4317AC3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1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409E2C7-E24A-4EB3-B366-F5AC05EFA0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BD4D87F-103D-4526-BFDC-A7B312C02D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28FF-2BE2-4A23-8EFB-366880F6E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E00BA9C-2B19-4304-B0CF-17A05DE58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1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B336E3E-315C-4DE1-A3C5-F918D79466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90234E5-7A21-42BB-B344-4E1357F782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2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93622F2-E48B-4126-92AE-D0397C723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B104E4-307D-4649-A716-FD3795927C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3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F29AFCE-6CB1-4C34-8FE3-9983A09E00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CC3E33E-C5A1-4C34-B6F7-414A648B23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01D8D34-3735-42B8-A942-1E7401E712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ACB3B08-1FC1-405B-B819-56CE9576F1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6D80C1C-D93F-41C4-A499-09BCDDE797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B216A-4F3E-4D21-9B00-FEEAA8B1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5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5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F525594-290E-43B7-B8BD-CCA23BA9DF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0CB0566-E524-42E5-92DE-35432601C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02D9825-2602-4096-93D4-9B9D0887C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27878EB-DE76-474F-97D5-3BFEB68D2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6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C5C6E71-D9C2-4BEE-B397-FF70AA99BC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6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5BF30CC-9E47-4FE9-9D21-B02DE8AB3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21B5FBB-9374-43EA-9526-9B444C8244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7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7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4696522-3411-4005-9E5E-1CBF171BCC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8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F653F0E-876A-4FF1-BE81-A7CF093E0F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975072D-D0A6-42FF-8D96-2B6B1EA35C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F6106-CAB9-48E9-BBED-467396001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CA916CB-6ACE-427C-8714-7232F37B45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933ACEC-ADE4-469F-9B0F-9C269F86B9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9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EDF27B5-13E6-490E-A4DA-43BA8FD3BD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9C19F4F-C262-4C9C-8D30-E0C708BB22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0AF3F82-25E6-423D-8474-4843A1A710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EFD822D-375F-479E-AAFE-53BF432DF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0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8E10AF-E40B-42CD-A2A1-D92FBDD74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3159125-0851-491D-B9C0-514CA513CE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6FC1647-D98D-46CF-ACBF-A6AF3F507E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1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1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F3DB92D-20A0-453E-8A45-5C073E89D7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2A689-CD68-46F0-AC7C-0A33AF090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2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A31F22B-0702-481F-B1F3-14F1D1626D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D2C3328-5040-400D-BFD5-647B33D31B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F1E18BC-492D-4EE2-A567-D244B7C6A6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3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B2243E5-4211-4510-AEC9-3D9551393D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7A0EADC-BE10-4EC3-AE14-6E3273BB8E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0B60FB3-3969-4C72-80FE-9B63AD40E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4F510C9-79E5-40C5-B368-4E0748FF26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F63E71D-D8E3-473F-9904-94E103C942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4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648B3D4-1F65-4403-89BB-7749DC2B05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A546120-4429-4DEF-8FE1-04385A223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2E79-25DC-4017-8F74-A49E99A8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5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5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186D591-AE07-48F8-9901-F5C8D5F92A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6D317D9-7479-41D8-993E-7961A12D1C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6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F482147-824C-47B5-BABC-DC165CE84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C7F4AEB-7E44-46AE-9D12-77F395733E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7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6396723-A087-48FE-B9A0-B05F50F705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EBB3E6E-9031-4D3D-B123-5CDAA61F92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3541D47-81C3-45AF-BA1A-BF6E9189FF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3B4D9A4-E36A-4AA1-97B8-1B9EC931F6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E611B9B-1942-4E85-AA9B-D29DF9F822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8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4AD0A86-C42C-4483-ABD2-1A4E3D198D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ECF2A-A257-4EF1-92E8-FB99F13D6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4"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E6480-E634-4A62-A0CA-E10B8B694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6B21CBF-7B04-48A5-81E9-778739E119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9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ED2EA26-648A-4C34-8945-6DEFF3D3B3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9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3CCCC65-F535-4123-A58F-11B0C5A2AA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EBB9166-B4B1-4A90-AF17-A5C69606B5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0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4CA23434-EE07-4BDC-B737-4F6CDF8A0C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A5321D1-77AC-44E1-9003-B5BA7B3696F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14F8352-75DC-41E4-B993-B539381D34A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B5EF596-56B1-4B9D-8BEC-AA24346FAA8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2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DD09E08-BEEB-45AD-B967-48FC2753CB1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AB0B153-0E01-426F-BCF1-D0AE43225A6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6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8"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2FEC-B265-4547-A0A5-8FA3B805F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4A020A0-82CF-47D6-93C5-535D21E2EDC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2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A6417A5-B149-4B41-98B7-2411364B0A4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D358B8-E16C-4BAF-AA7F-B8B46C499DD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3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733ECD5-6992-45FE-9FE7-6ED122BD1BF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51D61B2-0E2F-4D1E-8CE2-EAEF8C8038A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E7105A8-E84A-4AEB-A224-683A79EAE0D0}"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4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5CD17EC-90F9-4883-A8EA-15C94C4FDCD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4A399CB1-C723-4BC9-8EDD-A5210F888F1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5C7E8F7-2E98-4D54-8C64-0331B08CFE8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698A82B-E2FE-428E-8F2E-C7A3E4B2A42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0"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1"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2BDD5-717B-4D37-81C5-D1CAF3374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66"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7"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74071B3-C808-4ADB-AB1B-BE2F7088BD7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0AEA35A-CBA1-4881-A48F-8CA10657482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1C9B291-3562-4E56-9E71-5536A71A1C9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2"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3"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B6EE567-8D1B-446E-BF14-9B48C9F2EC9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77"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7755F9D-E6B1-43BD-B8E0-C07FDD08C1E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7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1"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7838788-2CD8-4386-9B65-53E7F6695DF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3"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4"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AA95E4D-2440-4333-AF4B-9F7A7F2B9D1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6"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7"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8"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89"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C12A79D-8561-45B7-BACD-D7F7C9FA715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91"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2"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3"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4"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5"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6"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0172D9A4-85EB-4C9F-B46A-962604C8A24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4DB263A3-B2EF-41C5-BE8B-1BEE4DF20B94}"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6"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CF1C9-A2D9-426D-B334-91255D266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9263BF4-6F6A-47E2-B142-5246A347F0D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F491C9C-2A43-4380-B248-1D1C6B1015A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0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0395472-1D47-4040-8FF6-A34DF47D9E7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805AFC3-450C-43A7-88D4-D29D8194B32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ECD1758-7883-472D-8E56-C67BB865AEF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88EAA05-23A8-43A7-9039-4CFD50A5147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1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DF19039-0ADA-402D-A4F5-DC3F975B05C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4076432-7CC8-44B0-880C-45D0893630F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AB924F8-54F7-4253-B8E6-36B3FC705DD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2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95570EA-3920-4544-9078-EB76897B6C03}"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78"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9"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0"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1"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2"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FCAEB-311D-4D3F-8A27-A5130562E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3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83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ED3681B-7FCC-4FAD-9E09-A471FBBEC14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97F81E-0F71-4980-90D2-988D82F63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1"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3D24B-6000-4B5C-BF3A-8792046F3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3"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A7DBF-89CC-48AA-9B99-3741E5FCF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95"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0E16E-6C1F-4B1C-B309-12F139885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46232-51CE-4F53-9DE1-C1701C446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9A40-4ECC-410D-ADCD-F55795E9B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34277-1019-4197-BD37-E4159EC47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7ED4C-B077-4B6C-B700-B3EF280F8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6"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2C754-B5BE-4843-BE75-A8BE94423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0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0"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E793B-4DCD-440B-BD39-411C7443E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2"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3"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54533-DE12-49A9-975B-2C6DE0AED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8"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67EA1-C6E1-4B7E-82BD-554039742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20"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1"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2"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3"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4"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25"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18B825-CF3D-4B36-8D4B-5A6C1317AB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63C82B-EAB0-4A57-AB97-6195E053A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4"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0BA11-C728-4A54-88F0-508D24FDB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6"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4AC9A-0FD2-47AE-9DB7-36E658F3F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8DB9B-94FA-42B5-BD38-0F4C3D251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38"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39"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0E4FD-B3BA-46F6-8772-362943D18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0A5D8-A43C-4005-B1D7-DDED0414D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BD1EC-B174-435A-BA83-E7C0997E1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4"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5"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3C63C-A2AC-4B87-A683-B006D904A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47"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49"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8A8FD-D6B8-4292-A5B0-32A6E15B8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1"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3"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CEDFB-ACFF-40AF-8F4C-565A72DD7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5"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6"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1C97E-22B3-425C-9710-3BC5B8B04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8"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59"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0"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1"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155274-15EC-4DAB-8A68-D49CEFC62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63"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4"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5"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6"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7"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8"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480EF-F2E5-478C-85AE-1E9EBE208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2DD050-6E7E-4755-91F6-32373A0F7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DB0A6-C66A-4F73-B9F9-A86240FD4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6"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F01A9-FD3B-417B-B24F-22AABE707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78"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1F925-4B8E-4A8C-A3F4-9321D2F55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0"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1"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A0CB0-9402-4894-9591-BE0B04F23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3B2F1B-0D23-4838-B81C-D1BAA35AC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FBD2E-2FEC-41C0-8D18-2CEA4C04D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8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1A01F-FF00-44C5-BFF0-6683D415F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8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33CF0-F153-457C-B8F5-7CEB4CC44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A7117-A972-49DD-9B2C-88F4F7674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7"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98"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16B92-DB16-4224-9A3A-D9BF604F0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0"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1"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2"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3"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EC22B-35CD-4F18-AAB3-2B59C807E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DF99-F9E0-4D8C-B2F9-D9543D60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05"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6"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7"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8"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9"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0"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6F65AF-E71F-4B1C-BF71-6971E525C3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A0DE1E-5B1A-4D79-B110-D901FAC9AB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1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AAA7E-FBFF-4F54-962D-AA2E051C3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F344C-AB9E-4873-9F51-36CAE0947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F931D-AEF0-4CB0-B399-A5928A4CF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AA693-FEB7-4FB0-88C3-BC72B1062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641E50-4819-4F97-ACA5-6D232282B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2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2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6648C-06EC-4653-AE46-E31A8909D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60981-069C-4124-8D24-A7ABC19EF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3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91C6A-3C1B-4B5D-8733-2BE7D717B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6"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17"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B769-BA8F-4B66-BF66-2A53EC34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23CBC-981D-4216-8903-188122358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20C024-7284-4C89-BDB2-E6505F274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4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D6BC7B-7B94-493F-801A-B0418715B5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9F5E569-B0F9-4D74-A8B0-519A11DAC30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58"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75BECBAD-D67F-404C-A601-B62BF3CF037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0"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sldNum" idx="19"/>
          </p:nvPr>
        </p:nvSpPr>
        <p:spPr/>
        <p:txBody>
          <a:bodyPr/>
          <a:p>
            <a:fld id="{36996E89-C46A-4679-97A2-AEFEB51ACB0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2"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3"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9264A0A3-D3AC-4B17-B9AD-58291E09A12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sldNum" idx="19"/>
          </p:nvPr>
        </p:nvSpPr>
        <p:spPr/>
        <p:txBody>
          <a:bodyPr/>
          <a:p>
            <a:fld id="{5887C2F1-1F4B-4212-B995-386C0CBC36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sldNum" idx="19"/>
          </p:nvPr>
        </p:nvSpPr>
        <p:spPr/>
        <p:txBody>
          <a:bodyPr/>
          <a:p>
            <a:fld id="{3B997CFB-00A6-4058-930D-9624AD6F77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6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8"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69"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616EF5E0-11A7-492E-A002-557F325FAD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19"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0"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1"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3F1D9-C2DF-46AC-8DEF-5F680B83D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1"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2"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3"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42C5A79F-E2C3-46B3-9826-1DC125B34C7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5"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6"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77"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sldNum" idx="19"/>
          </p:nvPr>
        </p:nvSpPr>
        <p:spPr/>
        <p:txBody>
          <a:bodyPr/>
          <a:p>
            <a:fld id="{789CB432-30CF-4ABC-83A5-B6F8E27CB56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79"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0"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sldNum" idx="19"/>
          </p:nvPr>
        </p:nvSpPr>
        <p:spPr/>
        <p:txBody>
          <a:bodyPr/>
          <a:p>
            <a:fld id="{CF26CE2F-A5C3-4380-9187-1C974F5C760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2"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3"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4"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5"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sldNum" idx="19"/>
          </p:nvPr>
        </p:nvSpPr>
        <p:spPr/>
        <p:txBody>
          <a:bodyPr/>
          <a:p>
            <a:fld id="{825BAC3F-7CC5-4244-92C1-47EF4B7007C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87"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8"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89"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0"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1"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92"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sldNum" idx="19"/>
          </p:nvPr>
        </p:nvSpPr>
        <p:spPr/>
        <p:txBody>
          <a:bodyPr/>
          <a:p>
            <a:fld id="{FED32A07-8558-4439-BA86-D3DC006DBB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577752F-51DE-4675-9584-445B45C15C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0"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138282F-6EBC-4746-B676-8281534BE3C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2"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662280B-7727-4C1E-AF5E-23EFF9C794E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4"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05"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7AB8F4C-2BD1-4821-8BF9-954C180F60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84489C4-CC68-4E60-869F-30DC7ACD173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23"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25"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0765-77C6-46E9-A7D8-EE59D975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914040"/>
            <a:ext cx="650880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864E10-9DA7-4D65-9529-EB722F06D62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09"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0" name="PlaceHolder 3"/>
          <p:cNvSpPr>
            <a:spLocks noGrp="1"/>
          </p:cNvSpPr>
          <p:nvPr>
            <p:ph/>
          </p:nvPr>
        </p:nvSpPr>
        <p:spPr>
          <a:xfrm>
            <a:off x="37926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1"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28E89F1-4D01-437E-8252-484C21D4E68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3" name="PlaceHolder 2"/>
          <p:cNvSpPr>
            <a:spLocks noGrp="1"/>
          </p:cNvSpPr>
          <p:nvPr>
            <p:ph/>
          </p:nvPr>
        </p:nvSpPr>
        <p:spPr>
          <a:xfrm>
            <a:off x="457200" y="2209320"/>
            <a:ext cx="317628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4"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5" name="PlaceHolder 4"/>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75CAFA-9511-4BCC-8A57-BF1A899B2C2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17"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8"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19" name="PlaceHolder 4"/>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4EEA5AF-462D-4B8B-BEB9-8E23D5B82AC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1" name="PlaceHolder 2"/>
          <p:cNvSpPr>
            <a:spLocks noGrp="1"/>
          </p:cNvSpPr>
          <p:nvPr>
            <p:ph/>
          </p:nvPr>
        </p:nvSpPr>
        <p:spPr>
          <a:xfrm>
            <a:off x="457200" y="220932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2" name="PlaceHolder 3"/>
          <p:cNvSpPr>
            <a:spLocks noGrp="1"/>
          </p:cNvSpPr>
          <p:nvPr>
            <p:ph/>
          </p:nvPr>
        </p:nvSpPr>
        <p:spPr>
          <a:xfrm>
            <a:off x="457200" y="4255200"/>
            <a:ext cx="650880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2D0E596-5273-4AF2-A32E-A0A6450D284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4" name="PlaceHolder 2"/>
          <p:cNvSpPr>
            <a:spLocks noGrp="1"/>
          </p:cNvSpPr>
          <p:nvPr>
            <p:ph/>
          </p:nvPr>
        </p:nvSpPr>
        <p:spPr>
          <a:xfrm>
            <a:off x="4572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5" name="PlaceHolder 3"/>
          <p:cNvSpPr>
            <a:spLocks noGrp="1"/>
          </p:cNvSpPr>
          <p:nvPr>
            <p:ph/>
          </p:nvPr>
        </p:nvSpPr>
        <p:spPr>
          <a:xfrm>
            <a:off x="3792600" y="220932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6" name="PlaceHolder 4"/>
          <p:cNvSpPr>
            <a:spLocks noGrp="1"/>
          </p:cNvSpPr>
          <p:nvPr>
            <p:ph/>
          </p:nvPr>
        </p:nvSpPr>
        <p:spPr>
          <a:xfrm>
            <a:off x="4572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27" name="PlaceHolder 5"/>
          <p:cNvSpPr>
            <a:spLocks noGrp="1"/>
          </p:cNvSpPr>
          <p:nvPr>
            <p:ph/>
          </p:nvPr>
        </p:nvSpPr>
        <p:spPr>
          <a:xfrm>
            <a:off x="3792600" y="4255200"/>
            <a:ext cx="317628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9289C2E-FF88-46AE-B3BB-FC5AB28DF04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29" name="PlaceHolder 2"/>
          <p:cNvSpPr>
            <a:spLocks noGrp="1"/>
          </p:cNvSpPr>
          <p:nvPr>
            <p:ph/>
          </p:nvPr>
        </p:nvSpPr>
        <p:spPr>
          <a:xfrm>
            <a:off x="45720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0" name="PlaceHolder 3"/>
          <p:cNvSpPr>
            <a:spLocks noGrp="1"/>
          </p:cNvSpPr>
          <p:nvPr>
            <p:ph/>
          </p:nvPr>
        </p:nvSpPr>
        <p:spPr>
          <a:xfrm>
            <a:off x="265788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1" name="PlaceHolder 4"/>
          <p:cNvSpPr>
            <a:spLocks noGrp="1"/>
          </p:cNvSpPr>
          <p:nvPr>
            <p:ph/>
          </p:nvPr>
        </p:nvSpPr>
        <p:spPr>
          <a:xfrm>
            <a:off x="4858560" y="220932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2" name="PlaceHolder 5"/>
          <p:cNvSpPr>
            <a:spLocks noGrp="1"/>
          </p:cNvSpPr>
          <p:nvPr>
            <p:ph/>
          </p:nvPr>
        </p:nvSpPr>
        <p:spPr>
          <a:xfrm>
            <a:off x="45720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3" name="PlaceHolder 6"/>
          <p:cNvSpPr>
            <a:spLocks noGrp="1"/>
          </p:cNvSpPr>
          <p:nvPr>
            <p:ph/>
          </p:nvPr>
        </p:nvSpPr>
        <p:spPr>
          <a:xfrm>
            <a:off x="265788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334" name="PlaceHolder 7"/>
          <p:cNvSpPr>
            <a:spLocks noGrp="1"/>
          </p:cNvSpPr>
          <p:nvPr>
            <p:ph/>
          </p:nvPr>
        </p:nvSpPr>
        <p:spPr>
          <a:xfrm>
            <a:off x="4858560" y="4255200"/>
            <a:ext cx="2095560" cy="1868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D15EE17-8C88-441F-A865-3302A32A885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D88B040-351E-49B0-AE3C-550FE3F844C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2" name="PlaceHolder 2"/>
          <p:cNvSpPr>
            <a:spLocks noGrp="1"/>
          </p:cNvSpPr>
          <p:nvPr>
            <p:ph type="subTitle"/>
          </p:nvPr>
        </p:nvSpPr>
        <p:spPr>
          <a:xfrm>
            <a:off x="457200" y="2209320"/>
            <a:ext cx="6508800" cy="39164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8878DC-3A4E-41E6-9C31-57FA85E5D11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Century Gothic"/>
            </a:endParaRPr>
          </a:p>
        </p:txBody>
      </p:sp>
      <p:sp>
        <p:nvSpPr>
          <p:cNvPr id="344" name="PlaceHolder 2"/>
          <p:cNvSpPr>
            <a:spLocks noGrp="1"/>
          </p:cNvSpPr>
          <p:nvPr>
            <p:ph/>
          </p:nvPr>
        </p:nvSpPr>
        <p:spPr>
          <a:xfrm>
            <a:off x="457200" y="2209320"/>
            <a:ext cx="6508800" cy="39164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24A13CE-0BD0-44B6-8926-35D0FB4B97E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 name="PlaceHolder 3"/>
          <p:cNvSpPr>
            <a:spLocks noGrp="1"/>
          </p:cNvSpPr>
          <p:nvPr>
            <p:ph type="dt" idx="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A9297-A821-41FE-92A2-DC74F852C641}"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58C2F-9E1D-459D-8F81-6F66D078A426}"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7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80" name="PlaceHolder 3"/>
          <p:cNvSpPr>
            <a:spLocks noGrp="1"/>
          </p:cNvSpPr>
          <p:nvPr>
            <p:ph type="dt" idx="2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59ECD-7C0E-4797-A301-F304F293A809}"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81" name="PlaceHolder 4"/>
          <p:cNvSpPr>
            <a:spLocks noGrp="1"/>
          </p:cNvSpPr>
          <p:nvPr>
            <p:ph type="ftr" idx="2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PlaceHolder 5"/>
          <p:cNvSpPr>
            <a:spLocks noGrp="1"/>
          </p:cNvSpPr>
          <p:nvPr>
            <p:ph type="sldNum" idx="2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75D0D-C8CA-42DD-831E-29A7559566EA}"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2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22" name="PlaceHolder 3"/>
          <p:cNvSpPr>
            <a:spLocks noGrp="1"/>
          </p:cNvSpPr>
          <p:nvPr>
            <p:ph type="dt" idx="29"/>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11B7C-EA0F-4EC9-A58D-74FC4AA98326}"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423" name="PlaceHolder 4"/>
          <p:cNvSpPr>
            <a:spLocks noGrp="1"/>
          </p:cNvSpPr>
          <p:nvPr>
            <p:ph type="ftr" idx="30"/>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4" name="PlaceHolder 5"/>
          <p:cNvSpPr>
            <a:spLocks noGrp="1"/>
          </p:cNvSpPr>
          <p:nvPr>
            <p:ph type="sldNum" idx="31"/>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DB6D3-88A5-4988-BBD6-ECCB804EBDA2}"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6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64" name="PlaceHolder 3"/>
          <p:cNvSpPr>
            <a:spLocks noGrp="1"/>
          </p:cNvSpPr>
          <p:nvPr>
            <p:ph type="dt" idx="32"/>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941E5-477A-46A8-9569-BD8B843D54EC}"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465" name="PlaceHolder 4"/>
          <p:cNvSpPr>
            <a:spLocks noGrp="1"/>
          </p:cNvSpPr>
          <p:nvPr>
            <p:ph type="ftr" idx="33"/>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6" name="PlaceHolder 5"/>
          <p:cNvSpPr>
            <a:spLocks noGrp="1"/>
          </p:cNvSpPr>
          <p:nvPr>
            <p:ph type="sldNum" idx="34"/>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48A62-354C-4CEB-8184-DA9F8271B010}"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0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06" name="PlaceHolder 3"/>
          <p:cNvSpPr>
            <a:spLocks noGrp="1"/>
          </p:cNvSpPr>
          <p:nvPr>
            <p:ph type="dt" idx="35"/>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F45D4-E2A7-4527-8248-B45F09731009}"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07" name="PlaceHolder 4"/>
          <p:cNvSpPr>
            <a:spLocks noGrp="1"/>
          </p:cNvSpPr>
          <p:nvPr>
            <p:ph type="ftr" idx="36"/>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8" name="PlaceHolder 5"/>
          <p:cNvSpPr>
            <a:spLocks noGrp="1"/>
          </p:cNvSpPr>
          <p:nvPr>
            <p:ph type="sldNum" idx="37"/>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D8B39-40CB-4282-9A80-E6B81FC74E9D}"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4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48" name="PlaceHolder 3"/>
          <p:cNvSpPr>
            <a:spLocks noGrp="1"/>
          </p:cNvSpPr>
          <p:nvPr>
            <p:ph type="dt" idx="38"/>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37A26-9361-48A8-8E12-14E29656D3FD}"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49" name="PlaceHolder 4"/>
          <p:cNvSpPr>
            <a:spLocks noGrp="1"/>
          </p:cNvSpPr>
          <p:nvPr>
            <p:ph type="ftr" idx="39"/>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PlaceHolder 5"/>
          <p:cNvSpPr>
            <a:spLocks noGrp="1"/>
          </p:cNvSpPr>
          <p:nvPr>
            <p:ph type="sldNum" idx="40"/>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245B8-6287-4252-968B-28DBE6C8CF93}"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58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590" name="PlaceHolder 3"/>
          <p:cNvSpPr>
            <a:spLocks noGrp="1"/>
          </p:cNvSpPr>
          <p:nvPr>
            <p:ph type="dt" idx="41"/>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A22F9-6808-454A-AEE2-BBB8CFB75F8E}"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591" name="PlaceHolder 4"/>
          <p:cNvSpPr>
            <a:spLocks noGrp="1"/>
          </p:cNvSpPr>
          <p:nvPr>
            <p:ph type="ftr" idx="42"/>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2" name="PlaceHolder 5"/>
          <p:cNvSpPr>
            <a:spLocks noGrp="1"/>
          </p:cNvSpPr>
          <p:nvPr>
            <p:ph type="sldNum" idx="43"/>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3D76A-F316-4D47-8B6B-439F5DDE9885}"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4746600" y="268200"/>
            <a:ext cx="411480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3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32" name="PlaceHolder 3"/>
          <p:cNvSpPr>
            <a:spLocks noGrp="1"/>
          </p:cNvSpPr>
          <p:nvPr>
            <p:ph type="dt" idx="44"/>
          </p:nvPr>
        </p:nvSpPr>
        <p:spPr>
          <a:xfrm>
            <a:off x="162000" y="6124680"/>
            <a:ext cx="1752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8E0CE-87BD-4CC3-9EC4-3CB7C8511342}"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633" name="PlaceHolder 4"/>
          <p:cNvSpPr>
            <a:spLocks noGrp="1"/>
          </p:cNvSpPr>
          <p:nvPr>
            <p:ph type="ftr" idx="45"/>
          </p:nvPr>
        </p:nvSpPr>
        <p:spPr>
          <a:xfrm>
            <a:off x="174240" y="6356520"/>
            <a:ext cx="3863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4" name="PlaceHolder 5"/>
          <p:cNvSpPr>
            <a:spLocks noGrp="1"/>
          </p:cNvSpPr>
          <p:nvPr>
            <p:ph type="sldNum" idx="46"/>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66F2B-C0C6-4297-B83E-4823B9923462}"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6"/>
          <p:cNvSpPr/>
          <p:nvPr/>
        </p:nvSpPr>
        <p:spPr>
          <a:xfrm>
            <a:off x="7216920" y="268200"/>
            <a:ext cx="163980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67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674" name="PlaceHolder 3"/>
          <p:cNvSpPr>
            <a:spLocks noGrp="1"/>
          </p:cNvSpPr>
          <p:nvPr>
            <p:ph type="dt" idx="47"/>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77F15-7ED4-4C83-9240-0AE14748B0E0}"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675" name="PlaceHolder 4"/>
          <p:cNvSpPr>
            <a:spLocks noGrp="1"/>
          </p:cNvSpPr>
          <p:nvPr>
            <p:ph type="ftr" idx="4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6" name="PlaceHolder 5"/>
          <p:cNvSpPr>
            <a:spLocks noGrp="1"/>
          </p:cNvSpPr>
          <p:nvPr>
            <p:ph type="sldNum" idx="4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59BF1-C849-4958-BEE8-7FBF3372B612}"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6"/>
          <p:cNvSpPr/>
          <p:nvPr/>
        </p:nvSpPr>
        <p:spPr>
          <a:xfrm>
            <a:off x="8136000" y="268200"/>
            <a:ext cx="720720" cy="3638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1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16" name="PlaceHolder 3"/>
          <p:cNvSpPr>
            <a:spLocks noGrp="1"/>
          </p:cNvSpPr>
          <p:nvPr>
            <p:ph type="dt" idx="5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71671-06F5-4251-9153-8BF83A4D6D8E}"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717" name="PlaceHolder 4"/>
          <p:cNvSpPr>
            <a:spLocks noGrp="1"/>
          </p:cNvSpPr>
          <p:nvPr>
            <p:ph type="ftr" idx="5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8" name="PlaceHolder 5"/>
          <p:cNvSpPr>
            <a:spLocks noGrp="1"/>
          </p:cNvSpPr>
          <p:nvPr>
            <p:ph type="sldNum" idx="5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609B5-5FD5-4A0F-94CE-16A1E68F8936}"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5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758" name="PlaceHolder 3"/>
          <p:cNvSpPr>
            <a:spLocks noGrp="1"/>
          </p:cNvSpPr>
          <p:nvPr>
            <p:ph type="dt" idx="5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73871-657C-4786-A1AB-9E9901EE6C8C}"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759" name="PlaceHolder 4"/>
          <p:cNvSpPr>
            <a:spLocks noGrp="1"/>
          </p:cNvSpPr>
          <p:nvPr>
            <p:ph type="ftr" idx="5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0" name="PlaceHolder 5"/>
          <p:cNvSpPr>
            <a:spLocks noGrp="1"/>
          </p:cNvSpPr>
          <p:nvPr>
            <p:ph type="sldNum" idx="5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CEBB8-AC3F-4413-9D48-0C1996F49B01}"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3187800" y="268200"/>
            <a:ext cx="5668920" cy="39006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44"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45" name="PlaceHolder 3"/>
          <p:cNvSpPr>
            <a:spLocks noGrp="1"/>
          </p:cNvSpPr>
          <p:nvPr>
            <p:ph type="dt" idx="4"/>
          </p:nvPr>
        </p:nvSpPr>
        <p:spPr>
          <a:xfrm>
            <a:off x="3276360" y="390600"/>
            <a:ext cx="5505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44196-3096-4C67-BA96-FFE794A51A26}" type="datetime">
              <a:rPr b="0" lang="en-US" sz="2200" spc="-1" strike="noStrike">
                <a:solidFill>
                  <a:srgbClr val="ffffff"/>
                </a:solidFill>
                <a:latin typeface="Century Gothic"/>
              </a:rPr>
              <a:t>07/29/26</a:t>
            </a:fld>
            <a:endParaRPr b="0" lang="en-US" sz="2200" spc="-1" strike="noStrike">
              <a:solidFill>
                <a:srgbClr val="000000"/>
              </a:solidFill>
              <a:latin typeface="Times New Roman"/>
            </a:endParaRPr>
          </a:p>
        </p:txBody>
      </p:sp>
      <p:sp>
        <p:nvSpPr>
          <p:cNvPr id="46" name="PlaceHolder 4"/>
          <p:cNvSpPr>
            <a:spLocks noGrp="1"/>
          </p:cNvSpPr>
          <p:nvPr>
            <p:ph type="ftr" idx="5"/>
          </p:nvPr>
        </p:nvSpPr>
        <p:spPr>
          <a:xfrm>
            <a:off x="321948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25624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4791C-914D-4799-B6CB-407224A43326}"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6"/>
          <p:cNvSpPr/>
          <p:nvPr/>
        </p:nvSpPr>
        <p:spPr>
          <a:xfrm>
            <a:off x="8148600" y="268200"/>
            <a:ext cx="719280" cy="5670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79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00" name="PlaceHolder 3"/>
          <p:cNvSpPr>
            <a:spLocks noGrp="1"/>
          </p:cNvSpPr>
          <p:nvPr>
            <p:ph type="dt" idx="56"/>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04686-E19F-441D-BE66-64B4B8630737}"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801" name="PlaceHolder 4"/>
          <p:cNvSpPr>
            <a:spLocks noGrp="1"/>
          </p:cNvSpPr>
          <p:nvPr>
            <p:ph type="ftr" idx="57"/>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2" name="PlaceHolder 5"/>
          <p:cNvSpPr>
            <a:spLocks noGrp="1"/>
          </p:cNvSpPr>
          <p:nvPr>
            <p:ph type="sldNum" idx="5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AED45-BD0A-4F84-942D-F4F82CD5BF10}"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721188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86"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87" name="PlaceHolder 3"/>
          <p:cNvSpPr>
            <a:spLocks noGrp="1"/>
          </p:cNvSpPr>
          <p:nvPr>
            <p:ph type="dt" idx="7"/>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1886B-4F20-4E35-B6E4-A9951C6D66A8}"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901E8-256A-416E-A655-3C3FAD71652F}"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3187800" y="268200"/>
            <a:ext cx="5668920" cy="25606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7" name="Rectangle 7"/>
          <p:cNvSpPr/>
          <p:nvPr/>
        </p:nvSpPr>
        <p:spPr>
          <a:xfrm>
            <a:off x="268200" y="268200"/>
            <a:ext cx="184320" cy="38862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29"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30" name="PlaceHolder 3"/>
          <p:cNvSpPr>
            <a:spLocks noGrp="1"/>
          </p:cNvSpPr>
          <p:nvPr>
            <p:ph type="dt" idx="10"/>
          </p:nvPr>
        </p:nvSpPr>
        <p:spPr>
          <a:xfrm>
            <a:off x="3276360" y="390600"/>
            <a:ext cx="5499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590F2-F1C0-410C-8EC6-7F35416901C1}" type="datetime">
              <a:rPr b="0" lang="en-US" sz="2200" spc="-1" strike="noStrike">
                <a:solidFill>
                  <a:srgbClr val="ffffff"/>
                </a:solidFill>
                <a:latin typeface="Century Gothic"/>
              </a:rPr>
              <a:t>07/29/26</a:t>
            </a:fld>
            <a:endParaRPr b="0" lang="en-US" sz="2200" spc="-1" strike="noStrike">
              <a:solidFill>
                <a:srgbClr val="000000"/>
              </a:solidFill>
              <a:latin typeface="Times New Roman"/>
            </a:endParaRPr>
          </a:p>
        </p:txBody>
      </p:sp>
      <p:sp>
        <p:nvSpPr>
          <p:cNvPr id="131" name="PlaceHolder 4"/>
          <p:cNvSpPr>
            <a:spLocks noGrp="1"/>
          </p:cNvSpPr>
          <p:nvPr>
            <p:ph type="ftr" idx="11"/>
          </p:nvPr>
        </p:nvSpPr>
        <p:spPr>
          <a:xfrm>
            <a:off x="3213000" y="6356520"/>
            <a:ext cx="4735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5"/>
          <p:cNvSpPr>
            <a:spLocks noGrp="1"/>
          </p:cNvSpPr>
          <p:nvPr>
            <p:ph type="sldNum" idx="12"/>
          </p:nvPr>
        </p:nvSpPr>
        <p:spPr>
          <a:xfrm>
            <a:off x="8265600" y="63565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00093-4E1F-4DCD-ACE1-9DA79DAB11A1}" type="slidenum">
              <a:rPr b="1" lang="en-US" sz="1100" spc="-1" strike="noStrike">
                <a:solidFill>
                  <a:srgbClr val="858585"/>
                </a:solidFill>
                <a:latin typeface="Century Gothic"/>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6"/>
          <p:cNvSpPr/>
          <p:nvPr/>
        </p:nvSpPr>
        <p:spPr>
          <a:xfrm>
            <a:off x="270000" y="268200"/>
            <a:ext cx="1646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171"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172" name="PlaceHolder 3"/>
          <p:cNvSpPr>
            <a:spLocks noGrp="1"/>
          </p:cNvSpPr>
          <p:nvPr>
            <p:ph type="dt" idx="13"/>
          </p:nvPr>
        </p:nvSpPr>
        <p:spPr>
          <a:xfrm>
            <a:off x="7211520" y="6356520"/>
            <a:ext cx="175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9C76C-D929-478A-BCD0-65762E89D748}"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173" name="PlaceHolder 4"/>
          <p:cNvSpPr>
            <a:spLocks noGrp="1"/>
          </p:cNvSpPr>
          <p:nvPr>
            <p:ph type="ftr" idx="14"/>
          </p:nvPr>
        </p:nvSpPr>
        <p:spPr>
          <a:xfrm>
            <a:off x="2178000" y="6356520"/>
            <a:ext cx="4927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5"/>
          <p:cNvSpPr>
            <a:spLocks noGrp="1"/>
          </p:cNvSpPr>
          <p:nvPr>
            <p:ph type="sldNum" idx="15"/>
          </p:nvPr>
        </p:nvSpPr>
        <p:spPr>
          <a:xfrm>
            <a:off x="331920" y="36036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6E745-8DBA-46A4-9367-9C7FD7CA6D98}"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7759800" y="268200"/>
            <a:ext cx="1098360" cy="63500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13"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14" name="PlaceHolder 3"/>
          <p:cNvSpPr>
            <a:spLocks noGrp="1"/>
          </p:cNvSpPr>
          <p:nvPr>
            <p:ph type="dt" idx="16"/>
          </p:nvPr>
        </p:nvSpPr>
        <p:spPr>
          <a:xfrm>
            <a:off x="5562720" y="6356520"/>
            <a:ext cx="1622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C8AE0-41E4-4BC4-AA9D-EC5C9AE7EFC5}"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215" name="PlaceHolder 4"/>
          <p:cNvSpPr>
            <a:spLocks noGrp="1"/>
          </p:cNvSpPr>
          <p:nvPr>
            <p:ph type="ftr" idx="17"/>
          </p:nvPr>
        </p:nvSpPr>
        <p:spPr>
          <a:xfrm>
            <a:off x="174240" y="6356520"/>
            <a:ext cx="5311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PlaceHolder 5"/>
          <p:cNvSpPr>
            <a:spLocks noGrp="1"/>
          </p:cNvSpPr>
          <p:nvPr>
            <p:ph type="sldNum" idx="18"/>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2F41C-DEBF-436F-8909-4055157E0D72}"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6"/>
          <p:cNvSpPr/>
          <p:nvPr/>
        </p:nvSpPr>
        <p:spPr>
          <a:xfrm>
            <a:off x="270000" y="4773600"/>
            <a:ext cx="2971800" cy="18446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5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56" name="PlaceHolder 3"/>
          <p:cNvSpPr>
            <a:spLocks noGrp="1"/>
          </p:cNvSpPr>
          <p:nvPr>
            <p:ph type="sldNum" idx="19"/>
          </p:nvPr>
        </p:nvSpPr>
        <p:spPr>
          <a:xfrm>
            <a:off x="351000" y="6105600"/>
            <a:ext cx="50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9EF63-7630-474E-BFA3-E62F7F74732B}"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295"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296" name="PlaceHolder 3"/>
          <p:cNvSpPr>
            <a:spLocks noGrp="1"/>
          </p:cNvSpPr>
          <p:nvPr>
            <p:ph type="dt" idx="20"/>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CA125-95C7-4CFC-BFD6-170C3223EF17}"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297" name="PlaceHolder 4"/>
          <p:cNvSpPr>
            <a:spLocks noGrp="1"/>
          </p:cNvSpPr>
          <p:nvPr>
            <p:ph type="ftr" idx="21"/>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8" name="PlaceHolder 5"/>
          <p:cNvSpPr>
            <a:spLocks noGrp="1"/>
          </p:cNvSpPr>
          <p:nvPr>
            <p:ph type="sldNum" idx="22"/>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646D9-42E3-4D51-A9ED-382510B34AB2}"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6"/>
          <p:cNvSpPr/>
          <p:nvPr/>
        </p:nvSpPr>
        <p:spPr>
          <a:xfrm>
            <a:off x="8148600" y="268200"/>
            <a:ext cx="719280" cy="1646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6" name="PlaceHolder 1"/>
          <p:cNvSpPr>
            <a:spLocks noGrp="1"/>
          </p:cNvSpPr>
          <p:nvPr>
            <p:ph type="title"/>
          </p:nvPr>
        </p:nvSpPr>
        <p:spPr>
          <a:xfrm>
            <a:off x="457200" y="914040"/>
            <a:ext cx="6508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lick to edit the title text format</a:t>
            </a:r>
            <a:endParaRPr b="0" lang="en-US" sz="3600" spc="-1" strike="noStrike">
              <a:solidFill>
                <a:srgbClr val="990000"/>
              </a:solidFill>
              <a:latin typeface="Century Gothic"/>
            </a:endParaRPr>
          </a:p>
        </p:txBody>
      </p:sp>
      <p:sp>
        <p:nvSpPr>
          <p:cNvPr id="337" name="PlaceHolder 2"/>
          <p:cNvSpPr>
            <a:spLocks noGrp="1"/>
          </p:cNvSpPr>
          <p:nvPr>
            <p:ph type="body"/>
          </p:nvPr>
        </p:nvSpPr>
        <p:spPr>
          <a:xfrm>
            <a:off x="457200" y="2209320"/>
            <a:ext cx="6508800" cy="3916440"/>
          </a:xfrm>
          <a:prstGeom prst="rect">
            <a:avLst/>
          </a:prstGeom>
          <a:noFill/>
          <a:ln w="0">
            <a:noFill/>
          </a:ln>
        </p:spPr>
        <p:txBody>
          <a:bodyPr lIns="90000" rIns="90000" tIns="46800" bIns="46800"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lick to edit the outline text format</a:t>
            </a:r>
            <a:endParaRPr b="0" lang="en-US" sz="2000" spc="-1" strike="noStrike">
              <a:solidFill>
                <a:srgbClr val="333333"/>
              </a:solidFill>
              <a:latin typeface="Century Gothic"/>
            </a:endParaRPr>
          </a:p>
          <a:p>
            <a:pPr lvl="1" marL="4572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cond Outline Level</a:t>
            </a:r>
            <a:endParaRPr b="0" lang="en-US" sz="2000" spc="-1" strike="noStrike">
              <a:solidFill>
                <a:srgbClr val="333333"/>
              </a:solidFill>
              <a:latin typeface="Century Gothic"/>
            </a:endParaRPr>
          </a:p>
          <a:p>
            <a:pPr lvl="2" marL="6858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ird Outline Level</a:t>
            </a:r>
            <a:endParaRPr b="0" lang="en-US" sz="2000" spc="-1" strike="noStrike">
              <a:solidFill>
                <a:srgbClr val="333333"/>
              </a:solidFill>
              <a:latin typeface="Century Gothic"/>
            </a:endParaRPr>
          </a:p>
          <a:p>
            <a:pPr lvl="3" marL="914400" indent="-228600">
              <a:spcBef>
                <a:spcPts val="1800"/>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urth Outline Level</a:t>
            </a:r>
            <a:endParaRPr b="0" lang="en-US" sz="2000" spc="-1" strike="noStrike">
              <a:solidFill>
                <a:srgbClr val="333333"/>
              </a:solidFill>
              <a:latin typeface="Century Gothic"/>
            </a:endParaRPr>
          </a:p>
          <a:p>
            <a:pPr lvl="4" marL="11430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ifth Outline Level</a:t>
            </a:r>
            <a:endParaRPr b="0" lang="en-US" sz="2000" spc="-1" strike="noStrike">
              <a:solidFill>
                <a:srgbClr val="333333"/>
              </a:solidFill>
              <a:latin typeface="Century Gothic"/>
            </a:endParaRPr>
          </a:p>
          <a:p>
            <a:pPr lvl="5"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ixth Outline Level</a:t>
            </a:r>
            <a:endParaRPr b="0" lang="en-US" sz="2000" spc="-1" strike="noStrike">
              <a:solidFill>
                <a:srgbClr val="333333"/>
              </a:solidFill>
              <a:latin typeface="Century Gothic"/>
            </a:endParaRPr>
          </a:p>
          <a:p>
            <a:pPr lvl="6" marL="1143000" indent="-228600">
              <a:spcBef>
                <a:spcPts val="18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venth Outline Level</a:t>
            </a:r>
            <a:endParaRPr b="0" lang="en-US" sz="2000" spc="-1" strike="noStrike">
              <a:solidFill>
                <a:srgbClr val="333333"/>
              </a:solidFill>
              <a:latin typeface="Century Gothic"/>
            </a:endParaRPr>
          </a:p>
        </p:txBody>
      </p:sp>
      <p:sp>
        <p:nvSpPr>
          <p:cNvPr id="338" name="PlaceHolder 3"/>
          <p:cNvSpPr>
            <a:spLocks noGrp="1"/>
          </p:cNvSpPr>
          <p:nvPr>
            <p:ph type="dt" idx="23"/>
          </p:nvPr>
        </p:nvSpPr>
        <p:spPr>
          <a:xfrm>
            <a:off x="7199280" y="6356520"/>
            <a:ext cx="17524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858585"/>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F32A6-3BCF-4ED1-B3EF-3369E12232E6}" type="datetime">
              <a:rPr b="1" lang="en-US" sz="1100" spc="-1" strike="noStrike">
                <a:solidFill>
                  <a:srgbClr val="858585"/>
                </a:solidFill>
                <a:latin typeface="Century Gothic"/>
              </a:rPr>
              <a:t>07/29/26</a:t>
            </a:fld>
            <a:endParaRPr b="0" lang="en-US" sz="1100" spc="-1" strike="noStrike">
              <a:solidFill>
                <a:srgbClr val="000000"/>
              </a:solidFill>
              <a:latin typeface="Times New Roman"/>
            </a:endParaRPr>
          </a:p>
        </p:txBody>
      </p:sp>
      <p:sp>
        <p:nvSpPr>
          <p:cNvPr id="339" name="PlaceHolder 4"/>
          <p:cNvSpPr>
            <a:spLocks noGrp="1"/>
          </p:cNvSpPr>
          <p:nvPr>
            <p:ph type="ftr" idx="24"/>
          </p:nvPr>
        </p:nvSpPr>
        <p:spPr>
          <a:xfrm>
            <a:off x="174600" y="6356520"/>
            <a:ext cx="60069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0" name="PlaceHolder 5"/>
          <p:cNvSpPr>
            <a:spLocks noGrp="1"/>
          </p:cNvSpPr>
          <p:nvPr>
            <p:ph type="sldNum" idx="25"/>
          </p:nvPr>
        </p:nvSpPr>
        <p:spPr>
          <a:xfrm>
            <a:off x="8256240" y="360360"/>
            <a:ext cx="506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200" spc="-1" strike="noStrike">
                <a:solidFill>
                  <a:srgbClr val="ffffff"/>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4A8F0-B7E0-4EAC-A37B-38CA4436A0EB}" type="slidenum">
              <a:rPr b="1" lang="en-US" sz="2200" spc="-1" strike="noStrike">
                <a:solidFill>
                  <a:srgbClr val="ffffff"/>
                </a:solidFill>
                <a:latin typeface="Century Gothic"/>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lwd.dol.state.nj.us/labor/lwdhome/content/TalentNetworkNJ_Index.html" TargetMode="External"/><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2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200040" y="4172040"/>
            <a:ext cx="5457960" cy="108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0000"/>
                </a:solidFill>
                <a:latin typeface="Century Gothic"/>
              </a:rPr>
              <a:t>Introduction to Labor Market Information (LMI)</a:t>
            </a:r>
            <a:endParaRPr b="0" lang="en-US" sz="4100" spc="-1" strike="noStrike">
              <a:solidFill>
                <a:srgbClr val="990000"/>
              </a:solidFill>
              <a:latin typeface="Century Gothic"/>
            </a:endParaRPr>
          </a:p>
        </p:txBody>
      </p:sp>
      <p:sp>
        <p:nvSpPr>
          <p:cNvPr id="847" name="PlaceHolder 2"/>
          <p:cNvSpPr>
            <a:spLocks noGrp="1"/>
          </p:cNvSpPr>
          <p:nvPr>
            <p:ph type="subTitle"/>
          </p:nvPr>
        </p:nvSpPr>
        <p:spPr>
          <a:xfrm>
            <a:off x="3200040" y="5257800"/>
            <a:ext cx="545796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Trends, Tools and Resources</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Picture 5" descr="Picture 37.png"/>
          <p:cNvPicPr/>
          <p:nvPr/>
        </p:nvPicPr>
        <p:blipFill>
          <a:blip r:embed="rId1"/>
          <a:stretch/>
        </p:blipFill>
        <p:spPr>
          <a:xfrm>
            <a:off x="1311120" y="0"/>
            <a:ext cx="65217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69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Promoting from Within</a:t>
            </a:r>
            <a:endParaRPr b="0" lang="en-US" sz="3600" spc="-1" strike="noStrike">
              <a:solidFill>
                <a:srgbClr val="990000"/>
              </a:solidFill>
              <a:latin typeface="Century Gothic"/>
            </a:endParaRPr>
          </a:p>
        </p:txBody>
      </p:sp>
      <p:pic>
        <p:nvPicPr>
          <p:cNvPr id="865" name="Picture 3" descr="Picture 41.png"/>
          <p:cNvPicPr/>
          <p:nvPr/>
        </p:nvPicPr>
        <p:blipFill>
          <a:blip r:embed="rId1"/>
          <a:stretch/>
        </p:blipFill>
        <p:spPr>
          <a:xfrm>
            <a:off x="539640" y="1679400"/>
            <a:ext cx="6426360" cy="46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6" name="Picture 3" descr="Picture 43.png"/>
          <p:cNvPicPr/>
          <p:nvPr/>
        </p:nvPicPr>
        <p:blipFill>
          <a:blip r:embed="rId1"/>
          <a:stretch/>
        </p:blipFill>
        <p:spPr>
          <a:xfrm>
            <a:off x="558720" y="457200"/>
            <a:ext cx="802656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Implications</a:t>
            </a:r>
            <a:endParaRPr b="0" lang="en-US" sz="4600" spc="-1" strike="noStrike">
              <a:solidFill>
                <a:srgbClr val="990000"/>
              </a:solidFill>
              <a:latin typeface="Century Gothic"/>
            </a:endParaRPr>
          </a:p>
        </p:txBody>
      </p:sp>
      <p:sp>
        <p:nvSpPr>
          <p:cNvPr id="868"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View of LMI</a:t>
            </a:r>
            <a:endParaRPr b="0" lang="en-US" sz="3600" spc="-1" strike="noStrike">
              <a:solidFill>
                <a:srgbClr val="990000"/>
              </a:solidFill>
              <a:latin typeface="Century Gothic"/>
            </a:endParaRPr>
          </a:p>
        </p:txBody>
      </p:sp>
      <p:sp>
        <p:nvSpPr>
          <p:cNvPr id="87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reasonably linear, stable and predictabl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slow, so we can anticipate and respond to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e can predict:</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vailable work</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Required skill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areer path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ocus on FT, permanent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raditional LMI Questions</a:t>
            </a:r>
            <a:endParaRPr b="0" lang="en-US" sz="3600" spc="-1" strike="noStrike">
              <a:solidFill>
                <a:srgbClr val="990000"/>
              </a:solidFill>
              <a:latin typeface="Century Gothic"/>
            </a:endParaRPr>
          </a:p>
        </p:txBody>
      </p:sp>
      <p:sp>
        <p:nvSpPr>
          <p:cNvPr id="87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a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orking Condition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reparation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dvancement</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5504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Normal for LMI</a:t>
            </a:r>
            <a:endParaRPr b="0" lang="en-US" sz="3600" spc="-1" strike="noStrike">
              <a:solidFill>
                <a:srgbClr val="990000"/>
              </a:solidFill>
              <a:latin typeface="Century Gothic"/>
            </a:endParaRPr>
          </a:p>
        </p:txBody>
      </p:sp>
      <p:sp>
        <p:nvSpPr>
          <p:cNvPr id="874" name=""/>
          <p:cNvSpPr txBox="1"/>
          <p:nvPr/>
        </p:nvSpPr>
        <p:spPr>
          <a:xfrm>
            <a:off x="457200" y="1875960"/>
            <a:ext cx="6508800" cy="3916440"/>
          </a:xfrm>
          <a:prstGeom prst="rect">
            <a:avLst/>
          </a:prstGeom>
          <a:noFill/>
          <a:ln w="0">
            <a:noFill/>
          </a:ln>
        </p:spPr>
        <p:txBody>
          <a:bodyPr anchor="t">
            <a:normAutofit fontScale="91000"/>
          </a:bodyPr>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ies/occupations are more chaotic, less linear and stable.</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ace of change is rapid—requires ongoing learning and re-tooling.</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ore focus on demand “skills,” rather than demand occupation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lattices rather than career ladders/path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Advancement” through lateral moves, skill development and new combos of skill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icro-enterprise opportunities</a:t>
            </a: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07720" indent="-20772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5648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ew LMI Questions</a:t>
            </a:r>
            <a:endParaRPr b="0" lang="en-US" sz="3600" spc="-1" strike="noStrike">
              <a:solidFill>
                <a:srgbClr val="990000"/>
              </a:solidFill>
              <a:latin typeface="Century Gothic"/>
            </a:endParaRPr>
          </a:p>
        </p:txBody>
      </p:sp>
      <p:sp>
        <p:nvSpPr>
          <p:cNvPr id="876" name=""/>
          <p:cNvSpPr txBox="1"/>
          <p:nvPr/>
        </p:nvSpPr>
        <p:spPr>
          <a:xfrm>
            <a:off x="457200" y="200304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will technology impact this occupation?</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Automate the job?</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hange skill requirement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ake it cheaper to outsource to another country?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What skills are in deman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skills be re-combined to add new valu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do I keep learning and adapting to stay ahead of chang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ow can I create multiple income stream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Understand Jobs Differently</a:t>
            </a:r>
            <a:endParaRPr b="0" lang="en-US" sz="3600" spc="-1" strike="noStrike">
              <a:solidFill>
                <a:srgbClr val="990000"/>
              </a:solidFill>
              <a:latin typeface="Century Gothic"/>
            </a:endParaRPr>
          </a:p>
        </p:txBody>
      </p:sp>
      <p:sp>
        <p:nvSpPr>
          <p:cNvPr id="87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Fungible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Job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alue-Add Job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a:t>
            </a:r>
            <a:endParaRPr b="0" lang="en-US" sz="3600" spc="-1" strike="noStrike">
              <a:solidFill>
                <a:srgbClr val="990000"/>
              </a:solidFill>
              <a:latin typeface="Century Gothic"/>
            </a:endParaRPr>
          </a:p>
        </p:txBody>
      </p:sp>
      <p:sp>
        <p:nvSpPr>
          <p:cNvPr id="88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asily digitiz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on’t require face-to-face interaction or human interven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ly on “rules” and minimal independent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be partially or completely automated through smart systems, RFID technology, artificial intelligence etc.</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at is Labor Market Information? </a:t>
            </a:r>
            <a:endParaRPr b="0" lang="en-US" sz="3600" spc="-1" strike="noStrike">
              <a:solidFill>
                <a:srgbClr val="990000"/>
              </a:solidFill>
              <a:latin typeface="Century Gothic"/>
            </a:endParaRPr>
          </a:p>
        </p:txBody>
      </p:sp>
      <p:sp>
        <p:nvSpPr>
          <p:cNvPr id="84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teraction between individuals competing for jobs and employers competing for workers, usually in a </a:t>
            </a:r>
            <a:r>
              <a:rPr b="1" lang="en-US" sz="2000" spc="-1" strike="noStrike">
                <a:solidFill>
                  <a:srgbClr val="333333"/>
                </a:solidFill>
                <a:latin typeface="Century Gothic"/>
              </a:rPr>
              <a:t>particular geographic region</a:t>
            </a:r>
            <a:r>
              <a:rPr b="0" lang="en-US" sz="2000" spc="-1" strike="noStrike">
                <a:solidFill>
                  <a:srgbClr val="333333"/>
                </a:solidFill>
                <a:latin typeface="Century Gothic"/>
              </a:rPr>
              <a: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scribes how a particular labor market is functioning:</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What jobs are available?</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eople with requisite skills/experience to fill those jobs?</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Fungible jobs will be. . . </a:t>
            </a:r>
            <a:endParaRPr b="0" lang="en-US" sz="3600" spc="-1" strike="noStrike">
              <a:solidFill>
                <a:srgbClr val="990000"/>
              </a:solidFill>
              <a:latin typeface="Century Gothic"/>
            </a:endParaRPr>
          </a:p>
        </p:txBody>
      </p:sp>
      <p:sp>
        <p:nvSpPr>
          <p:cNvPr id="882"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ed</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elf-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utsourced to a country where labor is cheaper</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nchored Jobs</a:t>
            </a:r>
            <a:endParaRPr b="0" lang="en-US" sz="3600" spc="-1" strike="noStrike">
              <a:solidFill>
                <a:srgbClr val="990000"/>
              </a:solidFill>
              <a:latin typeface="Century Gothic"/>
            </a:endParaRPr>
          </a:p>
        </p:txBody>
      </p:sp>
      <p:sp>
        <p:nvSpPr>
          <p:cNvPr id="88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Must be performed in particular geographic loc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1—Low skill/low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Bus driver</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Daycare worker</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nchored 2—Higher skill/higher wag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Nurs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re can </a:t>
            </a:r>
            <a:r>
              <a:rPr b="0" lang="en-US" sz="2000" spc="-1" strike="noStrike" u="sng">
                <a:solidFill>
                  <a:srgbClr val="333333"/>
                </a:solidFill>
                <a:uFillTx/>
                <a:latin typeface="Century Gothic"/>
              </a:rPr>
              <a:t>be fungible parts </a:t>
            </a:r>
            <a:r>
              <a:rPr b="0" lang="en-US" sz="2000" spc="-1" strike="noStrike">
                <a:solidFill>
                  <a:srgbClr val="333333"/>
                </a:solidFill>
                <a:latin typeface="Century Gothic"/>
              </a:rPr>
              <a:t>of </a:t>
            </a:r>
            <a:r>
              <a:rPr b="0" lang="en-US" sz="2000" spc="-1" strike="noStrike" u="sng">
                <a:solidFill>
                  <a:srgbClr val="333333"/>
                </a:solidFill>
                <a:uFillTx/>
                <a:latin typeface="Century Gothic"/>
              </a:rPr>
              <a:t>anchored jobs</a:t>
            </a:r>
            <a:r>
              <a:rPr b="0" lang="en-US" sz="2000" spc="-1" strike="noStrike">
                <a:solidFill>
                  <a:srgbClr val="333333"/>
                </a:solidFill>
                <a:latin typeface="Century Gothic"/>
              </a:rPr>
              <a:t>!</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a:t>
            </a:r>
            <a:r>
              <a:rPr b="0" lang="en-US" sz="3600" spc="-1" strike="noStrike">
                <a:solidFill>
                  <a:srgbClr val="990000"/>
                </a:solidFill>
                <a:latin typeface="Century Gothic"/>
              </a:rPr>
              <a:t>Value-Add” Jobs</a:t>
            </a:r>
            <a:endParaRPr b="0" lang="en-US" sz="3600" spc="-1" strike="noStrike">
              <a:solidFill>
                <a:srgbClr val="990000"/>
              </a:solidFill>
              <a:latin typeface="Century Gothic"/>
            </a:endParaRPr>
          </a:p>
        </p:txBody>
      </p:sp>
      <p:sp>
        <p:nvSpPr>
          <p:cNvPr id="88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Depth/breadth of skill—Super Generalists and Super Speciali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stant chang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levels of interaction, creativity and non-rules-based decision-makin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igh technological proficiency</a:t>
            </a:r>
            <a:endParaRPr b="0" lang="en-US" sz="2000" spc="-1" strike="noStrike">
              <a:solidFill>
                <a:srgbClr val="333333"/>
              </a:solidFill>
              <a:latin typeface="Century Gothic"/>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1404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Career Planning for the New Normal</a:t>
            </a:r>
            <a:endParaRPr b="0" lang="en-US" sz="2800" spc="-1" strike="noStrike">
              <a:solidFill>
                <a:srgbClr val="990000"/>
              </a:solidFill>
              <a:latin typeface="Century Gothic"/>
            </a:endParaRPr>
          </a:p>
        </p:txBody>
      </p:sp>
      <p:sp>
        <p:nvSpPr>
          <p:cNvPr id="888" name=""/>
          <p:cNvSpPr txBox="1"/>
          <p:nvPr/>
        </p:nvSpPr>
        <p:spPr>
          <a:xfrm>
            <a:off x="457200" y="2214360"/>
            <a:ext cx="356544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Evaluate occupations and industries for “fungibility.”</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Monitor impact of technology and other workplace trend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Prepare for Anchored Tier 2 and Value-Add Jobs</a:t>
            </a:r>
            <a:endParaRPr b="0" lang="en-US" sz="1800" spc="-1" strike="noStrike">
              <a:solidFill>
                <a:srgbClr val="333333"/>
              </a:solidFill>
              <a:latin typeface="Century Gothic"/>
            </a:endParaRPr>
          </a:p>
        </p:txBody>
      </p:sp>
      <p:sp>
        <p:nvSpPr>
          <p:cNvPr id="889" name=""/>
          <p:cNvSpPr txBox="1"/>
          <p:nvPr/>
        </p:nvSpPr>
        <p:spPr>
          <a:xfrm>
            <a:off x="4282560" y="2214360"/>
            <a:ext cx="3565800" cy="391140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on developing “value-add” skills and experiences.</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multiple income streams” </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Think ongoing career planning and life-long employability.</a:t>
            </a: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NJ LMI</a:t>
            </a:r>
            <a:endParaRPr b="0" lang="en-US" sz="4600" spc="-1" strike="noStrike">
              <a:solidFill>
                <a:srgbClr val="990000"/>
              </a:solidFill>
              <a:latin typeface="Century Gothic"/>
            </a:endParaRPr>
          </a:p>
        </p:txBody>
      </p:sp>
      <p:sp>
        <p:nvSpPr>
          <p:cNvPr id="892"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Latest Data from June 2012</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3" name="Chart 2" descr=""/>
          <p:cNvPicPr/>
          <p:nvPr/>
        </p:nvPicPr>
        <p:blipFill>
          <a:blip r:embed="rId1"/>
          <a:stretch/>
        </p:blipFill>
        <p:spPr>
          <a:xfrm>
            <a:off x="365040" y="596880"/>
            <a:ext cx="8413920" cy="566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Chart 2" descr=""/>
          <p:cNvPicPr/>
          <p:nvPr/>
        </p:nvPicPr>
        <p:blipFill>
          <a:blip r:embed="rId1"/>
          <a:stretch/>
        </p:blipFill>
        <p:spPr>
          <a:xfrm>
            <a:off x="237960" y="285840"/>
            <a:ext cx="8668080" cy="628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Chart 2" descr=""/>
          <p:cNvPicPr/>
          <p:nvPr/>
        </p:nvPicPr>
        <p:blipFill>
          <a:blip r:embed="rId1"/>
          <a:stretch/>
        </p:blipFill>
        <p:spPr>
          <a:xfrm>
            <a:off x="0" y="0"/>
            <a:ext cx="8778960" cy="626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6" name="Picture 2" descr=""/>
          <p:cNvPicPr/>
          <p:nvPr/>
        </p:nvPicPr>
        <p:blipFill>
          <a:blip r:embed="rId1"/>
          <a:stretch/>
        </p:blipFill>
        <p:spPr>
          <a:xfrm>
            <a:off x="2214720" y="380880"/>
            <a:ext cx="46638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Why Should We Care About LMI? </a:t>
            </a:r>
            <a:endParaRPr b="0" lang="en-US" sz="3600" spc="-1" strike="noStrike">
              <a:solidFill>
                <a:srgbClr val="990000"/>
              </a:solidFill>
              <a:latin typeface="Century Gothic"/>
            </a:endParaRPr>
          </a:p>
        </p:txBody>
      </p:sp>
      <p:sp>
        <p:nvSpPr>
          <p:cNvPr id="85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staff and job seekers make better decisions about career prepar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Helps job seekers and job developers identify industries/occupations to target in the job searc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developers need to become “industry experts” in order to work effectively with employer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1"/>
          <a:stretch/>
        </p:blipFill>
        <p:spPr>
          <a:xfrm>
            <a:off x="2228760" y="304920"/>
            <a:ext cx="46674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8" name="Picture 3" descr="NJ Small Business.png"/>
          <p:cNvPicPr/>
          <p:nvPr/>
        </p:nvPicPr>
        <p:blipFill>
          <a:blip r:embed="rId1"/>
          <a:stretch/>
        </p:blipFill>
        <p:spPr>
          <a:xfrm>
            <a:off x="0" y="33192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rPr>
              <a:t>Key Industry Clusters account for two thirds of all employment &amp; wages statewide</a:t>
            </a:r>
            <a:endParaRPr b="0" lang="en-US" sz="2400" spc="-1" strike="noStrike">
              <a:solidFill>
                <a:srgbClr val="990000"/>
              </a:solidFill>
              <a:latin typeface="Century Gothic"/>
            </a:endParaRPr>
          </a:p>
        </p:txBody>
      </p:sp>
      <p:pic>
        <p:nvPicPr>
          <p:cNvPr id="900" name="Picture 2" descr=""/>
          <p:cNvPicPr/>
          <p:nvPr/>
        </p:nvPicPr>
        <p:blipFill>
          <a:blip r:embed="rId1"/>
          <a:stretch/>
        </p:blipFill>
        <p:spPr>
          <a:xfrm>
            <a:off x="304920" y="1638360"/>
            <a:ext cx="8686800" cy="4381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txBox="1"/>
          <p:nvPr/>
        </p:nvSpPr>
        <p:spPr>
          <a:xfrm>
            <a:off x="457200" y="2553840"/>
            <a:ext cx="8305920" cy="392292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Established to focus on the specific needs of key industries in the state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Purpose:</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Connect all stakeholders (job seekers, employers, service providers, educational institutions). </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Focus skill development and job search resources</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Help employers find workers with requisite skills/experience</a:t>
            </a:r>
            <a:endParaRPr b="0" lang="en-US" sz="1800" spc="-1" strike="noStrike">
              <a:solidFill>
                <a:srgbClr val="333333"/>
              </a:solidFill>
              <a:latin typeface="Century Gothic"/>
            </a:endParaRPr>
          </a:p>
        </p:txBody>
      </p:sp>
      <p:pic>
        <p:nvPicPr>
          <p:cNvPr id="902" name="Picture 2" descr="New Jersey's Talent Networks">
            <a:hlinkClick r:id="rId1"/>
          </p:cNvPr>
          <p:cNvPicPr/>
          <p:nvPr/>
        </p:nvPicPr>
        <p:blipFill>
          <a:blip r:embed="rId2"/>
          <a:stretch/>
        </p:blipFill>
        <p:spPr>
          <a:xfrm>
            <a:off x="1208160" y="863640"/>
            <a:ext cx="6095880" cy="135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69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Key Industry Sectors</a:t>
            </a:r>
            <a:endParaRPr b="0" lang="en-US" sz="3600" spc="-1" strike="noStrike">
              <a:solidFill>
                <a:srgbClr val="990000"/>
              </a:solidFill>
              <a:latin typeface="Century Gothic"/>
            </a:endParaRPr>
          </a:p>
        </p:txBody>
      </p:sp>
      <p:sp>
        <p:nvSpPr>
          <p:cNvPr id="904" name="PlaceHolder 2"/>
          <p:cNvSpPr>
            <a:spLocks noGrp="1"/>
          </p:cNvSpPr>
          <p:nvPr>
            <p:ph/>
          </p:nvPr>
        </p:nvSpPr>
        <p:spPr>
          <a:xfrm>
            <a:off x="457200" y="1862280"/>
            <a:ext cx="8229600" cy="4572000"/>
          </a:xfrm>
          <a:prstGeom prst="rect">
            <a:avLst/>
          </a:prstGeom>
          <a:noFill/>
          <a:ln w="0">
            <a:noFill/>
          </a:ln>
        </p:spPr>
        <p:txBody>
          <a:bodyPr anchor="t">
            <a:normAutofit/>
          </a:bodyPr>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Life Sciences (Biotechnology/Pharmaceutical)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ransportation/Logistics/Distribution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Finance Services</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Advanced Manufacturing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Health Care</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Entertainment, Arts, Retail, Leisure and Hospitality </a:t>
            </a:r>
            <a:endParaRPr b="0" lang="en-US" sz="2400" spc="-1" strike="noStrike">
              <a:solidFill>
                <a:srgbClr val="333333"/>
              </a:solidFill>
              <a:latin typeface="Century Gothic"/>
            </a:endParaRPr>
          </a:p>
          <a:p>
            <a:pPr marL="228600" indent="-228600">
              <a:lnSpc>
                <a:spcPct val="90000"/>
              </a:lnSpc>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entury Gothic"/>
              </a:rPr>
              <a:t>Technology/Entrepreneurship</a:t>
            </a:r>
            <a:endParaRPr b="0" lang="en-US" sz="24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2010 Employment and Projected Growth By Industry Sector</a:t>
            </a:r>
            <a:endParaRPr b="0" lang="en-US" sz="2800" spc="-1" strike="noStrike">
              <a:solidFill>
                <a:srgbClr val="990000"/>
              </a:solidFill>
              <a:latin typeface="Century Gothic"/>
            </a:endParaRPr>
          </a:p>
        </p:txBody>
      </p:sp>
      <p:pic>
        <p:nvPicPr>
          <p:cNvPr id="906" name="Content Placeholder 5" descr=""/>
          <p:cNvPicPr/>
          <p:nvPr/>
        </p:nvPicPr>
        <p:blipFill>
          <a:blip r:embed="rId1"/>
          <a:stretch/>
        </p:blipFill>
        <p:spPr>
          <a:xfrm>
            <a:off x="0" y="2057400"/>
            <a:ext cx="88390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Content Placeholder 3" descr=""/>
          <p:cNvPicPr/>
          <p:nvPr/>
        </p:nvPicPr>
        <p:blipFill>
          <a:blip r:embed="rId1"/>
          <a:stretch/>
        </p:blipFill>
        <p:spPr>
          <a:xfrm>
            <a:off x="380880" y="1447920"/>
            <a:ext cx="8534520" cy="5105160"/>
          </a:xfrm>
          <a:prstGeom prst="rect">
            <a:avLst/>
          </a:prstGeom>
          <a:ln w="0">
            <a:noFill/>
          </a:ln>
        </p:spPr>
      </p:pic>
      <p:sp>
        <p:nvSpPr>
          <p:cNvPr id="908" name="PlaceHolder 1"/>
          <p:cNvSpPr>
            <a:spLocks noGrp="1"/>
          </p:cNvSpPr>
          <p:nvPr>
            <p:ph type="title"/>
          </p:nvPr>
        </p:nvSpPr>
        <p:spPr>
          <a:xfrm>
            <a:off x="457200" y="30456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Industry Sectors with the Largest Projected Employment Growth</a:t>
            </a:r>
            <a:endParaRPr b="0" lang="en-US" sz="28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Content Placeholder 3" descr=""/>
          <p:cNvPicPr/>
          <p:nvPr/>
        </p:nvPicPr>
        <p:blipFill>
          <a:blip r:embed="rId1"/>
          <a:stretch/>
        </p:blipFill>
        <p:spPr>
          <a:xfrm>
            <a:off x="0" y="1219320"/>
            <a:ext cx="8915400" cy="5257800"/>
          </a:xfrm>
          <a:prstGeom prst="rect">
            <a:avLst/>
          </a:prstGeom>
          <a:ln w="0">
            <a:noFill/>
          </a:ln>
        </p:spPr>
      </p:pic>
      <p:sp>
        <p:nvSpPr>
          <p:cNvPr id="910" name="Title 2"/>
          <p:cNvSpPr/>
          <p:nvPr/>
        </p:nvSpPr>
        <p:spPr>
          <a:xfrm>
            <a:off x="457200" y="304920"/>
            <a:ext cx="6508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entury Gothic"/>
              </a:rPr>
              <a:t>Occupations with the Largest Projected Employmen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Implications for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LMI Resources and Tools</a:t>
            </a:r>
            <a:endParaRPr b="0" lang="en-US" sz="4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ypes of LMI</a:t>
            </a:r>
            <a:endParaRPr b="0" lang="en-US" sz="3600" spc="-1" strike="noStrike">
              <a:solidFill>
                <a:srgbClr val="990000"/>
              </a:solidFill>
              <a:latin typeface="Century Gothic"/>
            </a:endParaRPr>
          </a:p>
        </p:txBody>
      </p:sp>
      <p:sp>
        <p:nvSpPr>
          <p:cNvPr id="853"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General LMI</a:t>
            </a:r>
            <a:endParaRPr b="0" lang="en-US" sz="20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Labor force information</a:t>
            </a:r>
            <a:endParaRPr b="0" lang="en-US" sz="1800" spc="-1" strike="noStrike">
              <a:solidFill>
                <a:srgbClr val="333333"/>
              </a:solidFill>
              <a:latin typeface="Century Gothic"/>
            </a:endParaRPr>
          </a:p>
          <a:p>
            <a:pPr lvl="1" marL="457200" indent="-228600">
              <a:spcBef>
                <a:spcPts val="601"/>
              </a:spcBef>
              <a:buClr>
                <a:srgbClr val="4d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entury Gothic"/>
              </a:rPr>
              <a:t>Unemployment rate</a:t>
            </a:r>
            <a:endParaRPr b="0" lang="en-US" sz="18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Information</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Sources of LMI</a:t>
            </a:r>
            <a:endParaRPr b="0" lang="en-US" sz="3600" spc="-1" strike="noStrike">
              <a:solidFill>
                <a:srgbClr val="990000"/>
              </a:solidFill>
              <a:latin typeface="Century Gothic"/>
            </a:endParaRPr>
          </a:p>
        </p:txBody>
      </p:sp>
      <p:sp>
        <p:nvSpPr>
          <p:cNvPr id="914"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ureau of Labor Statistics (BLS)---www.bls.gov</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One Stop—www.careeronestop.org</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J Department of Labor and Workforce Development--http://lwd.dol.state.nj.us/</a:t>
            </a:r>
            <a:endParaRPr b="0" lang="en-US" sz="2000" spc="-1" strike="noStrike">
              <a:solidFill>
                <a:srgbClr val="333333"/>
              </a:solidFill>
              <a:latin typeface="Century Gothic"/>
            </a:endParaRPr>
          </a:p>
          <a:p>
            <a:pPr lvl="1" marL="4572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BLS </a:t>
            </a:r>
            <a:endParaRPr b="0" lang="en-US" sz="3600" spc="-1" strike="noStrike">
              <a:solidFill>
                <a:srgbClr val="990000"/>
              </a:solidFill>
              <a:latin typeface="Century Gothic"/>
            </a:endParaRPr>
          </a:p>
        </p:txBody>
      </p:sp>
      <p:sp>
        <p:nvSpPr>
          <p:cNvPr id="916"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information</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Handbook --http://bls.gov/ooh/</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al Outlook Quarterly--http://bls.gov/opub/ooq/</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reer Guide to Industries--http://bls.gov/ooh/about/career-guide-to-industries.htm</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Career One Stop</a:t>
            </a:r>
            <a:endParaRPr b="0" lang="en-US" sz="3600" spc="-1" strike="noStrike">
              <a:solidFill>
                <a:srgbClr val="990000"/>
              </a:solidFill>
              <a:latin typeface="Century Gothic"/>
            </a:endParaRPr>
          </a:p>
        </p:txBody>
      </p:sp>
      <p:sp>
        <p:nvSpPr>
          <p:cNvPr id="918"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National site for One Stop Career Center system</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an explore careers, wage and salary info, connect to education and training, etc.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Job search resource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nnect to local One Stop Career Centers</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NJ LWD</a:t>
            </a:r>
            <a:endParaRPr b="0" lang="en-US" sz="3600" spc="-1" strike="noStrike">
              <a:solidFill>
                <a:srgbClr val="990000"/>
              </a:solidFill>
              <a:latin typeface="Century Gothic"/>
            </a:endParaRPr>
          </a:p>
        </p:txBody>
      </p:sp>
      <p:sp>
        <p:nvSpPr>
          <p:cNvPr id="920"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Real Time Jobs in Demand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Industry/Regional Focus Repor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Labor Market Field Analyst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Occupation Explorer</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Careeronestop.org</a:t>
            </a:r>
            <a:endParaRPr b="0" lang="en-US" sz="3600" spc="-1" strike="noStrike">
              <a:solidFill>
                <a:srgbClr val="990000"/>
              </a:solidFill>
              <a:latin typeface="Century Gothic"/>
            </a:endParaRPr>
          </a:p>
        </p:txBody>
      </p:sp>
      <p:pic>
        <p:nvPicPr>
          <p:cNvPr id="922" name="Picture 3" descr="CareerOneStop.png"/>
          <p:cNvPicPr/>
          <p:nvPr/>
        </p:nvPicPr>
        <p:blipFill>
          <a:blip r:embed="rId1"/>
          <a:stretch/>
        </p:blipFill>
        <p:spPr>
          <a:xfrm>
            <a:off x="457200" y="1820880"/>
            <a:ext cx="8367840" cy="435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Employability Check-Up</a:t>
            </a:r>
            <a:endParaRPr b="0" lang="en-US" sz="3600" spc="-1" strike="noStrike">
              <a:solidFill>
                <a:srgbClr val="990000"/>
              </a:solidFill>
              <a:latin typeface="Century Gothic"/>
            </a:endParaRPr>
          </a:p>
        </p:txBody>
      </p:sp>
      <p:pic>
        <p:nvPicPr>
          <p:cNvPr id="924" name="Picture 3" descr="Picture 34.png"/>
          <p:cNvPicPr/>
          <p:nvPr/>
        </p:nvPicPr>
        <p:blipFill>
          <a:blip r:embed="rId1"/>
          <a:stretch/>
        </p:blipFill>
        <p:spPr>
          <a:xfrm>
            <a:off x="0" y="184140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Myskillsmyfuture.org</a:t>
            </a:r>
            <a:endParaRPr b="0" lang="en-US" sz="3600" spc="-1" strike="noStrike">
              <a:solidFill>
                <a:srgbClr val="990000"/>
              </a:solidFill>
              <a:latin typeface="Century Gothic"/>
            </a:endParaRPr>
          </a:p>
        </p:txBody>
      </p:sp>
      <p:pic>
        <p:nvPicPr>
          <p:cNvPr id="926" name="Picture 4" descr="Picture 32.png"/>
          <p:cNvPicPr/>
          <p:nvPr/>
        </p:nvPicPr>
        <p:blipFill>
          <a:blip r:embed="rId1"/>
          <a:stretch/>
        </p:blipFill>
        <p:spPr>
          <a:xfrm>
            <a:off x="776160" y="1762200"/>
            <a:ext cx="7294680" cy="4465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Mynextmove.org</a:t>
            </a:r>
            <a:endParaRPr b="0" lang="en-US" sz="3600" spc="-1" strike="noStrike">
              <a:solidFill>
                <a:srgbClr val="990000"/>
              </a:solidFill>
              <a:latin typeface="Century Gothic"/>
            </a:endParaRPr>
          </a:p>
        </p:txBody>
      </p:sp>
      <p:pic>
        <p:nvPicPr>
          <p:cNvPr id="928" name="Picture 3" descr="Picture 33.png"/>
          <p:cNvPicPr/>
          <p:nvPr/>
        </p:nvPicPr>
        <p:blipFill>
          <a:blip r:embed="rId1"/>
          <a:stretch/>
        </p:blipFill>
        <p:spPr>
          <a:xfrm>
            <a:off x="457200" y="1749600"/>
            <a:ext cx="7327800" cy="461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Skills Profiler</a:t>
            </a:r>
            <a:endParaRPr b="0" lang="en-US" sz="3600" spc="-1" strike="noStrike">
              <a:solidFill>
                <a:srgbClr val="990000"/>
              </a:solidFill>
              <a:latin typeface="Century Gothic"/>
            </a:endParaRPr>
          </a:p>
        </p:txBody>
      </p:sp>
      <p:pic>
        <p:nvPicPr>
          <p:cNvPr id="930" name="Picture 3" descr="Picture 36.png"/>
          <p:cNvPicPr/>
          <p:nvPr/>
        </p:nvPicPr>
        <p:blipFill>
          <a:blip r:embed="rId1"/>
          <a:stretch/>
        </p:blipFill>
        <p:spPr>
          <a:xfrm>
            <a:off x="733320" y="1652760"/>
            <a:ext cx="7564680" cy="4492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 Next Stop</a:t>
            </a:r>
            <a:endParaRPr b="0" lang="en-US" sz="3600" spc="-1" strike="noStrike">
              <a:solidFill>
                <a:srgbClr val="990000"/>
              </a:solidFill>
              <a:latin typeface="Century Gothic"/>
            </a:endParaRPr>
          </a:p>
        </p:txBody>
      </p:sp>
      <p:pic>
        <p:nvPicPr>
          <p:cNvPr id="932" name="Picture 4" descr="Picture 44.png"/>
          <p:cNvPicPr/>
          <p:nvPr/>
        </p:nvPicPr>
        <p:blipFill>
          <a:blip r:embed="rId1"/>
          <a:stretch/>
        </p:blipFill>
        <p:spPr>
          <a:xfrm>
            <a:off x="649440" y="1486080"/>
            <a:ext cx="7337160" cy="48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Potential LMI Issues</a:t>
            </a:r>
            <a:endParaRPr b="0" lang="en-US" sz="3600" spc="-1" strike="noStrike">
              <a:solidFill>
                <a:srgbClr val="990000"/>
              </a:solidFill>
              <a:latin typeface="Century Gothic"/>
            </a:endParaRPr>
          </a:p>
        </p:txBody>
      </p:sp>
      <p:sp>
        <p:nvSpPr>
          <p:cNvPr id="855"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ccurac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imeliness</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Usability</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34272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NJCAN</a:t>
            </a:r>
            <a:endParaRPr b="0" lang="en-US" sz="3600" spc="-1" strike="noStrike">
              <a:solidFill>
                <a:srgbClr val="990000"/>
              </a:solidFill>
              <a:latin typeface="Century Gothic"/>
            </a:endParaRPr>
          </a:p>
        </p:txBody>
      </p:sp>
      <p:pic>
        <p:nvPicPr>
          <p:cNvPr id="934" name="Picture 3" descr="Picture 48.png"/>
          <p:cNvPicPr/>
          <p:nvPr/>
        </p:nvPicPr>
        <p:blipFill>
          <a:blip r:embed="rId1"/>
          <a:stretch/>
        </p:blipFill>
        <p:spPr>
          <a:xfrm>
            <a:off x="457200" y="1486080"/>
            <a:ext cx="7975440" cy="5022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5682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Century Gothic"/>
              </a:rPr>
              <a:t>How can you use with the people you work with? </a:t>
            </a:r>
            <a:endParaRPr b="0" lang="en-US" sz="3600" spc="-1" strike="noStrike">
              <a:solidFill>
                <a:srgbClr val="99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2209680" y="3428640"/>
            <a:ext cx="4965840" cy="1398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entury Gothic"/>
              </a:rPr>
              <a:t>General Trends</a:t>
            </a:r>
            <a:endParaRPr b="0" lang="en-US" sz="4600" spc="-1" strike="noStrike">
              <a:solidFill>
                <a:srgbClr val="990000"/>
              </a:solidFill>
              <a:latin typeface="Century Gothic"/>
            </a:endParaRPr>
          </a:p>
        </p:txBody>
      </p:sp>
      <p:sp>
        <p:nvSpPr>
          <p:cNvPr id="857" name="PlaceHolder 2"/>
          <p:cNvSpPr>
            <a:spLocks noGrp="1"/>
          </p:cNvSpPr>
          <p:nvPr>
            <p:ph/>
          </p:nvPr>
        </p:nvSpPr>
        <p:spPr>
          <a:xfrm>
            <a:off x="2209680" y="4824000"/>
            <a:ext cx="4965840" cy="1320840"/>
          </a:xfrm>
          <a:prstGeom prst="rect">
            <a:avLst/>
          </a:prstGeom>
          <a:noFill/>
          <a:ln w="0">
            <a:noFill/>
          </a:ln>
        </p:spPr>
        <p:txBody>
          <a:bodyPr anchor="t">
            <a:normAutofit/>
          </a:bodyPr>
          <a:p>
            <a:pPr indent="0" algn="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Century Gothic"/>
              </a:rPr>
              <a:t>Workplace/Economic Trends and Implications for Career Planning and Job Search</a:t>
            </a:r>
            <a:endParaRPr b="0" lang="en-US" sz="16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Technology Changes</a:t>
            </a:r>
            <a:endParaRPr b="0" lang="en-US" sz="3600" spc="-1" strike="noStrike">
              <a:solidFill>
                <a:srgbClr val="990000"/>
              </a:solidFill>
              <a:latin typeface="Century Gothic"/>
            </a:endParaRPr>
          </a:p>
        </p:txBody>
      </p:sp>
      <p:sp>
        <p:nvSpPr>
          <p:cNvPr id="859"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Smart Systems and digitized work</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utomation/Self Servi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t>
            </a:r>
            <a:r>
              <a:rPr b="0" lang="en-US" sz="2000" spc="-1" strike="noStrike">
                <a:solidFill>
                  <a:srgbClr val="333333"/>
                </a:solidFill>
                <a:latin typeface="Century Gothic"/>
              </a:rPr>
              <a:t>Just-in-Time” scheduling softwar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rtificial intelligence</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Virtual Reality</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The “Internet of Things” </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4040"/>
            <a:ext cx="650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entury Gothic"/>
              </a:rPr>
              <a:t>Global Labor Market</a:t>
            </a:r>
            <a:endParaRPr b="0" lang="en-US" sz="3600" spc="-1" strike="noStrike">
              <a:solidFill>
                <a:srgbClr val="990000"/>
              </a:solidFill>
              <a:latin typeface="Century Gothic"/>
            </a:endParaRPr>
          </a:p>
        </p:txBody>
      </p:sp>
      <p:sp>
        <p:nvSpPr>
          <p:cNvPr id="861" name=""/>
          <p:cNvSpPr txBox="1"/>
          <p:nvPr/>
        </p:nvSpPr>
        <p:spPr>
          <a:xfrm>
            <a:off x="457200" y="2209320"/>
            <a:ext cx="6508800" cy="3916440"/>
          </a:xfrm>
          <a:prstGeom prst="rect">
            <a:avLst/>
          </a:prstGeom>
          <a:noFill/>
          <a:ln w="0">
            <a:noFill/>
          </a:ln>
        </p:spPr>
        <p:txBody>
          <a:bodyPr anchor="t">
            <a:normAutofit/>
          </a:bodyPr>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Companies moving jobs to where labor is cheapest.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Average Chinese factory workers works 12 hours/day and makes $1.36/hour. </a:t>
            </a:r>
            <a:endParaRPr b="0" lang="en-US" sz="2000" spc="-1" strike="noStrike">
              <a:solidFill>
                <a:srgbClr val="333333"/>
              </a:solidFill>
              <a:latin typeface="Century Gothic"/>
            </a:endParaRPr>
          </a:p>
          <a:p>
            <a:pPr marL="228600" indent="-228600">
              <a:spcBef>
                <a:spcPts val="1800"/>
              </a:spcBef>
              <a:buClr>
                <a:srgbClr val="99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entury Gothic"/>
              </a:rPr>
              <a:t>Between 2000 and 2005, 150 million </a:t>
            </a:r>
            <a:r>
              <a:rPr b="0" lang="en-US" sz="2000" spc="-1" strike="noStrike" u="sng">
                <a:solidFill>
                  <a:srgbClr val="333333"/>
                </a:solidFill>
                <a:uFillTx/>
                <a:latin typeface="Century Gothic"/>
              </a:rPr>
              <a:t>educated </a:t>
            </a:r>
            <a:r>
              <a:rPr b="0" lang="en-US" sz="2000" spc="-1" strike="noStrike">
                <a:solidFill>
                  <a:srgbClr val="333333"/>
                </a:solidFill>
                <a:latin typeface="Century Gothic"/>
              </a:rPr>
              <a:t>workers joined global workforce—same as entire US workforce.</a:t>
            </a:r>
            <a:endParaRPr b="0" lang="en-US" sz="2000" spc="-1" strike="noStrike">
              <a:solidFill>
                <a:srgbClr val="333333"/>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2" name="Picture 4" descr="Picture 39.png"/>
          <p:cNvPicPr/>
          <p:nvPr/>
        </p:nvPicPr>
        <p:blipFill>
          <a:blip r:embed="rId1"/>
          <a:stretch/>
        </p:blipFill>
        <p:spPr>
          <a:xfrm>
            <a:off x="1028880" y="596880"/>
            <a:ext cx="7086600" cy="566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12:07:14Z</dcterms:created>
  <dc:creator>Michele Martin</dc:creator>
  <dc:description/>
  <dc:language>en-US</dc:language>
  <cp:lastModifiedBy>Michele Martin</cp:lastModifiedBy>
  <dcterms:modified xsi:type="dcterms:W3CDTF">2012-09-19T12:40:49Z</dcterms:modified>
  <cp:revision>10</cp:revision>
  <dc:subject/>
  <dc:title>Asset-Based Assessment and Planning</dc:title>
</cp:coreProperties>
</file>