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7.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9.wmf" ContentType="image/x-wmf"/>
  <Override PartName="/ppt/media/image14.png" ContentType="image/png"/>
  <Override PartName="/ppt/media/image11.wmf" ContentType="image/x-wmf"/>
  <Override PartName="/ppt/media/image3.png" ContentType="image/png"/>
  <Override PartName="/ppt/media/image7.png" ContentType="image/png"/>
  <Override PartName="/ppt/media/image6.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1" name="PlaceHolder 2"/>
          <p:cNvSpPr>
            <a:spLocks noGrp="1"/>
          </p:cNvSpPr>
          <p:nvPr>
            <p:ph type="dt" idx="5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3FD82-F070-410D-8098-949D1AB2396B}"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8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move the slide</a:t>
            </a:r>
            <a:endParaRPr b="0" lang="en-US" sz="3600" spc="-1" strike="noStrike">
              <a:solidFill>
                <a:srgbClr val="990000"/>
              </a:solidFill>
              <a:latin typeface="Century Gothic"/>
            </a:endParaRPr>
          </a:p>
        </p:txBody>
      </p:sp>
      <p:sp>
        <p:nvSpPr>
          <p:cNvPr id="8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4" name="PlaceHolder 5"/>
          <p:cNvSpPr>
            <a:spLocks noGrp="1"/>
          </p:cNvSpPr>
          <p:nvPr>
            <p:ph type="ftr" idx="6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5" name="PlaceHolder 6"/>
          <p:cNvSpPr>
            <a:spLocks noGrp="1"/>
          </p:cNvSpPr>
          <p:nvPr>
            <p:ph type="sldNum" idx="6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A99C9-8AF3-4B62-BD35-1D3A6A31E40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C61BC-1D9D-481C-A049-8477ED1C0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illegal in NJ to advertise this way, this is the mindset of many employers—will simply screen out those people who don’t have recent work history when they are doing the resume screen. </a:t>
            </a:r>
            <a:endParaRPr b="0" lang="en-US" sz="1200" spc="-1" strike="noStrike">
              <a:solidFill>
                <a:srgbClr val="000000"/>
              </a:solidFill>
              <a:latin typeface="Calibri"/>
            </a:endParaRPr>
          </a:p>
        </p:txBody>
      </p:sp>
      <p:sp>
        <p:nvSpPr>
          <p:cNvPr id="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62741-AB07-424D-940C-A500C6D10C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25905-27B4-4137-A8A6-F7BB986BD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hnology and globalization causes this</a:t>
            </a:r>
            <a:endParaRPr b="0" lang="en-US" sz="1200" spc="-1" strike="noStrike">
              <a:solidFill>
                <a:srgbClr val="000000"/>
              </a:solidFill>
              <a:latin typeface="Calibri"/>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91D86-A37B-46B8-973E-7601968A55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hnology and globalization causes this</a:t>
            </a:r>
            <a:endParaRPr b="0" lang="en-US" sz="1200" spc="-1" strike="noStrike">
              <a:solidFill>
                <a:srgbClr val="000000"/>
              </a:solidFill>
              <a:latin typeface="Calibri"/>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F01EE-F353-46B6-B867-4D0D19A1F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fungible” continues to expand as technology improves</a:t>
            </a:r>
            <a:endParaRPr b="0" lang="en-US" sz="1200" spc="-1" strike="noStrike">
              <a:solidFill>
                <a:srgbClr val="000000"/>
              </a:solidFill>
              <a:latin typeface="Calibri"/>
            </a:endParaRPr>
          </a:p>
        </p:txBody>
      </p:sp>
      <p:sp>
        <p:nvSpPr>
          <p:cNvPr id="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9D913-9105-436D-98B3-B4D21B4695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icipation rate is the number of NJ residents, age 16-65 who are actively working or seeking work. </a:t>
            </a:r>
            <a:endParaRPr b="0" lang="en-US" sz="1200" spc="-1" strike="noStrike">
              <a:solidFill>
                <a:srgbClr val="000000"/>
              </a:solidFill>
              <a:latin typeface="Calibri"/>
            </a:endParaRPr>
          </a:p>
        </p:txBody>
      </p:sp>
      <p:sp>
        <p:nvSpPr>
          <p:cNvPr id="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F784E-248F-4858-9262-7CD1E4E1D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85B7A-8585-4F4A-BEB6-EA30A6AB4E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employment rate</a:t>
            </a:r>
            <a:endParaRPr b="0" lang="en-US" sz="1200" spc="-1" strike="noStrike">
              <a:solidFill>
                <a:srgbClr val="000000"/>
              </a:solidFill>
              <a:latin typeface="Calibri"/>
            </a:endParaRPr>
          </a:p>
        </p:txBody>
      </p:sp>
      <p:sp>
        <p:nvSpPr>
          <p:cNvPr id="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A6AF6-270E-49AE-86B7-4A176F4CE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f people who are unemployed</a:t>
            </a:r>
            <a:endParaRPr b="0" lang="en-US" sz="1200" spc="-1" strike="noStrike">
              <a:solidFill>
                <a:srgbClr val="000000"/>
              </a:solidFill>
              <a:latin typeface="Calibri"/>
            </a:endParaRPr>
          </a:p>
        </p:txBody>
      </p:sp>
      <p:sp>
        <p:nvSpPr>
          <p:cNvPr id="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9A2B8-7EBB-4556-94DC-979009AF3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0" lang="en-US" sz="1200" spc="-1" strike="noStrike">
              <a:solidFill>
                <a:srgbClr val="000000"/>
              </a:solidFill>
              <a:latin typeface="Calibri"/>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E4738-5791-41D4-AEA3-5C867F4F3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2CF75-CDEC-40D7-94F5-A7E06E607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reau of Labor Statistics (BLS) is a good source of general occupational information. Publish the online Occupational Outlook Handbook, which provides descriptions of occupations, as well as vide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ccupational Outlook Quarterly focuses on key industries and occupations and gives more detailed 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eer Guide to Industries provides national level information on key industries—the occupations they employ, general outlook and trends for those industries, etc. </a:t>
            </a:r>
            <a:endParaRPr b="0" lang="en-US" sz="1200" spc="-1" strike="noStrike">
              <a:solidFill>
                <a:srgbClr val="000000"/>
              </a:solidFill>
              <a:latin typeface="Calibri"/>
            </a:endParaRPr>
          </a:p>
        </p:txBody>
      </p:sp>
      <p:sp>
        <p:nvSpPr>
          <p:cNvPr id="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742F7-4EF4-43D2-B0B8-4CC835C3A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 Time Jobs in Demand “spiders” job search sites all over the web and LWD analysts create Top 50 Occupations lists based on these resul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focus reports provide information on NJ’s key indus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ional Focus reports provide information on the employment landscape in NJ’s 3 key reg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ct Labor Market Field Analysts for more detailed information on your reg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ccupation Explorer lets you get some basic info on occupations, along with wage and employment projections by county. </a:t>
            </a:r>
            <a:endParaRPr b="0" lang="en-US" sz="1200" spc="-1" strike="noStrike">
              <a:solidFill>
                <a:srgbClr val="000000"/>
              </a:solidFill>
              <a:latin typeface="Calibri"/>
            </a:endParaRPr>
          </a:p>
        </p:txBody>
      </p:sp>
      <p:sp>
        <p:nvSpPr>
          <p:cNvPr id="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4767A-90F4-42DA-8FAE-E9B75C540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 Time Jobs in Demand “spiders” job search sites all over the web and LWD analysts create Top 50 Occupations lists based on these resul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focus reports provide information on NJ’s key indus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ional Focus reports provide information on the employment landscape in NJ’s 3 key reg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ct Labor Market Field Analysts for more detailed information on your reg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ccupation Explorer lets you get some basic info on occupations, along with wage and employment projections by county. </a:t>
            </a:r>
            <a:endParaRPr b="0" lang="en-US" sz="1200" spc="-1" strike="noStrike">
              <a:solidFill>
                <a:srgbClr val="000000"/>
              </a:solidFill>
              <a:latin typeface="Calibri"/>
            </a:endParaRPr>
          </a:p>
        </p:txBody>
      </p:sp>
      <p:sp>
        <p:nvSpPr>
          <p:cNvPr id="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EE3D5-8894-4B99-A9B2-40BA2C562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ough the Employability Check-up, can look at how well prepared you currently are for specific jobs in specific industries in your geographic area. Answer the questions and it will give you pluses/minuses for your situ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y have to do multiple searches, though, because information is very specific on occupations and industr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8B836-9BC3-45D0-96D8-2326E7916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f Career One Stop—helps people make career transitions—match previous occupations to potential new occupations. </a:t>
            </a:r>
            <a:endParaRPr b="0" lang="en-US" sz="1200" spc="-1" strike="noStrike">
              <a:solidFill>
                <a:srgbClr val="000000"/>
              </a:solidFill>
              <a:latin typeface="Calibri"/>
            </a:endParaRPr>
          </a:p>
        </p:txBody>
      </p:sp>
      <p:sp>
        <p:nvSpPr>
          <p:cNvPr id="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09665-F299-494C-9A22-3A4516B956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arily for students or people who haven’t worked. </a:t>
            </a:r>
            <a:endParaRPr b="0" lang="en-US" sz="1200" spc="-1" strike="noStrike">
              <a:solidFill>
                <a:srgbClr val="000000"/>
              </a:solidFill>
              <a:latin typeface="Calibri"/>
            </a:endParaRPr>
          </a:p>
        </p:txBody>
      </p:sp>
      <p:sp>
        <p:nvSpPr>
          <p:cNvPr id="1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F9BBD-4CB4-45D8-A45F-0334BBB7F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to create list of your skills and then match with potential occup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irly general skill matching, but can be a good place to start for some people, especially those with limited work experience. </a:t>
            </a:r>
            <a:endParaRPr b="0" lang="en-US" sz="1200" spc="-1" strike="noStrike">
              <a:solidFill>
                <a:srgbClr val="000000"/>
              </a:solidFill>
              <a:latin typeface="Calibri"/>
            </a:endParaRPr>
          </a:p>
        </p:txBody>
      </p:sp>
      <p:sp>
        <p:nvSpPr>
          <p:cNvPr id="1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EDC281-E9A9-43FE-A1F6-72386DEAA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to create list of your skills and then match with potential occup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irly general skill matching, but can be a good place to start for some people, especially those with limited work experience. </a:t>
            </a:r>
            <a:endParaRPr b="0" lang="en-US" sz="1200" spc="-1" strike="noStrike">
              <a:solidFill>
                <a:srgbClr val="000000"/>
              </a:solidFill>
              <a:latin typeface="Calibri"/>
            </a:endParaRPr>
          </a:p>
        </p:txBody>
      </p:sp>
      <p:sp>
        <p:nvSpPr>
          <p:cNvPr id="1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BEBC4-E7BB-4171-ACC8-60DB4EAC3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uracy—many LMI resources depend on employers posting job openings, but not all job openings are posted. Increasingly, they are using online job postings, but not all employers post openings onli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meliness—pay attention to how current the LMI data is. Frequently government sources are at least a few months behi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ability—a lot of LMI is confusing to read and understand and not particularly helpful for advising people. Look for resources that make it easier to use LMI. </a:t>
            </a:r>
            <a:endParaRPr b="0" lang="en-US" sz="1200" spc="-1" strike="noStrike">
              <a:solidFill>
                <a:srgbClr val="000000"/>
              </a:solidFill>
              <a:latin typeface="Calibri"/>
            </a:endParaRPr>
          </a:p>
        </p:txBody>
      </p:sp>
      <p:sp>
        <p:nvSpPr>
          <p:cNvPr id="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11E7F-DD3B-4468-A477-2FB3F1D95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we look at the NJ LMI trends, look at general economic and workplace trends that impact career planning and job search. </a:t>
            </a:r>
            <a:endParaRPr b="0" lang="en-US" sz="1200" spc="-1" strike="noStrike">
              <a:solidFill>
                <a:srgbClr val="000000"/>
              </a:solidFill>
              <a:latin typeface="Calibri"/>
            </a:endParaRPr>
          </a:p>
        </p:txBody>
      </p:sp>
      <p:sp>
        <p:nvSpPr>
          <p:cNvPr id="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5FE15-0E01-42FD-9376-476D87A2BA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of these are reducing or eliminating need for workers and/or profoundly changing the nature of jobs. </a:t>
            </a:r>
            <a:endParaRPr b="0" lang="en-US" sz="1200" spc="-1" strike="noStrike">
              <a:solidFill>
                <a:srgbClr val="000000"/>
              </a:solidFill>
              <a:latin typeface="Calibri"/>
            </a:endParaRPr>
          </a:p>
        </p:txBody>
      </p:sp>
      <p:sp>
        <p:nvSpPr>
          <p:cNvPr id="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FF60C-D48E-4264-9FFD-E4E787CD0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McKinsey report: http://www.mckinsey.com/Insights/MGI/Research/Labor_Markets/An_economy_that_works_for_US_job_cre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outsourcing work to contractors; they are hiring people to work part-time or “just-in-time”—as need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riven by technology improvements and costs—especially for healthcare. Employers don’t want full-time, permanent employees because of healthcare costs and also UI benefits. Their rates go up when they have to lay people off and people collect unemployment. Want a more flexible workfo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CC630A-00FC-4D9A-AC5B-2681AC54B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1CE56-DA6E-4C2D-8533-C045C9831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7"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89057-1657-427D-9E18-6A73FE849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46"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47"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2484342-62AB-4F66-8AB2-FE84AA764A1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39F94ED-13CE-4721-A462-935B861D7E2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25441E2-5BFE-47A1-81C5-7E9068468A8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5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52"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53"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D7823B8-8FE3-44A0-84FC-5567AA21A46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55"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5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57"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AEA9277-087D-45F9-BDFF-0605E45A672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5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1"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2C741AC-E5F6-4185-BCF3-22855A759AD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63"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4"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D32FAA1-EC48-462A-9560-BD40B3D951F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66"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7"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8"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9"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0E9E743-E3EA-4932-AD60-F1E2951C3B1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71"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2"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3"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4"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5"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6"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F2A72E7-C1A2-4F4C-B6D3-D8AD9139EAD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C1311D6-4B95-40EE-AE6E-C7BDDB78458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9571A-F77F-44A0-965C-74C100907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84"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C30AEA3-7997-4E51-A6C1-1E2859F14CD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86"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50BD9A9-B7FF-4669-AFC0-9F3F0068D3D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88"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8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2829886-1226-4651-9942-A06B7363207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8883DA3-849C-4F68-BED0-A148BD6E891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12DF0C3-A537-4375-A261-88414223A86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9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3179EA6-D986-49FC-A031-49203003008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97"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9"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1A77B4B-F79B-47AA-9AA7-FBD393E5597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0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3"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A5F46EB-46E6-4B74-B822-03B0DE12A9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05"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6"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91C24C2-8E03-457E-B01F-EA87F4EA320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0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1"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C9F1473-18BE-46A5-A786-4425F0A67A6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5"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8"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4CB1C-0EAB-477A-B3CF-4CBC717AF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13"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4"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5"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6"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7"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8"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79F1AC8-02E0-4A67-8B70-22681D21677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4CE8739-4117-4EF6-8B8D-0C8ECACB37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26"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B61FA0E-2D23-462B-84DE-6BBBF87D77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28"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8801A1D-CD50-491D-9432-1FA71FDFC3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30"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3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BB00B9B-584A-4CAE-AB1E-3F57DBF0BE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5554683-5D14-4824-8E97-0912C411D6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C1C89A1-9D97-4F7A-97E4-ED44413AB0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3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3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3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33B2B24-19B8-4FC4-815F-07BF2311A2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39"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1"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CB9FD97-CF18-435E-A8D1-A25647221A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4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5"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32C2B5E-1841-499C-BE9F-31C8DCF764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CD20A-149A-4D64-BB7B-F4E0B8434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47"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8"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9245D76-1A7D-4D4A-A36C-15E3312C7D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5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1"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3"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301CA7D-DEDC-4AF1-B1BB-BB76F9086A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55"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6"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7"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8"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9"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60"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E7EBE493-41EB-47F9-A052-70228536E9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DA43251-BF01-451C-BEBE-E0B49C2B85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68"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DDE25BB-1D14-4E41-9879-CE640F57AD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70"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6F049CE-8401-4483-B738-13BB791F45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7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73"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06E7280-AB4A-4278-8127-899E3129E9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D0D2731-AB09-405B-8F0A-BFA1297F77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AB28394-640F-4846-9B8D-7F1179CA16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7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78"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79"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5D717F5-EE2F-4DD0-BF1C-B7E9FCFB53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9"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50802-E878-4CCB-979B-8CA718AED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81"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8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83"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F94BAE6-8221-475F-9B86-FC7B41DAD2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8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8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87"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479D174-C8D8-43D8-A0FF-B262235056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89"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0"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DF52EB9-35F8-4105-A093-694BB16FAB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92"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4"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5"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29097D3-E9AF-407E-B65E-487C3DC35B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97"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8"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9"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00"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01"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02"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796D494-14DE-4ECD-AF91-AEFB88A987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F140811-2F9E-4D80-8159-8E0C79319C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0"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459E7AD-D697-4199-8BD7-F6785C1470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2"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046EBBD-5B51-43F9-B5AF-797232F62B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4"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15"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08C1B73-C06C-453D-906C-A8BA6BC926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BDE3B0D-DF55-45CC-A421-1CDDE7BBCF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1263E-7A00-4C7D-886F-7BF388B13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145A047-1616-4A96-AE21-F5FAE8A386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0"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1"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B1E4644-1AB0-4550-91BB-B5C7133C00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23"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5"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FA0AAF9-5BD7-463B-B393-1B62C78F51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2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9"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DED8A17-DEC3-479F-804C-342AFD7F2C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31"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32"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8DF481C-C7AF-4AD3-9A70-F8925839DA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34"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35"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36"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37"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DF7F0B26-E24E-42B5-A27E-100AC19048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39"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0"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1"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2"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3"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4"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653D83E7-7A4E-498E-984E-111318E513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FE7EB37D-8E07-4370-9524-4D78643FD8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52"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1CF74E2-8377-4239-B09D-8D35FFE896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54"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B5BB225-AD19-4687-A89E-748BFD2343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3"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14EAF-444A-45AF-A9DF-6510EA55A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56"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57"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2E0459EA-4ACD-4181-87CD-70E508E14E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9649397-2895-4587-8F2F-056449BEC0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184DE97-CFA3-41D6-82EF-B9E17295DC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6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62"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63"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B2F35E8-76BB-4F80-BB73-87D11EB1D1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65"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6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67"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3493F95-C21A-4326-B72F-70FFB53DA6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6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1"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D046233-AD15-4529-A7E2-F36762BC99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73"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4"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0A193C1-D7CF-4DAF-A149-47561F9E45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76"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7"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8"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9"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0C1FFE9E-F7A8-4398-A12B-4E8AC4F888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81"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2"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3"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4"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5"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6"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2040FAC4-E94C-4641-8FF2-657E7E05A8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F264B264-FEE4-4E71-97CC-18D3A7AF67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36C6C-D301-4DC9-9F51-47F8A1907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94"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E1287D0-E702-47DC-ACBD-C48641A5C0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96"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93795A1-B829-4195-BB10-308B0C9372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98"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9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0BB9628-6591-4A69-8B56-3BBF9F8E21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A74EEB9-D844-4185-BE75-7133BF18B5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6479291-2183-465A-81E2-90F3B1DE55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0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EC777FB-AB6B-4D1E-93C4-5F9184A2AC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07"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9"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395BCCE-530F-4623-9C78-9001BB3BD3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1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1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13"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E469233-8CF1-479B-A23E-52898D41BE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15"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16"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B16BD7A-2875-408B-8044-08B0BCD554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1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1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1"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CB3C11CB-15CA-41F4-B54B-7C31823610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65D46-2F61-4061-994F-56B953EB1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23"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4"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5"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6"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7"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8"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32339291-D736-463C-A505-65B11809DD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45FA5041-964C-404B-A0F2-3222B48B96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36"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33A467F-5D29-470F-9A51-89FCFA483F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38"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6A4EDBD2-C338-4379-8A89-19B2A2558C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40"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4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BD3BFB4-4833-4710-AB41-FD295589A9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7C90E763-C4DE-4DFB-AEF9-74FD4A6E22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05DE42C-D66E-47EB-BEF2-C6070992A3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4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4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4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3B3A346-E175-41E5-8C8F-D071CB94FA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49"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1"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C8EB3C8-C73F-4EF5-AEB3-A25513E51C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5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5"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ED2529E-1BF8-45D1-8D83-2ED4B7034D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438F4-7434-4407-A196-3D083EC14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57"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8"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10AA911-CF51-40A0-A501-6A28E700E9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6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1"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3"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93FD7AD1-2F8E-4203-A934-AF205E6A31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65"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6"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7"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8"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9"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70"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03BBFDE4-9936-4ED7-B8E4-62248DF554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D78D9435-749E-4C9E-97D5-FC63330EB3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78"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AD028CC-9F06-4669-B95A-2F409C53EF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80"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DF87986-AD99-40FE-B519-556BA12B69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8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83"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7079BAD2-0EDD-42A0-ACB2-F4D7EFFB7B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60493E1-13CB-45A0-8911-66F4079CF2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AB71757-2FE9-44FF-9C06-0D5411D3B4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8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88"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89"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ECFB480-EB4F-4097-9175-E88C84075C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F5324-6271-4503-9A22-B721EF1AE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4"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56909-0AA2-4059-B585-F00C07070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91"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9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93"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BAE8D52-8B5F-4C44-8112-8F712B4021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9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9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97"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1CEEC2D-C1DF-42CB-8E3E-8E9EEF8CF7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99"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0"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4567C70-3D89-4E1B-9AA9-F4D68D4084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02"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4"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5"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913E801F-0586-4E8C-AFA2-18EC102F9B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07"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8"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9"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10"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11"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12"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048965F2-EB2B-4D9F-AC3D-038600ACB6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A283B5E3-7453-44E6-9E5F-410488239806}"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20"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009D39A4-76F4-4D59-8AF7-08434D87419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22"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AF59A68-342E-4FC5-BF03-6EB0515C3F5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24"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25"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5C5766F-45BA-4C0C-A6CF-45E79E623DE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22013C0-DBF6-4B3D-BF95-0E1736FB817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6"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7"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8"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74F84-9F96-4AD2-91D6-4A95D9007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4E9D7678-07D6-4378-9DB7-40AA5A6CF7E0}"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2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0"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1"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C3C9416-37F7-481A-B357-A05344A1453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33"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5"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05A8D27-7FAF-42EB-A4D9-1259B180240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3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9"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CF88B44-4372-447D-A7D1-B07CAA326C5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41"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2"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1C0E8E5D-8CEE-49AF-B5EC-8A20F8FA31A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44"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5"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6"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7"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C76034D0-06F1-454C-A932-D961E449FA44}"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49"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0"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1"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2"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3"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4"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7038BFE6-28F7-4A3F-97F4-88667814FDE8}"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76EA1EA7-92AD-49C2-BF82-549869136485}"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62"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D4FA3A9C-83D9-4C0D-90CE-20E8357F32C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64"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95319376-5793-49B9-8AA5-F0A901D771E1}"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0"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1"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D7A87-BD06-4176-BC69-AA59FA119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66"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67"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EDCB9FBF-25C4-44A3-8FE3-1DF0CE84A51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15EC3A77-D783-4763-B155-07EFA8313DEA}"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B9364FA-BFBD-4068-9BA8-D7EE71D010B4}"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7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72"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73"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4296C00-7423-4849-8334-3057450D3C3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75"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7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77"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84CE04A-8ECA-439A-955E-EA351D9F493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7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1"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0F82E69D-C369-4D3B-A8E4-4BF298F6799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83"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4"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E14B538E-7A39-4A32-822D-B46FFD5FF6A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86"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7"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8"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9"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613C1123-6A44-404A-A23E-E2166EF29E98}"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91"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2"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3"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4"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5"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6"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CF5485DA-6C27-4E24-BD75-C83295877539}"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1428805C-EEC0-4513-9F6D-6C265E3C4F87}"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6"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C78C7-972D-440C-8D8C-CAACC36B1A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04"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8D27500-01E9-4B78-978E-412C5056F29D}"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06"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ED3F5AA-A2EE-484E-99EE-B03D53C76FDC}"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08"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0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71FAFA0-4037-46EA-8080-194D6304F15C}"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8A2A470C-3B6C-415D-B36D-C643E6745046}"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B5C9B010-3F36-4B57-8849-43D548464999}"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1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2A72E41-324F-48A9-B611-5344EB2188C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17"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9"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244F6561-B7AB-4E90-B260-ABC5D284ED9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2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3"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FA76C11-485A-4318-AECF-88F71DA3382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25"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6"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CA1815D2-9E4B-49C0-AC37-EC47DEECA5E6}"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2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1"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F046FDD6-AD15-4C5B-BB0A-5451EADA4BE2}"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8"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0"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C5354-A436-4CBE-8973-F6021B4C3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33"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4"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5"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6"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7"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8"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185E2972-C8B7-4530-A126-F87C86E8047C}"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6D8622-777D-4EE6-8C8F-76CD93AA87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91"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7FFA68-FDA5-4AA9-8F7C-BE22134F70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93"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65254B-7BC9-41C7-97A1-C03DD77259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95"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481872-3A23-4F9B-8044-4F23BD5157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16546D-12CB-4EE6-9455-EB7120ACA7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22FF8-EF85-454E-A1B2-34756C23A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5CC3C6-B253-4521-B60F-67E26719B6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0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E4289-A226-4497-8039-C96D1CE64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04"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5"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6"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C85486-2901-4137-A64E-CE6CBB7B7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0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0"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3A35CD-2EBC-483E-AC89-D6A19DDED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12"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3"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F257D0-0DED-4BE1-ACB8-2351A7A062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1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8"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494EB3-A0F0-4CD3-9551-B94386C8C6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20"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1"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2"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3"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4"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5"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55E68A-13FD-4B37-8D54-7E31B9FF1C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528647-2DAB-4A97-8736-0823165773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34"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43B0C2-BA8A-4535-ABFF-054872A55A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36"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DC8C9C-5A8D-4719-B4C8-C74DAEA316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0"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DE761-E8E1-4BB5-A719-42B6BC882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38"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3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4C3E85-C84C-42D2-A9F5-ADF595C674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1320A6-6FBB-48B3-8549-63253A1FF4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AC1880-85BC-4306-8A3D-6F72C04B6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4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4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4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69F16-CF13-455F-AF3C-6952D8048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47"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4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49"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2C720-1D03-41C7-BBA6-1BAC1A705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5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5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53"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3A7461-86B9-4AE9-991A-E0919E5A4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55"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56"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F60FD5-3C79-4EDE-AF5D-57977CD4DC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5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5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1"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EA3F06-7A84-413B-9E23-AFD86804EB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63"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4"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5"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6"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7"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8"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C25B0E-4B8A-4C60-BD9D-B380052279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4518A6-E37A-40DA-9479-4EA55B25E6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FBCB6-8616-401C-9501-AF32CC317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76"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FE0EF8-C2E6-4DBA-B607-3C7F2F183D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78"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62E57A-2173-4995-9708-9CD3F2BEA9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80"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8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8005FE-075B-4E7C-B0F3-587AC1A920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3CA23A-0EFB-4B50-9E6D-7EDE50CA37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F97566-8925-4692-8377-340717EAD9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8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8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8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FF5023-A869-4C94-9096-173307DF22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89"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1"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087C93-ED16-4AE2-A0F0-D81E88831B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9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5"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9609B9-3A4F-4626-820B-1216ABDF24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97"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8"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C8A90A-FE13-433E-BFD9-60B4DFAE14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0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1"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3"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743116-7FF5-4744-AF35-40DB8013F4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14E93-2F1A-4729-9C47-20EE7521E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05"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6"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7"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8"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9"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10"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B1497C-4852-4F78-98B6-DD01CCEBCD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6EC756-206F-482B-992A-504CCA514E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18"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7470E4-5103-4F78-9FC4-476E6E73CF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20"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587B5C-91E9-4661-A07F-691126D914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2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23"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ADE9D0-AB28-44DD-892E-38C5D02F6F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1CB878-1C85-40C7-A3C8-B913FE6B4C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95CD06-0263-4EA1-9DE8-5B7EEDACD8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2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28"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29"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87AF40-916C-44BA-AA88-AA78450FE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31"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3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33"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72B3CC-484C-45EE-8E04-38CC93DA41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3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3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37"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982E22-6F66-4F8A-BB2B-F8D78F6D84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FFAEF-027C-4DB1-90E8-5EBB3BDBA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39"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0"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938B6D-6C8D-4B29-A943-BFC311C443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42"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4"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5"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5A389D-2278-463F-8C9C-A5447E39AF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47"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8"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9"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50"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51"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52"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49A7CE-6FF9-4768-978C-A7BD118767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20C096B-0A53-4AA3-8975-06D1012B72F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58"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sldNum" idx="19"/>
          </p:nvPr>
        </p:nvSpPr>
        <p:spPr/>
        <p:txBody>
          <a:bodyPr/>
          <a:p>
            <a:fld id="{78D5B29C-0614-4943-90E8-5A3BF5353BE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60"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sldNum" idx="19"/>
          </p:nvPr>
        </p:nvSpPr>
        <p:spPr/>
        <p:txBody>
          <a:bodyPr/>
          <a:p>
            <a:fld id="{A4023121-1E4E-4153-8A53-5277E384893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6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63"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sldNum" idx="19"/>
          </p:nvPr>
        </p:nvSpPr>
        <p:spPr/>
        <p:txBody>
          <a:bodyPr/>
          <a:p>
            <a:fld id="{5C7B3B28-D090-4EC3-8AF9-C674B92ABEE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sldNum" idx="19"/>
          </p:nvPr>
        </p:nvSpPr>
        <p:spPr/>
        <p:txBody>
          <a:bodyPr/>
          <a:p>
            <a:fld id="{ADC6B639-1213-4F67-A438-F8A7EEC6DC9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sldNum" idx="19"/>
          </p:nvPr>
        </p:nvSpPr>
        <p:spPr/>
        <p:txBody>
          <a:bodyPr/>
          <a:p>
            <a:fld id="{93018B70-C7DD-44B9-9D97-AA4A565917F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6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68"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69"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sldNum" idx="19"/>
          </p:nvPr>
        </p:nvSpPr>
        <p:spPr/>
        <p:txBody>
          <a:bodyPr/>
          <a:p>
            <a:fld id="{F122A524-27FF-4E36-8FAD-DA07AC0B76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9"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1"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E1A88-C787-4523-9805-D2F6014D5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71"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7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73"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sldNum" idx="19"/>
          </p:nvPr>
        </p:nvSpPr>
        <p:spPr/>
        <p:txBody>
          <a:bodyPr/>
          <a:p>
            <a:fld id="{BBE71AF8-0822-4E4E-A1AF-BB7498359DF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7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7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77"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sldNum" idx="19"/>
          </p:nvPr>
        </p:nvSpPr>
        <p:spPr/>
        <p:txBody>
          <a:bodyPr/>
          <a:p>
            <a:fld id="{0BC78C9F-A859-43FD-9DA0-64702B04390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79"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0"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sldNum" idx="19"/>
          </p:nvPr>
        </p:nvSpPr>
        <p:spPr/>
        <p:txBody>
          <a:bodyPr/>
          <a:p>
            <a:fld id="{CA8BDA1B-4FC8-42CB-A579-DD3C09FBDC3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82"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4"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5"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sldNum" idx="19"/>
          </p:nvPr>
        </p:nvSpPr>
        <p:spPr/>
        <p:txBody>
          <a:bodyPr/>
          <a:p>
            <a:fld id="{BC20A694-34F1-4E4B-B634-04FBE3935C5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87"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8"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9"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90"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91"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92"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sldNum" idx="19"/>
          </p:nvPr>
        </p:nvSpPr>
        <p:spPr/>
        <p:txBody>
          <a:bodyPr/>
          <a:p>
            <a:fld id="{3F1E4E05-2F88-4A68-A151-553968170FE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6053F66-5288-4EC1-870B-971C3494F2A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0"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330A099-F972-4CB0-899C-CFF7EA38C4A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2"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B24609E-E2F2-47F4-9993-968B79D3DD0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4"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05"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055C676-AE3E-4CBC-B963-0CA37D90BB9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93D6CB8-90D7-4FCD-AF50-D88F2A8D884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5"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0C0CF-2727-4F7F-9179-578E27372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DAF6121-CC4A-4365-8361-4DD48A14745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0"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1"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FDC0700-648F-445B-9F8E-17BCFB2147B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13"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5"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DC5000C-FBD2-4834-ADF1-B3413C68F65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1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9"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A05862F-159E-4289-B4B1-2A193B2F0DD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21"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2"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54FDF66-4EFB-4F40-A8AA-80FC452B5D1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24"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5"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6"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7"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37AC382-EED3-4757-A60F-935D616FC5E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29"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0"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1"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2"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3"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4"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709A1AB-6689-4014-B9BA-89603D254B5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45A1204-D05C-443A-A88D-A676AA25378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42"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0766A7F-B822-4BF2-984B-54BB67E6C5F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44"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6567F0A-7ACC-4C6F-AB34-95C8C842456B}"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1"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2" name="PlaceHolder 3"/>
          <p:cNvSpPr>
            <a:spLocks noGrp="1"/>
          </p:cNvSpPr>
          <p:nvPr>
            <p:ph type="dt" idx="1"/>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7EC42-6E7E-4297-BFB4-D9C0E9667A8A}"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E3EDE2-9E50-4905-9BA5-D697A1F4E778}"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379"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380" name="PlaceHolder 3"/>
          <p:cNvSpPr>
            <a:spLocks noGrp="1"/>
          </p:cNvSpPr>
          <p:nvPr>
            <p:ph type="dt" idx="26"/>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C1B8F-507C-4021-B91A-CD72BC8B2A62}"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381" name="PlaceHolder 4"/>
          <p:cNvSpPr>
            <a:spLocks noGrp="1"/>
          </p:cNvSpPr>
          <p:nvPr>
            <p:ph type="ftr" idx="27"/>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2" name="PlaceHolder 5"/>
          <p:cNvSpPr>
            <a:spLocks noGrp="1"/>
          </p:cNvSpPr>
          <p:nvPr>
            <p:ph type="sldNum" idx="28"/>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363AA-A1BC-46A5-ACD0-ED823BE037EE}"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421"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422" name="PlaceHolder 3"/>
          <p:cNvSpPr>
            <a:spLocks noGrp="1"/>
          </p:cNvSpPr>
          <p:nvPr>
            <p:ph type="dt" idx="29"/>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5DD32-BB8C-4996-B5BD-494081759901}"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423" name="PlaceHolder 4"/>
          <p:cNvSpPr>
            <a:spLocks noGrp="1"/>
          </p:cNvSpPr>
          <p:nvPr>
            <p:ph type="ftr" idx="30"/>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4" name="PlaceHolder 5"/>
          <p:cNvSpPr>
            <a:spLocks noGrp="1"/>
          </p:cNvSpPr>
          <p:nvPr>
            <p:ph type="sldNum" idx="31"/>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3ECF7-3246-4697-A15D-DFCB6F2617D8}"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463"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464" name="PlaceHolder 3"/>
          <p:cNvSpPr>
            <a:spLocks noGrp="1"/>
          </p:cNvSpPr>
          <p:nvPr>
            <p:ph type="dt" idx="32"/>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0DAD0-3677-4C60-B66D-DAC29326C3DE}"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465" name="PlaceHolder 4"/>
          <p:cNvSpPr>
            <a:spLocks noGrp="1"/>
          </p:cNvSpPr>
          <p:nvPr>
            <p:ph type="ftr" idx="33"/>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6" name="PlaceHolder 5"/>
          <p:cNvSpPr>
            <a:spLocks noGrp="1"/>
          </p:cNvSpPr>
          <p:nvPr>
            <p:ph type="sldNum" idx="34"/>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B1BCE-2CFF-4FA2-9D84-B711D6EDEA5D}"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505"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506" name="PlaceHolder 3"/>
          <p:cNvSpPr>
            <a:spLocks noGrp="1"/>
          </p:cNvSpPr>
          <p:nvPr>
            <p:ph type="dt" idx="35"/>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ABD95F-9F42-4E89-9B39-87706D9B1949}"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507" name="PlaceHolder 4"/>
          <p:cNvSpPr>
            <a:spLocks noGrp="1"/>
          </p:cNvSpPr>
          <p:nvPr>
            <p:ph type="ftr" idx="36"/>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8" name="PlaceHolder 5"/>
          <p:cNvSpPr>
            <a:spLocks noGrp="1"/>
          </p:cNvSpPr>
          <p:nvPr>
            <p:ph type="sldNum" idx="37"/>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57902-D4E7-4F19-BEB4-7CE96AB9E1DD}"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6"/>
          <p:cNvSpPr/>
          <p:nvPr/>
        </p:nvSpPr>
        <p:spPr>
          <a:xfrm>
            <a:off x="8148600" y="268200"/>
            <a:ext cx="719280" cy="567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547"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548" name="PlaceHolder 3"/>
          <p:cNvSpPr>
            <a:spLocks noGrp="1"/>
          </p:cNvSpPr>
          <p:nvPr>
            <p:ph type="dt" idx="38"/>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A39EA3-EBE5-499E-8866-5B37FBFEAF4A}"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549" name="PlaceHolder 4"/>
          <p:cNvSpPr>
            <a:spLocks noGrp="1"/>
          </p:cNvSpPr>
          <p:nvPr>
            <p:ph type="ftr" idx="39"/>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0" name="PlaceHolder 5"/>
          <p:cNvSpPr>
            <a:spLocks noGrp="1"/>
          </p:cNvSpPr>
          <p:nvPr>
            <p:ph type="sldNum" idx="40"/>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7F773-3124-4A0D-98BF-BCFEB326F48C}"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6"/>
          <p:cNvSpPr/>
          <p:nvPr/>
        </p:nvSpPr>
        <p:spPr>
          <a:xfrm>
            <a:off x="8148600" y="268200"/>
            <a:ext cx="719280" cy="567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589"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590" name="PlaceHolder 3"/>
          <p:cNvSpPr>
            <a:spLocks noGrp="1"/>
          </p:cNvSpPr>
          <p:nvPr>
            <p:ph type="dt" idx="41"/>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81DB9-32FA-412A-AA20-AA653AFD97C2}"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591" name="PlaceHolder 4"/>
          <p:cNvSpPr>
            <a:spLocks noGrp="1"/>
          </p:cNvSpPr>
          <p:nvPr>
            <p:ph type="ftr" idx="42"/>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2" name="PlaceHolder 5"/>
          <p:cNvSpPr>
            <a:spLocks noGrp="1"/>
          </p:cNvSpPr>
          <p:nvPr>
            <p:ph type="sldNum" idx="43"/>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B68AB6-5FB0-4BB6-94BB-FC9595408D23}"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6"/>
          <p:cNvSpPr/>
          <p:nvPr/>
        </p:nvSpPr>
        <p:spPr>
          <a:xfrm>
            <a:off x="4746600" y="268200"/>
            <a:ext cx="4114800" cy="567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631"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632" name="PlaceHolder 3"/>
          <p:cNvSpPr>
            <a:spLocks noGrp="1"/>
          </p:cNvSpPr>
          <p:nvPr>
            <p:ph type="dt" idx="44"/>
          </p:nvPr>
        </p:nvSpPr>
        <p:spPr>
          <a:xfrm>
            <a:off x="162000" y="6124680"/>
            <a:ext cx="1752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0DC5F-99AD-4FDC-A21B-EFB0558B663A}"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633" name="PlaceHolder 4"/>
          <p:cNvSpPr>
            <a:spLocks noGrp="1"/>
          </p:cNvSpPr>
          <p:nvPr>
            <p:ph type="ftr" idx="45"/>
          </p:nvPr>
        </p:nvSpPr>
        <p:spPr>
          <a:xfrm>
            <a:off x="174240" y="6356520"/>
            <a:ext cx="3863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4" name="PlaceHolder 5"/>
          <p:cNvSpPr>
            <a:spLocks noGrp="1"/>
          </p:cNvSpPr>
          <p:nvPr>
            <p:ph type="sldNum" idx="46"/>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B66AD-6FAB-4BCA-8C2F-8CA82CE0E08D}"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Rectangle 6"/>
          <p:cNvSpPr/>
          <p:nvPr/>
        </p:nvSpPr>
        <p:spPr>
          <a:xfrm>
            <a:off x="7216920" y="268200"/>
            <a:ext cx="1639800" cy="3638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673"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674" name="PlaceHolder 3"/>
          <p:cNvSpPr>
            <a:spLocks noGrp="1"/>
          </p:cNvSpPr>
          <p:nvPr>
            <p:ph type="dt" idx="47"/>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C5A98-7BA2-4D07-9087-C3081B80977C}"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675" name="PlaceHolder 4"/>
          <p:cNvSpPr>
            <a:spLocks noGrp="1"/>
          </p:cNvSpPr>
          <p:nvPr>
            <p:ph type="ftr" idx="48"/>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6" name="PlaceHolder 5"/>
          <p:cNvSpPr>
            <a:spLocks noGrp="1"/>
          </p:cNvSpPr>
          <p:nvPr>
            <p:ph type="sldNum" idx="49"/>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DB68C-242B-4B90-8434-DF9028D989A5}"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6"/>
          <p:cNvSpPr/>
          <p:nvPr/>
        </p:nvSpPr>
        <p:spPr>
          <a:xfrm>
            <a:off x="8136000" y="268200"/>
            <a:ext cx="720720" cy="3638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715"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716" name="PlaceHolder 3"/>
          <p:cNvSpPr>
            <a:spLocks noGrp="1"/>
          </p:cNvSpPr>
          <p:nvPr>
            <p:ph type="dt" idx="50"/>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6173CD-351A-4834-8B57-4E529E236B8F}"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717" name="PlaceHolder 4"/>
          <p:cNvSpPr>
            <a:spLocks noGrp="1"/>
          </p:cNvSpPr>
          <p:nvPr>
            <p:ph type="ftr" idx="51"/>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8" name="PlaceHolder 5"/>
          <p:cNvSpPr>
            <a:spLocks noGrp="1"/>
          </p:cNvSpPr>
          <p:nvPr>
            <p:ph type="sldNum" idx="52"/>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428C8-95D2-4FD5-8CC4-37E08228380B}"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Rectangle 6"/>
          <p:cNvSpPr/>
          <p:nvPr/>
        </p:nvSpPr>
        <p:spPr>
          <a:xfrm>
            <a:off x="7211880" y="268200"/>
            <a:ext cx="1646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757"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758" name="PlaceHolder 3"/>
          <p:cNvSpPr>
            <a:spLocks noGrp="1"/>
          </p:cNvSpPr>
          <p:nvPr>
            <p:ph type="dt" idx="53"/>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568C7-4C22-412C-9C4D-49AACABFE931}"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759" name="PlaceHolder 4"/>
          <p:cNvSpPr>
            <a:spLocks noGrp="1"/>
          </p:cNvSpPr>
          <p:nvPr>
            <p:ph type="ftr" idx="54"/>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0" name="PlaceHolder 5"/>
          <p:cNvSpPr>
            <a:spLocks noGrp="1"/>
          </p:cNvSpPr>
          <p:nvPr>
            <p:ph type="sldNum" idx="55"/>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C453C0-C1DA-4A85-947F-D53782188DB8}"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3187800" y="268200"/>
            <a:ext cx="5668920" cy="39006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 name="Rectangle 7"/>
          <p:cNvSpPr/>
          <p:nvPr/>
        </p:nvSpPr>
        <p:spPr>
          <a:xfrm>
            <a:off x="268200" y="268200"/>
            <a:ext cx="184320" cy="38862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44"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45" name="PlaceHolder 3"/>
          <p:cNvSpPr>
            <a:spLocks noGrp="1"/>
          </p:cNvSpPr>
          <p:nvPr>
            <p:ph type="dt" idx="4"/>
          </p:nvPr>
        </p:nvSpPr>
        <p:spPr>
          <a:xfrm>
            <a:off x="3276360" y="390600"/>
            <a:ext cx="5505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D221AA-F21F-4497-A5F0-78472798FA90}" type="datetime">
              <a:rPr b="0" lang="en-US" sz="2200" spc="-1" strike="noStrike">
                <a:solidFill>
                  <a:srgbClr val="ffffff"/>
                </a:solidFill>
                <a:latin typeface="Century Gothic"/>
              </a:rPr>
              <a:t>07/31/26</a:t>
            </a:fld>
            <a:endParaRPr b="0" lang="en-US" sz="2200" spc="-1" strike="noStrike">
              <a:solidFill>
                <a:srgbClr val="000000"/>
              </a:solidFill>
              <a:latin typeface="Times New Roman"/>
            </a:endParaRPr>
          </a:p>
        </p:txBody>
      </p:sp>
      <p:sp>
        <p:nvSpPr>
          <p:cNvPr id="46" name="PlaceHolder 4"/>
          <p:cNvSpPr>
            <a:spLocks noGrp="1"/>
          </p:cNvSpPr>
          <p:nvPr>
            <p:ph type="ftr" idx="5"/>
          </p:nvPr>
        </p:nvSpPr>
        <p:spPr>
          <a:xfrm>
            <a:off x="3219480" y="6356520"/>
            <a:ext cx="4735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82562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318660-81BC-4AB9-A112-8570E83CC05E}" type="slidenum">
              <a:rPr b="1" lang="en-US" sz="1100" spc="-1" strike="noStrike">
                <a:solidFill>
                  <a:srgbClr val="858585"/>
                </a:solidFill>
                <a:latin typeface="Century Gothic"/>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6"/>
          <p:cNvSpPr/>
          <p:nvPr/>
        </p:nvSpPr>
        <p:spPr>
          <a:xfrm>
            <a:off x="8148600" y="268200"/>
            <a:ext cx="719280" cy="567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799"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800" name="PlaceHolder 3"/>
          <p:cNvSpPr>
            <a:spLocks noGrp="1"/>
          </p:cNvSpPr>
          <p:nvPr>
            <p:ph type="dt" idx="56"/>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5EB52C-67C4-4058-9811-1197FAB23E6F}"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801" name="PlaceHolder 4"/>
          <p:cNvSpPr>
            <a:spLocks noGrp="1"/>
          </p:cNvSpPr>
          <p:nvPr>
            <p:ph type="ftr" idx="57"/>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2" name="PlaceHolder 5"/>
          <p:cNvSpPr>
            <a:spLocks noGrp="1"/>
          </p:cNvSpPr>
          <p:nvPr>
            <p:ph type="sldNum" idx="58"/>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646E2-09F2-4BF6-9CB9-DE3072D36A33}"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7211880" y="268200"/>
            <a:ext cx="1646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86"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87" name="PlaceHolder 3"/>
          <p:cNvSpPr>
            <a:spLocks noGrp="1"/>
          </p:cNvSpPr>
          <p:nvPr>
            <p:ph type="dt" idx="7"/>
          </p:nvPr>
        </p:nvSpPr>
        <p:spPr>
          <a:xfrm>
            <a:off x="7211520" y="6356520"/>
            <a:ext cx="175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B19DF-EBE9-4045-B182-4F1D7CF800EF}"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88" name="PlaceHolder 4"/>
          <p:cNvSpPr>
            <a:spLocks noGrp="1"/>
          </p:cNvSpPr>
          <p:nvPr>
            <p:ph type="ftr" idx="8"/>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5"/>
          <p:cNvSpPr>
            <a:spLocks noGrp="1"/>
          </p:cNvSpPr>
          <p:nvPr>
            <p:ph type="sldNum" idx="9"/>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5AD33-8555-45A5-B2B3-7252D50B0EA9}"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6"/>
          <p:cNvSpPr/>
          <p:nvPr/>
        </p:nvSpPr>
        <p:spPr>
          <a:xfrm>
            <a:off x="3187800" y="268200"/>
            <a:ext cx="5668920" cy="25606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Rectangle 7"/>
          <p:cNvSpPr/>
          <p:nvPr/>
        </p:nvSpPr>
        <p:spPr>
          <a:xfrm>
            <a:off x="268200" y="268200"/>
            <a:ext cx="184320" cy="38862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129"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130" name="PlaceHolder 3"/>
          <p:cNvSpPr>
            <a:spLocks noGrp="1"/>
          </p:cNvSpPr>
          <p:nvPr>
            <p:ph type="dt" idx="10"/>
          </p:nvPr>
        </p:nvSpPr>
        <p:spPr>
          <a:xfrm>
            <a:off x="3276360" y="390600"/>
            <a:ext cx="5499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3A50C7-C08B-4E50-849B-F3E23FEC7B5A}" type="datetime">
              <a:rPr b="0" lang="en-US" sz="2200" spc="-1" strike="noStrike">
                <a:solidFill>
                  <a:srgbClr val="ffffff"/>
                </a:solidFill>
                <a:latin typeface="Century Gothic"/>
              </a:rPr>
              <a:t>07/31/26</a:t>
            </a:fld>
            <a:endParaRPr b="0" lang="en-US" sz="2200" spc="-1" strike="noStrike">
              <a:solidFill>
                <a:srgbClr val="000000"/>
              </a:solidFill>
              <a:latin typeface="Times New Roman"/>
            </a:endParaRPr>
          </a:p>
        </p:txBody>
      </p:sp>
      <p:sp>
        <p:nvSpPr>
          <p:cNvPr id="131" name="PlaceHolder 4"/>
          <p:cNvSpPr>
            <a:spLocks noGrp="1"/>
          </p:cNvSpPr>
          <p:nvPr>
            <p:ph type="ftr" idx="11"/>
          </p:nvPr>
        </p:nvSpPr>
        <p:spPr>
          <a:xfrm>
            <a:off x="3213000" y="6356520"/>
            <a:ext cx="4735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2" name="PlaceHolder 5"/>
          <p:cNvSpPr>
            <a:spLocks noGrp="1"/>
          </p:cNvSpPr>
          <p:nvPr>
            <p:ph type="sldNum" idx="12"/>
          </p:nvPr>
        </p:nvSpPr>
        <p:spPr>
          <a:xfrm>
            <a:off x="826560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FC998-275C-4894-895C-E00345A773E9}" type="slidenum">
              <a:rPr b="1" lang="en-US" sz="1100" spc="-1" strike="noStrike">
                <a:solidFill>
                  <a:srgbClr val="858585"/>
                </a:solidFill>
                <a:latin typeface="Century Gothic"/>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6"/>
          <p:cNvSpPr/>
          <p:nvPr/>
        </p:nvSpPr>
        <p:spPr>
          <a:xfrm>
            <a:off x="270000" y="268200"/>
            <a:ext cx="1646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171"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172" name="PlaceHolder 3"/>
          <p:cNvSpPr>
            <a:spLocks noGrp="1"/>
          </p:cNvSpPr>
          <p:nvPr>
            <p:ph type="dt" idx="13"/>
          </p:nvPr>
        </p:nvSpPr>
        <p:spPr>
          <a:xfrm>
            <a:off x="7211520" y="6356520"/>
            <a:ext cx="175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F01392-3A5A-42BA-9D9F-BC2179285F93}"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173" name="PlaceHolder 4"/>
          <p:cNvSpPr>
            <a:spLocks noGrp="1"/>
          </p:cNvSpPr>
          <p:nvPr>
            <p:ph type="ftr" idx="14"/>
          </p:nvPr>
        </p:nvSpPr>
        <p:spPr>
          <a:xfrm>
            <a:off x="2178000" y="6356520"/>
            <a:ext cx="4927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PlaceHolder 5"/>
          <p:cNvSpPr>
            <a:spLocks noGrp="1"/>
          </p:cNvSpPr>
          <p:nvPr>
            <p:ph type="sldNum" idx="15"/>
          </p:nvPr>
        </p:nvSpPr>
        <p:spPr>
          <a:xfrm>
            <a:off x="331920" y="360360"/>
            <a:ext cx="506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B2F53-2B9D-4FC4-8DF5-EED9F9B7F79A}"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6"/>
          <p:cNvSpPr/>
          <p:nvPr/>
        </p:nvSpPr>
        <p:spPr>
          <a:xfrm>
            <a:off x="7759800" y="268200"/>
            <a:ext cx="1098360" cy="63500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213"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214" name="PlaceHolder 3"/>
          <p:cNvSpPr>
            <a:spLocks noGrp="1"/>
          </p:cNvSpPr>
          <p:nvPr>
            <p:ph type="dt" idx="16"/>
          </p:nvPr>
        </p:nvSpPr>
        <p:spPr>
          <a:xfrm>
            <a:off x="5562720" y="6356520"/>
            <a:ext cx="1622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C6CBC-5B0D-47C0-8F0F-10A45348E3F0}"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215" name="PlaceHolder 4"/>
          <p:cNvSpPr>
            <a:spLocks noGrp="1"/>
          </p:cNvSpPr>
          <p:nvPr>
            <p:ph type="ftr" idx="17"/>
          </p:nvPr>
        </p:nvSpPr>
        <p:spPr>
          <a:xfrm>
            <a:off x="174240" y="6356520"/>
            <a:ext cx="5311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PlaceHolder 5"/>
          <p:cNvSpPr>
            <a:spLocks noGrp="1"/>
          </p:cNvSpPr>
          <p:nvPr>
            <p:ph type="sldNum" idx="18"/>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78BA6-9537-4125-B45A-C4428BEC573E}"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6"/>
          <p:cNvSpPr/>
          <p:nvPr/>
        </p:nvSpPr>
        <p:spPr>
          <a:xfrm>
            <a:off x="270000" y="4773600"/>
            <a:ext cx="2971800" cy="18446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255"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256" name="PlaceHolder 3"/>
          <p:cNvSpPr>
            <a:spLocks noGrp="1"/>
          </p:cNvSpPr>
          <p:nvPr>
            <p:ph type="sldNum" idx="19"/>
          </p:nvPr>
        </p:nvSpPr>
        <p:spPr>
          <a:xfrm>
            <a:off x="351000" y="6105600"/>
            <a:ext cx="506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079A09-A6B2-497B-97A5-090B622AD990}"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295"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296" name="PlaceHolder 3"/>
          <p:cNvSpPr>
            <a:spLocks noGrp="1"/>
          </p:cNvSpPr>
          <p:nvPr>
            <p:ph type="dt" idx="20"/>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FC2165-4604-43CC-8F78-300A8B7423FF}"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297" name="PlaceHolder 4"/>
          <p:cNvSpPr>
            <a:spLocks noGrp="1"/>
          </p:cNvSpPr>
          <p:nvPr>
            <p:ph type="ftr" idx="21"/>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8" name="PlaceHolder 5"/>
          <p:cNvSpPr>
            <a:spLocks noGrp="1"/>
          </p:cNvSpPr>
          <p:nvPr>
            <p:ph type="sldNum" idx="22"/>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64CB8-88BF-439C-B88C-5B755B4364B1}"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337"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338" name="PlaceHolder 3"/>
          <p:cNvSpPr>
            <a:spLocks noGrp="1"/>
          </p:cNvSpPr>
          <p:nvPr>
            <p:ph type="dt" idx="23"/>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51C850-5866-4C78-A014-95810D9CF225}" type="datetime">
              <a:rPr b="1" lang="en-US" sz="1100" spc="-1" strike="noStrike">
                <a:solidFill>
                  <a:srgbClr val="858585"/>
                </a:solidFill>
                <a:latin typeface="Century Gothic"/>
              </a:rPr>
              <a:t>07/31/26</a:t>
            </a:fld>
            <a:endParaRPr b="0" lang="en-US" sz="1100" spc="-1" strike="noStrike">
              <a:solidFill>
                <a:srgbClr val="000000"/>
              </a:solidFill>
              <a:latin typeface="Times New Roman"/>
            </a:endParaRPr>
          </a:p>
        </p:txBody>
      </p:sp>
      <p:sp>
        <p:nvSpPr>
          <p:cNvPr id="339" name="PlaceHolder 4"/>
          <p:cNvSpPr>
            <a:spLocks noGrp="1"/>
          </p:cNvSpPr>
          <p:nvPr>
            <p:ph type="ftr" idx="24"/>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0" name="PlaceHolder 5"/>
          <p:cNvSpPr>
            <a:spLocks noGrp="1"/>
          </p:cNvSpPr>
          <p:nvPr>
            <p:ph type="sldNum" idx="25"/>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81436-E928-43DB-BDC8-8855F4D1AC45}"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hyperlink" Target="http://lwd.dol.state.nj.us/labor/lwdhome/content/TalentNetworkNJ_Index.html" TargetMode="External"/><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2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200040" y="4172040"/>
            <a:ext cx="5457960" cy="108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990000"/>
                </a:solidFill>
                <a:latin typeface="Century Gothic"/>
              </a:rPr>
              <a:t>Introduction to Labor Market Information (LMI)</a:t>
            </a:r>
            <a:endParaRPr b="0" lang="en-US" sz="4100" spc="-1" strike="noStrike">
              <a:solidFill>
                <a:srgbClr val="990000"/>
              </a:solidFill>
              <a:latin typeface="Century Gothic"/>
            </a:endParaRPr>
          </a:p>
        </p:txBody>
      </p:sp>
      <p:sp>
        <p:nvSpPr>
          <p:cNvPr id="847" name="PlaceHolder 2"/>
          <p:cNvSpPr>
            <a:spLocks noGrp="1"/>
          </p:cNvSpPr>
          <p:nvPr>
            <p:ph type="subTitle"/>
          </p:nvPr>
        </p:nvSpPr>
        <p:spPr>
          <a:xfrm>
            <a:off x="3200040" y="5257800"/>
            <a:ext cx="545796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Century Gothic"/>
              </a:rPr>
              <a:t>Trends, Tools and Resources</a:t>
            </a:r>
            <a:endParaRPr b="0" lang="en-US" sz="16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3" name="Picture 5" descr="Picture 37.png"/>
          <p:cNvPicPr/>
          <p:nvPr/>
        </p:nvPicPr>
        <p:blipFill>
          <a:blip r:embed="rId1"/>
          <a:stretch/>
        </p:blipFill>
        <p:spPr>
          <a:xfrm>
            <a:off x="1311120" y="0"/>
            <a:ext cx="65217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6956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Promoting from Within</a:t>
            </a:r>
            <a:endParaRPr b="0" lang="en-US" sz="3600" spc="-1" strike="noStrike">
              <a:solidFill>
                <a:srgbClr val="990000"/>
              </a:solidFill>
              <a:latin typeface="Century Gothic"/>
            </a:endParaRPr>
          </a:p>
        </p:txBody>
      </p:sp>
      <p:pic>
        <p:nvPicPr>
          <p:cNvPr id="865" name="Picture 3" descr="Picture 41.png"/>
          <p:cNvPicPr/>
          <p:nvPr/>
        </p:nvPicPr>
        <p:blipFill>
          <a:blip r:embed="rId1"/>
          <a:stretch/>
        </p:blipFill>
        <p:spPr>
          <a:xfrm>
            <a:off x="539640" y="1679400"/>
            <a:ext cx="6426360" cy="469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6" name="Picture 3" descr="Picture 43.png"/>
          <p:cNvPicPr/>
          <p:nvPr/>
        </p:nvPicPr>
        <p:blipFill>
          <a:blip r:embed="rId1"/>
          <a:stretch/>
        </p:blipFill>
        <p:spPr>
          <a:xfrm>
            <a:off x="558720" y="457200"/>
            <a:ext cx="8026560" cy="59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2209680" y="3428640"/>
            <a:ext cx="4965840" cy="139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entury Gothic"/>
              </a:rPr>
              <a:t>Implications</a:t>
            </a:r>
            <a:endParaRPr b="0" lang="en-US" sz="4600" spc="-1" strike="noStrike">
              <a:solidFill>
                <a:srgbClr val="990000"/>
              </a:solidFill>
              <a:latin typeface="Century Gothic"/>
            </a:endParaRPr>
          </a:p>
        </p:txBody>
      </p:sp>
      <p:sp>
        <p:nvSpPr>
          <p:cNvPr id="868" name="PlaceHolder 2"/>
          <p:cNvSpPr>
            <a:spLocks noGrp="1"/>
          </p:cNvSpPr>
          <p:nvPr>
            <p:ph/>
          </p:nvPr>
        </p:nvSpPr>
        <p:spPr>
          <a:xfrm>
            <a:off x="2209680" y="4824000"/>
            <a:ext cx="4965840" cy="1320840"/>
          </a:xfrm>
          <a:prstGeom prst="rect">
            <a:avLst/>
          </a:prstGeom>
          <a:noFill/>
          <a:ln w="0">
            <a:noFill/>
          </a:ln>
        </p:spPr>
        <p:txBody>
          <a:bodyPr anchor="t">
            <a:norm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Century Gothic"/>
              </a:rPr>
              <a:t>For Career Planning and Job Search</a:t>
            </a:r>
            <a:endParaRPr b="0" lang="en-US" sz="16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Traditional View of LMI</a:t>
            </a:r>
            <a:endParaRPr b="0" lang="en-US" sz="3600" spc="-1" strike="noStrike">
              <a:solidFill>
                <a:srgbClr val="990000"/>
              </a:solidFill>
              <a:latin typeface="Century Gothic"/>
            </a:endParaRPr>
          </a:p>
        </p:txBody>
      </p:sp>
      <p:sp>
        <p:nvSpPr>
          <p:cNvPr id="870"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dustries/occupations are reasonably linear, stable and predictabl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Pace of change is slow, so we can anticipate and respond to change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We can predict:</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Available work</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Required skills</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Career paths</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cus on FT, permanent job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Traditional LMI Questions</a:t>
            </a:r>
            <a:endParaRPr b="0" lang="en-US" sz="3600" spc="-1" strike="noStrike">
              <a:solidFill>
                <a:srgbClr val="990000"/>
              </a:solidFill>
              <a:latin typeface="Century Gothic"/>
            </a:endParaRPr>
          </a:p>
        </p:txBody>
      </p:sp>
      <p:sp>
        <p:nvSpPr>
          <p:cNvPr id="872"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Demand</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Wage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Working Condition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Preparation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dvancement</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5504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New Normal for LMI</a:t>
            </a:r>
            <a:endParaRPr b="0" lang="en-US" sz="3600" spc="-1" strike="noStrike">
              <a:solidFill>
                <a:srgbClr val="990000"/>
              </a:solidFill>
              <a:latin typeface="Century Gothic"/>
            </a:endParaRPr>
          </a:p>
        </p:txBody>
      </p:sp>
      <p:sp>
        <p:nvSpPr>
          <p:cNvPr id="874" name=""/>
          <p:cNvSpPr txBox="1"/>
          <p:nvPr/>
        </p:nvSpPr>
        <p:spPr>
          <a:xfrm>
            <a:off x="457200" y="1875960"/>
            <a:ext cx="6508800" cy="3916440"/>
          </a:xfrm>
          <a:prstGeom prst="rect">
            <a:avLst/>
          </a:prstGeom>
          <a:noFill/>
          <a:ln w="0">
            <a:noFill/>
          </a:ln>
        </p:spPr>
        <p:txBody>
          <a:bodyPr anchor="t">
            <a:normAutofit fontScale="91000"/>
          </a:bodyPr>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dustries/occupations are more chaotic, less linear and stable.</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Pace of change is rapid—requires ongoing learning and re-tooling.</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More focus on demand “skills,” rather than demand occupations</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reer lattices rather than career ladders/paths</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t>
            </a:r>
            <a:r>
              <a:rPr b="0" lang="en-US" sz="2000" spc="-1" strike="noStrike">
                <a:solidFill>
                  <a:srgbClr val="333333"/>
                </a:solidFill>
                <a:latin typeface="Century Gothic"/>
              </a:rPr>
              <a:t>Advancement” through lateral moves, skill development and new combos of skills</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Micro-enterprise opportunities</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5648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New LMI Questions</a:t>
            </a:r>
            <a:endParaRPr b="0" lang="en-US" sz="3600" spc="-1" strike="noStrike">
              <a:solidFill>
                <a:srgbClr val="990000"/>
              </a:solidFill>
              <a:latin typeface="Century Gothic"/>
            </a:endParaRPr>
          </a:p>
        </p:txBody>
      </p:sp>
      <p:sp>
        <p:nvSpPr>
          <p:cNvPr id="876" name=""/>
          <p:cNvSpPr txBox="1"/>
          <p:nvPr/>
        </p:nvSpPr>
        <p:spPr>
          <a:xfrm>
            <a:off x="457200" y="200304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ow will technology impact this occupation?</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Automate the job?</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Change skill requirements?</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Make it cheaper to outsource to another country? </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What skills are in demand?</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ow can skills be re-combined to add new valu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ow do I keep learning and adapting to stay ahead of change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ow can I create multiple income streams? </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Understand Jobs Differently</a:t>
            </a:r>
            <a:endParaRPr b="0" lang="en-US" sz="3600" spc="-1" strike="noStrike">
              <a:solidFill>
                <a:srgbClr val="990000"/>
              </a:solidFill>
              <a:latin typeface="Century Gothic"/>
            </a:endParaRPr>
          </a:p>
        </p:txBody>
      </p:sp>
      <p:sp>
        <p:nvSpPr>
          <p:cNvPr id="878"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ungible Job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nchored Job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Value-Add Jobs</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Fungible Jobs</a:t>
            </a:r>
            <a:endParaRPr b="0" lang="en-US" sz="3600" spc="-1" strike="noStrike">
              <a:solidFill>
                <a:srgbClr val="990000"/>
              </a:solidFill>
              <a:latin typeface="Century Gothic"/>
            </a:endParaRPr>
          </a:p>
        </p:txBody>
      </p:sp>
      <p:sp>
        <p:nvSpPr>
          <p:cNvPr id="880"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Easily digitized</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Don’t require face-to-face interaction or human interven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Rely on “rules” and minimal independent decision-making</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n be partially or completely automated through smart systems, RFID technology, artificial intelligence etc.</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What is Labor Market Information? </a:t>
            </a:r>
            <a:endParaRPr b="0" lang="en-US" sz="3600" spc="-1" strike="noStrike">
              <a:solidFill>
                <a:srgbClr val="990000"/>
              </a:solidFill>
              <a:latin typeface="Century Gothic"/>
            </a:endParaRPr>
          </a:p>
        </p:txBody>
      </p:sp>
      <p:sp>
        <p:nvSpPr>
          <p:cNvPr id="849"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teraction between individuals competing for jobs and employers competing for workers, usually in a </a:t>
            </a:r>
            <a:r>
              <a:rPr b="1" lang="en-US" sz="2000" spc="-1" strike="noStrike">
                <a:solidFill>
                  <a:srgbClr val="333333"/>
                </a:solidFill>
                <a:latin typeface="Century Gothic"/>
              </a:rPr>
              <a:t>particular geographic region</a:t>
            </a:r>
            <a:r>
              <a:rPr b="0" lang="en-US" sz="2000" spc="-1" strike="noStrike">
                <a:solidFill>
                  <a:srgbClr val="333333"/>
                </a:solidFill>
                <a:latin typeface="Century Gothic"/>
              </a:rPr>
              <a:t>.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Describes how a particular labor market is functioning:</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What jobs are available?</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People with requisite skills/experience to fill those jobs?</a:t>
            </a:r>
            <a:endParaRPr b="0" lang="en-US" sz="18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Fungible jobs will be. . . </a:t>
            </a:r>
            <a:endParaRPr b="0" lang="en-US" sz="3600" spc="-1" strike="noStrike">
              <a:solidFill>
                <a:srgbClr val="990000"/>
              </a:solidFill>
              <a:latin typeface="Century Gothic"/>
            </a:endParaRPr>
          </a:p>
        </p:txBody>
      </p:sp>
      <p:sp>
        <p:nvSpPr>
          <p:cNvPr id="882"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utomated</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lf-servic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utsourced to a country where labor is cheaper</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Anchored Jobs</a:t>
            </a:r>
            <a:endParaRPr b="0" lang="en-US" sz="3600" spc="-1" strike="noStrike">
              <a:solidFill>
                <a:srgbClr val="990000"/>
              </a:solidFill>
              <a:latin typeface="Century Gothic"/>
            </a:endParaRPr>
          </a:p>
        </p:txBody>
      </p:sp>
      <p:sp>
        <p:nvSpPr>
          <p:cNvPr id="884"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Must be performed in particular geographic loca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nchored 1—Low skill/low wage</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Bus driver</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Daycare worker</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nchored 2—Higher skill/higher wage</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Nurse</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ere can </a:t>
            </a:r>
            <a:r>
              <a:rPr b="0" lang="en-US" sz="2000" spc="-1" strike="noStrike" u="sng">
                <a:solidFill>
                  <a:srgbClr val="333333"/>
                </a:solidFill>
                <a:uFillTx/>
                <a:latin typeface="Century Gothic"/>
              </a:rPr>
              <a:t>be fungible parts </a:t>
            </a:r>
            <a:r>
              <a:rPr b="0" lang="en-US" sz="2000" spc="-1" strike="noStrike">
                <a:solidFill>
                  <a:srgbClr val="333333"/>
                </a:solidFill>
                <a:latin typeface="Century Gothic"/>
              </a:rPr>
              <a:t>of </a:t>
            </a:r>
            <a:r>
              <a:rPr b="0" lang="en-US" sz="2000" spc="-1" strike="noStrike" u="sng">
                <a:solidFill>
                  <a:srgbClr val="333333"/>
                </a:solidFill>
                <a:uFillTx/>
                <a:latin typeface="Century Gothic"/>
              </a:rPr>
              <a:t>anchored jobs</a:t>
            </a:r>
            <a:r>
              <a:rPr b="0" lang="en-US" sz="2000" spc="-1" strike="noStrike">
                <a:solidFill>
                  <a:srgbClr val="333333"/>
                </a:solidFill>
                <a:latin typeface="Century Gothic"/>
              </a:rPr>
              <a:t>!</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a:t>
            </a:r>
            <a:r>
              <a:rPr b="0" lang="en-US" sz="3600" spc="-1" strike="noStrike">
                <a:solidFill>
                  <a:srgbClr val="990000"/>
                </a:solidFill>
                <a:latin typeface="Century Gothic"/>
              </a:rPr>
              <a:t>Value-Add” Jobs</a:t>
            </a:r>
            <a:endParaRPr b="0" lang="en-US" sz="3600" spc="-1" strike="noStrike">
              <a:solidFill>
                <a:srgbClr val="990000"/>
              </a:solidFill>
              <a:latin typeface="Century Gothic"/>
            </a:endParaRPr>
          </a:p>
        </p:txBody>
      </p:sp>
      <p:sp>
        <p:nvSpPr>
          <p:cNvPr id="886"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Depth/breadth of skill—Super Generalists and Super Specialist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onstant chang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igh levels of interaction, creativity and non-rules-based decision-making.</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igh technological proficiency</a:t>
            </a:r>
            <a:endParaRPr b="0" lang="en-US" sz="2000" spc="-1" strike="noStrike">
              <a:solidFill>
                <a:srgbClr val="333333"/>
              </a:solidFill>
              <a:latin typeface="Century Gothic"/>
            </a:endParaRPr>
          </a:p>
          <a:p>
            <a:pPr marL="22860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91404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entury Gothic"/>
              </a:rPr>
              <a:t>Career Planning for the New Normal</a:t>
            </a:r>
            <a:endParaRPr b="0" lang="en-US" sz="2800" spc="-1" strike="noStrike">
              <a:solidFill>
                <a:srgbClr val="990000"/>
              </a:solidFill>
              <a:latin typeface="Century Gothic"/>
            </a:endParaRPr>
          </a:p>
        </p:txBody>
      </p:sp>
      <p:sp>
        <p:nvSpPr>
          <p:cNvPr id="888" name=""/>
          <p:cNvSpPr txBox="1"/>
          <p:nvPr/>
        </p:nvSpPr>
        <p:spPr>
          <a:xfrm>
            <a:off x="457200" y="2214360"/>
            <a:ext cx="3565440" cy="391140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Evaluate occupations and industries for “fungibility.”</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Monitor impact of technology and other workplace trends.</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Prepare for Anchored Tier 2 and Value-Add Jobs</a:t>
            </a:r>
            <a:endParaRPr b="0" lang="en-US" sz="1800" spc="-1" strike="noStrike">
              <a:solidFill>
                <a:srgbClr val="333333"/>
              </a:solidFill>
              <a:latin typeface="Century Gothic"/>
            </a:endParaRPr>
          </a:p>
        </p:txBody>
      </p:sp>
      <p:sp>
        <p:nvSpPr>
          <p:cNvPr id="889" name=""/>
          <p:cNvSpPr txBox="1"/>
          <p:nvPr/>
        </p:nvSpPr>
        <p:spPr>
          <a:xfrm>
            <a:off x="4282560" y="2214360"/>
            <a:ext cx="3565800" cy="391140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Focus on developing “value-add” skills and experiences.</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Think “multiple income streams” </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Think ongoing career planning and life-long employability.</a:t>
            </a:r>
            <a:endParaRPr b="0" lang="en-US" sz="18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5682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Implications for the people you work with? </a:t>
            </a:r>
            <a:endParaRPr b="0" lang="en-US" sz="36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2209680" y="3428640"/>
            <a:ext cx="4965840" cy="139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entury Gothic"/>
              </a:rPr>
              <a:t>NJ LMI</a:t>
            </a:r>
            <a:endParaRPr b="0" lang="en-US" sz="4600" spc="-1" strike="noStrike">
              <a:solidFill>
                <a:srgbClr val="990000"/>
              </a:solidFill>
              <a:latin typeface="Century Gothic"/>
            </a:endParaRPr>
          </a:p>
        </p:txBody>
      </p:sp>
      <p:sp>
        <p:nvSpPr>
          <p:cNvPr id="892" name="PlaceHolder 2"/>
          <p:cNvSpPr>
            <a:spLocks noGrp="1"/>
          </p:cNvSpPr>
          <p:nvPr>
            <p:ph/>
          </p:nvPr>
        </p:nvSpPr>
        <p:spPr>
          <a:xfrm>
            <a:off x="2209680" y="4824000"/>
            <a:ext cx="4965840" cy="1320840"/>
          </a:xfrm>
          <a:prstGeom prst="rect">
            <a:avLst/>
          </a:prstGeom>
          <a:noFill/>
          <a:ln w="0">
            <a:noFill/>
          </a:ln>
        </p:spPr>
        <p:txBody>
          <a:bodyPr anchor="t">
            <a:norm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Century Gothic"/>
              </a:rPr>
              <a:t>Latest Data from June 2012</a:t>
            </a:r>
            <a:endParaRPr b="0" lang="en-US" sz="16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3" name="Chart 2" descr=""/>
          <p:cNvPicPr/>
          <p:nvPr/>
        </p:nvPicPr>
        <p:blipFill>
          <a:blip r:embed="rId1"/>
          <a:stretch/>
        </p:blipFill>
        <p:spPr>
          <a:xfrm>
            <a:off x="365040" y="596880"/>
            <a:ext cx="8413920" cy="5664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4" name="Chart 2" descr=""/>
          <p:cNvPicPr/>
          <p:nvPr/>
        </p:nvPicPr>
        <p:blipFill>
          <a:blip r:embed="rId1"/>
          <a:stretch/>
        </p:blipFill>
        <p:spPr>
          <a:xfrm>
            <a:off x="237960" y="285840"/>
            <a:ext cx="8668080" cy="6286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Chart 2" descr=""/>
          <p:cNvPicPr/>
          <p:nvPr/>
        </p:nvPicPr>
        <p:blipFill>
          <a:blip r:embed="rId1"/>
          <a:stretch/>
        </p:blipFill>
        <p:spPr>
          <a:xfrm>
            <a:off x="0" y="0"/>
            <a:ext cx="8778960" cy="6261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6" name="Picture 2" descr=""/>
          <p:cNvPicPr/>
          <p:nvPr/>
        </p:nvPicPr>
        <p:blipFill>
          <a:blip r:embed="rId1"/>
          <a:stretch/>
        </p:blipFill>
        <p:spPr>
          <a:xfrm>
            <a:off x="2214720" y="380880"/>
            <a:ext cx="4663800" cy="609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Why Should We Care About LMI? </a:t>
            </a:r>
            <a:endParaRPr b="0" lang="en-US" sz="3600" spc="-1" strike="noStrike">
              <a:solidFill>
                <a:srgbClr val="990000"/>
              </a:solidFill>
              <a:latin typeface="Century Gothic"/>
            </a:endParaRPr>
          </a:p>
        </p:txBody>
      </p:sp>
      <p:sp>
        <p:nvSpPr>
          <p:cNvPr id="851"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elps staff and job seekers make better decisions about career prepara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elps job seekers and job developers identify industries/occupations to target in the job search.</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Job developers need to become “industry experts” in order to work effectively with employers. </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Picture 2" descr=""/>
          <p:cNvPicPr/>
          <p:nvPr/>
        </p:nvPicPr>
        <p:blipFill>
          <a:blip r:embed="rId1"/>
          <a:stretch/>
        </p:blipFill>
        <p:spPr>
          <a:xfrm>
            <a:off x="2228760" y="304920"/>
            <a:ext cx="4667400" cy="6248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8" name="Picture 3" descr="NJ Small Business.png"/>
          <p:cNvPicPr/>
          <p:nvPr/>
        </p:nvPicPr>
        <p:blipFill>
          <a:blip r:embed="rId1"/>
          <a:stretch/>
        </p:blipFill>
        <p:spPr>
          <a:xfrm>
            <a:off x="0" y="331920"/>
            <a:ext cx="9144000" cy="619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rPr>
              <a:t>Key Industry Clusters account for two thirds of all employment &amp; wages statewide</a:t>
            </a:r>
            <a:endParaRPr b="0" lang="en-US" sz="2400" spc="-1" strike="noStrike">
              <a:solidFill>
                <a:srgbClr val="990000"/>
              </a:solidFill>
              <a:latin typeface="Century Gothic"/>
            </a:endParaRPr>
          </a:p>
        </p:txBody>
      </p:sp>
      <p:pic>
        <p:nvPicPr>
          <p:cNvPr id="900" name="Picture 2" descr=""/>
          <p:cNvPicPr/>
          <p:nvPr/>
        </p:nvPicPr>
        <p:blipFill>
          <a:blip r:embed="rId1"/>
          <a:stretch/>
        </p:blipFill>
        <p:spPr>
          <a:xfrm>
            <a:off x="304920" y="1638360"/>
            <a:ext cx="8686800" cy="4381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txBox="1"/>
          <p:nvPr/>
        </p:nvSpPr>
        <p:spPr>
          <a:xfrm>
            <a:off x="457200" y="2553840"/>
            <a:ext cx="8305920" cy="392292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Established to focus on the specific needs of key industries in the state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Purpose:</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Connect all stakeholders (job seekers, employers, service providers, educational institutions). </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Focus skill development and job search resources</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Help employers find workers with requisite skills/experience</a:t>
            </a:r>
            <a:endParaRPr b="0" lang="en-US" sz="1800" spc="-1" strike="noStrike">
              <a:solidFill>
                <a:srgbClr val="333333"/>
              </a:solidFill>
              <a:latin typeface="Century Gothic"/>
            </a:endParaRPr>
          </a:p>
        </p:txBody>
      </p:sp>
      <p:pic>
        <p:nvPicPr>
          <p:cNvPr id="902" name="Picture 2" descr="New Jersey's Talent Networks">
            <a:hlinkClick r:id="rId1"/>
          </p:cNvPr>
          <p:cNvPicPr/>
          <p:nvPr/>
        </p:nvPicPr>
        <p:blipFill>
          <a:blip r:embed="rId2"/>
          <a:stretch/>
        </p:blipFill>
        <p:spPr>
          <a:xfrm>
            <a:off x="1208160" y="863640"/>
            <a:ext cx="6095880" cy="1353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69228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Key Industry Sectors</a:t>
            </a:r>
            <a:endParaRPr b="0" lang="en-US" sz="3600" spc="-1" strike="noStrike">
              <a:solidFill>
                <a:srgbClr val="990000"/>
              </a:solidFill>
              <a:latin typeface="Century Gothic"/>
            </a:endParaRPr>
          </a:p>
        </p:txBody>
      </p:sp>
      <p:sp>
        <p:nvSpPr>
          <p:cNvPr id="904" name="PlaceHolder 2"/>
          <p:cNvSpPr>
            <a:spLocks noGrp="1"/>
          </p:cNvSpPr>
          <p:nvPr>
            <p:ph/>
          </p:nvPr>
        </p:nvSpPr>
        <p:spPr>
          <a:xfrm>
            <a:off x="457200" y="1862280"/>
            <a:ext cx="8229600" cy="4572000"/>
          </a:xfrm>
          <a:prstGeom prst="rect">
            <a:avLst/>
          </a:prstGeom>
          <a:noFill/>
          <a:ln w="0">
            <a:noFill/>
          </a:ln>
        </p:spPr>
        <p:txBody>
          <a:bodyPr anchor="t">
            <a:normAutofit/>
          </a:bodyPr>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Life Sciences (Biotechnology/Pharmaceutical) </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Transportation/Logistics/Distribution </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Finance Services</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Advanced Manufacturing </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Health Care</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Entertainment, Arts, Retail, Leisure and Hospitality </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Technology/Entrepreneurship</a:t>
            </a:r>
            <a:endParaRPr b="0" lang="en-US" sz="24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entury Gothic"/>
              </a:rPr>
              <a:t>2010 Employment and Projected Growth By Industry Sector</a:t>
            </a:r>
            <a:endParaRPr b="0" lang="en-US" sz="2800" spc="-1" strike="noStrike">
              <a:solidFill>
                <a:srgbClr val="990000"/>
              </a:solidFill>
              <a:latin typeface="Century Gothic"/>
            </a:endParaRPr>
          </a:p>
        </p:txBody>
      </p:sp>
      <p:pic>
        <p:nvPicPr>
          <p:cNvPr id="906" name="Content Placeholder 5" descr=""/>
          <p:cNvPicPr/>
          <p:nvPr/>
        </p:nvPicPr>
        <p:blipFill>
          <a:blip r:embed="rId1"/>
          <a:stretch/>
        </p:blipFill>
        <p:spPr>
          <a:xfrm>
            <a:off x="0" y="2057400"/>
            <a:ext cx="883908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7" name="Content Placeholder 3" descr=""/>
          <p:cNvPicPr/>
          <p:nvPr/>
        </p:nvPicPr>
        <p:blipFill>
          <a:blip r:embed="rId1"/>
          <a:stretch/>
        </p:blipFill>
        <p:spPr>
          <a:xfrm>
            <a:off x="380880" y="1447920"/>
            <a:ext cx="8534520" cy="5105160"/>
          </a:xfrm>
          <a:prstGeom prst="rect">
            <a:avLst/>
          </a:prstGeom>
          <a:ln w="0">
            <a:noFill/>
          </a:ln>
        </p:spPr>
      </p:pic>
      <p:sp>
        <p:nvSpPr>
          <p:cNvPr id="908" name="PlaceHolder 1"/>
          <p:cNvSpPr>
            <a:spLocks noGrp="1"/>
          </p:cNvSpPr>
          <p:nvPr>
            <p:ph type="title"/>
          </p:nvPr>
        </p:nvSpPr>
        <p:spPr>
          <a:xfrm>
            <a:off x="457200" y="30456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entury Gothic"/>
              </a:rPr>
              <a:t>Industry Sectors with the Largest Projected Employment Growth</a:t>
            </a:r>
            <a:endParaRPr b="0" lang="en-US" sz="28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Content Placeholder 3" descr=""/>
          <p:cNvPicPr/>
          <p:nvPr/>
        </p:nvPicPr>
        <p:blipFill>
          <a:blip r:embed="rId1"/>
          <a:stretch/>
        </p:blipFill>
        <p:spPr>
          <a:xfrm>
            <a:off x="0" y="1219320"/>
            <a:ext cx="8915400" cy="5257800"/>
          </a:xfrm>
          <a:prstGeom prst="rect">
            <a:avLst/>
          </a:prstGeom>
          <a:ln w="0">
            <a:noFill/>
          </a:ln>
        </p:spPr>
      </p:pic>
      <p:sp>
        <p:nvSpPr>
          <p:cNvPr id="910" name="Title 2"/>
          <p:cNvSpPr/>
          <p:nvPr/>
        </p:nvSpPr>
        <p:spPr>
          <a:xfrm>
            <a:off x="457200" y="304920"/>
            <a:ext cx="6508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entury Gothic"/>
              </a:rPr>
              <a:t>Occupations with the Largest Projected Employment Grow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5682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Implications for the people you work with? </a:t>
            </a:r>
            <a:endParaRPr b="0" lang="en-US" sz="36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2209680" y="3428640"/>
            <a:ext cx="4965840" cy="139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entury Gothic"/>
              </a:rPr>
              <a:t>LMI Resources and Tools</a:t>
            </a:r>
            <a:endParaRPr b="0" lang="en-US" sz="46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Types of LMI</a:t>
            </a:r>
            <a:endParaRPr b="0" lang="en-US" sz="3600" spc="-1" strike="noStrike">
              <a:solidFill>
                <a:srgbClr val="990000"/>
              </a:solidFill>
              <a:latin typeface="Century Gothic"/>
            </a:endParaRPr>
          </a:p>
        </p:txBody>
      </p:sp>
      <p:sp>
        <p:nvSpPr>
          <p:cNvPr id="853"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General LMI</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Labor force information</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Unemployment rate</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dustry Informa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ccupational Information</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Sources of LMI</a:t>
            </a:r>
            <a:endParaRPr b="0" lang="en-US" sz="3600" spc="-1" strike="noStrike">
              <a:solidFill>
                <a:srgbClr val="990000"/>
              </a:solidFill>
              <a:latin typeface="Century Gothic"/>
            </a:endParaRPr>
          </a:p>
        </p:txBody>
      </p:sp>
      <p:sp>
        <p:nvSpPr>
          <p:cNvPr id="914"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Bureau of Labor Statistics (BLS)---www.bls.gov</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reer One Stop—www.careeronestop.org</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NJ Department of Labor and Workforce Development--http://lwd.dol.state.nj.us/</a:t>
            </a:r>
            <a:endParaRPr b="0" lang="en-US" sz="2000" spc="-1" strike="noStrike">
              <a:solidFill>
                <a:srgbClr val="333333"/>
              </a:solidFill>
              <a:latin typeface="Century Gothic"/>
            </a:endParaRPr>
          </a:p>
          <a:p>
            <a:pPr lvl="1" marL="4572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BLS </a:t>
            </a:r>
            <a:endParaRPr b="0" lang="en-US" sz="3600" spc="-1" strike="noStrike">
              <a:solidFill>
                <a:srgbClr val="990000"/>
              </a:solidFill>
              <a:latin typeface="Century Gothic"/>
            </a:endParaRPr>
          </a:p>
        </p:txBody>
      </p:sp>
      <p:sp>
        <p:nvSpPr>
          <p:cNvPr id="916"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National informa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ccupational Outlook Handbook --http://bls.gov/ooh/</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ccupational Outlook Quarterly--http://bls.gov/opub/ooq/</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reer Guide to Industries--http://bls.gov/ooh/about/career-guide-to-industries.htm</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areer One Stop</a:t>
            </a:r>
            <a:endParaRPr b="0" lang="en-US" sz="3600" spc="-1" strike="noStrike">
              <a:solidFill>
                <a:srgbClr val="990000"/>
              </a:solidFill>
              <a:latin typeface="Century Gothic"/>
            </a:endParaRPr>
          </a:p>
        </p:txBody>
      </p:sp>
      <p:sp>
        <p:nvSpPr>
          <p:cNvPr id="918"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National site for One Stop Career Center system</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n explore careers, wage and salary info, connect to education and training, etc.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Job search resource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onnect to local One Stop Career Centers</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NJ LWD</a:t>
            </a:r>
            <a:endParaRPr b="0" lang="en-US" sz="3600" spc="-1" strike="noStrike">
              <a:solidFill>
                <a:srgbClr val="990000"/>
              </a:solidFill>
              <a:latin typeface="Century Gothic"/>
            </a:endParaRPr>
          </a:p>
        </p:txBody>
      </p:sp>
      <p:sp>
        <p:nvSpPr>
          <p:cNvPr id="920"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Real Time Jobs in Demand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dustry/Regional Focus Report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Labor Market Field Analyst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ccupation Explorer</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Careeronestop.org</a:t>
            </a:r>
            <a:endParaRPr b="0" lang="en-US" sz="3600" spc="-1" strike="noStrike">
              <a:solidFill>
                <a:srgbClr val="990000"/>
              </a:solidFill>
              <a:latin typeface="Century Gothic"/>
            </a:endParaRPr>
          </a:p>
        </p:txBody>
      </p:sp>
      <p:pic>
        <p:nvPicPr>
          <p:cNvPr id="922" name="Picture 3" descr="CareerOneStop.png"/>
          <p:cNvPicPr/>
          <p:nvPr/>
        </p:nvPicPr>
        <p:blipFill>
          <a:blip r:embed="rId1"/>
          <a:stretch/>
        </p:blipFill>
        <p:spPr>
          <a:xfrm>
            <a:off x="457200" y="1820880"/>
            <a:ext cx="8367840" cy="4352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Employability Check-Up</a:t>
            </a:r>
            <a:endParaRPr b="0" lang="en-US" sz="3600" spc="-1" strike="noStrike">
              <a:solidFill>
                <a:srgbClr val="990000"/>
              </a:solidFill>
              <a:latin typeface="Century Gothic"/>
            </a:endParaRPr>
          </a:p>
        </p:txBody>
      </p:sp>
      <p:pic>
        <p:nvPicPr>
          <p:cNvPr id="924" name="Picture 3" descr="Picture 34.png"/>
          <p:cNvPicPr/>
          <p:nvPr/>
        </p:nvPicPr>
        <p:blipFill>
          <a:blip r:embed="rId1"/>
          <a:stretch/>
        </p:blipFill>
        <p:spPr>
          <a:xfrm>
            <a:off x="0" y="1841400"/>
            <a:ext cx="9144000" cy="3881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Myskillsmyfuture.org</a:t>
            </a:r>
            <a:endParaRPr b="0" lang="en-US" sz="3600" spc="-1" strike="noStrike">
              <a:solidFill>
                <a:srgbClr val="990000"/>
              </a:solidFill>
              <a:latin typeface="Century Gothic"/>
            </a:endParaRPr>
          </a:p>
        </p:txBody>
      </p:sp>
      <p:pic>
        <p:nvPicPr>
          <p:cNvPr id="926" name="Picture 4" descr="Picture 32.png"/>
          <p:cNvPicPr/>
          <p:nvPr/>
        </p:nvPicPr>
        <p:blipFill>
          <a:blip r:embed="rId1"/>
          <a:stretch/>
        </p:blipFill>
        <p:spPr>
          <a:xfrm>
            <a:off x="776160" y="1762200"/>
            <a:ext cx="7294680" cy="4465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Mynextmove.org</a:t>
            </a:r>
            <a:endParaRPr b="0" lang="en-US" sz="3600" spc="-1" strike="noStrike">
              <a:solidFill>
                <a:srgbClr val="990000"/>
              </a:solidFill>
              <a:latin typeface="Century Gothic"/>
            </a:endParaRPr>
          </a:p>
        </p:txBody>
      </p:sp>
      <p:pic>
        <p:nvPicPr>
          <p:cNvPr id="928" name="Picture 3" descr="Picture 33.png"/>
          <p:cNvPicPr/>
          <p:nvPr/>
        </p:nvPicPr>
        <p:blipFill>
          <a:blip r:embed="rId1"/>
          <a:stretch/>
        </p:blipFill>
        <p:spPr>
          <a:xfrm>
            <a:off x="457200" y="1749600"/>
            <a:ext cx="7327800" cy="4619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Skills Profiler</a:t>
            </a:r>
            <a:endParaRPr b="0" lang="en-US" sz="3600" spc="-1" strike="noStrike">
              <a:solidFill>
                <a:srgbClr val="990000"/>
              </a:solidFill>
              <a:latin typeface="Century Gothic"/>
            </a:endParaRPr>
          </a:p>
        </p:txBody>
      </p:sp>
      <p:pic>
        <p:nvPicPr>
          <p:cNvPr id="930" name="Picture 3" descr="Picture 36.png"/>
          <p:cNvPicPr/>
          <p:nvPr/>
        </p:nvPicPr>
        <p:blipFill>
          <a:blip r:embed="rId1"/>
          <a:stretch/>
        </p:blipFill>
        <p:spPr>
          <a:xfrm>
            <a:off x="733320" y="1652760"/>
            <a:ext cx="7564680" cy="4492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NJ Next Stop</a:t>
            </a:r>
            <a:endParaRPr b="0" lang="en-US" sz="3600" spc="-1" strike="noStrike">
              <a:solidFill>
                <a:srgbClr val="990000"/>
              </a:solidFill>
              <a:latin typeface="Century Gothic"/>
            </a:endParaRPr>
          </a:p>
        </p:txBody>
      </p:sp>
      <p:pic>
        <p:nvPicPr>
          <p:cNvPr id="932" name="Picture 4" descr="Picture 44.png"/>
          <p:cNvPicPr/>
          <p:nvPr/>
        </p:nvPicPr>
        <p:blipFill>
          <a:blip r:embed="rId1"/>
          <a:stretch/>
        </p:blipFill>
        <p:spPr>
          <a:xfrm>
            <a:off x="649440" y="1486080"/>
            <a:ext cx="7337160" cy="485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Potential LMI Issues</a:t>
            </a:r>
            <a:endParaRPr b="0" lang="en-US" sz="3600" spc="-1" strike="noStrike">
              <a:solidFill>
                <a:srgbClr val="990000"/>
              </a:solidFill>
              <a:latin typeface="Century Gothic"/>
            </a:endParaRPr>
          </a:p>
        </p:txBody>
      </p:sp>
      <p:sp>
        <p:nvSpPr>
          <p:cNvPr id="855"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ccuracy</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imelines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Usability</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NJCAN</a:t>
            </a:r>
            <a:endParaRPr b="0" lang="en-US" sz="3600" spc="-1" strike="noStrike">
              <a:solidFill>
                <a:srgbClr val="990000"/>
              </a:solidFill>
              <a:latin typeface="Century Gothic"/>
            </a:endParaRPr>
          </a:p>
        </p:txBody>
      </p:sp>
      <p:pic>
        <p:nvPicPr>
          <p:cNvPr id="934" name="Picture 3" descr="Picture 48.png"/>
          <p:cNvPicPr/>
          <p:nvPr/>
        </p:nvPicPr>
        <p:blipFill>
          <a:blip r:embed="rId1"/>
          <a:stretch/>
        </p:blipFill>
        <p:spPr>
          <a:xfrm>
            <a:off x="457200" y="1486080"/>
            <a:ext cx="7975440" cy="5022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5682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How can you use with the people you work with? </a:t>
            </a:r>
            <a:endParaRPr b="0" lang="en-US" sz="36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2209680" y="3428640"/>
            <a:ext cx="4965840" cy="139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entury Gothic"/>
              </a:rPr>
              <a:t>General Trends</a:t>
            </a:r>
            <a:endParaRPr b="0" lang="en-US" sz="4600" spc="-1" strike="noStrike">
              <a:solidFill>
                <a:srgbClr val="990000"/>
              </a:solidFill>
              <a:latin typeface="Century Gothic"/>
            </a:endParaRPr>
          </a:p>
        </p:txBody>
      </p:sp>
      <p:sp>
        <p:nvSpPr>
          <p:cNvPr id="857" name="PlaceHolder 2"/>
          <p:cNvSpPr>
            <a:spLocks noGrp="1"/>
          </p:cNvSpPr>
          <p:nvPr>
            <p:ph/>
          </p:nvPr>
        </p:nvSpPr>
        <p:spPr>
          <a:xfrm>
            <a:off x="2209680" y="4824000"/>
            <a:ext cx="4965840" cy="1320840"/>
          </a:xfrm>
          <a:prstGeom prst="rect">
            <a:avLst/>
          </a:prstGeom>
          <a:noFill/>
          <a:ln w="0">
            <a:noFill/>
          </a:ln>
        </p:spPr>
        <p:txBody>
          <a:bodyPr anchor="t">
            <a:norm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Century Gothic"/>
              </a:rPr>
              <a:t>Workplace/Economic Trends and Implications for Career Planning and Job Search</a:t>
            </a:r>
            <a:endParaRPr b="0" lang="en-US" sz="16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Technology Changes</a:t>
            </a:r>
            <a:endParaRPr b="0" lang="en-US" sz="3600" spc="-1" strike="noStrike">
              <a:solidFill>
                <a:srgbClr val="990000"/>
              </a:solidFill>
              <a:latin typeface="Century Gothic"/>
            </a:endParaRPr>
          </a:p>
        </p:txBody>
      </p:sp>
      <p:sp>
        <p:nvSpPr>
          <p:cNvPr id="859"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mart Systems and digitized work</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utomation/Self Servic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t>
            </a:r>
            <a:r>
              <a:rPr b="0" lang="en-US" sz="2000" spc="-1" strike="noStrike">
                <a:solidFill>
                  <a:srgbClr val="333333"/>
                </a:solidFill>
                <a:latin typeface="Century Gothic"/>
              </a:rPr>
              <a:t>Just-in-Time” scheduling softwar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rtificial intelligenc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Virtual Reality</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e “Internet of Things” </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Global Labor Market</a:t>
            </a:r>
            <a:endParaRPr b="0" lang="en-US" sz="3600" spc="-1" strike="noStrike">
              <a:solidFill>
                <a:srgbClr val="990000"/>
              </a:solidFill>
              <a:latin typeface="Century Gothic"/>
            </a:endParaRPr>
          </a:p>
        </p:txBody>
      </p:sp>
      <p:sp>
        <p:nvSpPr>
          <p:cNvPr id="861"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ompanies moving jobs to where labor is cheapest.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verage Chinese factory workers works 12 hours/day and makes $1.36/hour.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Between 2000 and 2005, 150 million </a:t>
            </a:r>
            <a:r>
              <a:rPr b="0" lang="en-US" sz="2000" spc="-1" strike="noStrike" u="sng">
                <a:solidFill>
                  <a:srgbClr val="333333"/>
                </a:solidFill>
                <a:uFillTx/>
                <a:latin typeface="Century Gothic"/>
              </a:rPr>
              <a:t>educated </a:t>
            </a:r>
            <a:r>
              <a:rPr b="0" lang="en-US" sz="2000" spc="-1" strike="noStrike">
                <a:solidFill>
                  <a:srgbClr val="333333"/>
                </a:solidFill>
                <a:latin typeface="Century Gothic"/>
              </a:rPr>
              <a:t>workers joined global workforce—same as entire US workforce.</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2" name="Picture 4" descr="Picture 39.png"/>
          <p:cNvPicPr/>
          <p:nvPr/>
        </p:nvPicPr>
        <p:blipFill>
          <a:blip r:embed="rId1"/>
          <a:stretch/>
        </p:blipFill>
        <p:spPr>
          <a:xfrm>
            <a:off x="1028880" y="596880"/>
            <a:ext cx="7086600" cy="566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7T12:07:14Z</dcterms:created>
  <dc:creator>Michele Martin</dc:creator>
  <dc:description/>
  <dc:language>en-US</dc:language>
  <cp:lastModifiedBy>Michele Martin</cp:lastModifiedBy>
  <dcterms:modified xsi:type="dcterms:W3CDTF">2012-09-19T12:40:49Z</dcterms:modified>
  <cp:revision>10</cp:revision>
  <dc:subject/>
  <dc:title>Asset-Based Assessment and Planning</dc:title>
</cp:coreProperties>
</file>